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D15B07-A74F-481F-AB8F-2F8CA180F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 TO DO:  Next time do algorithm on its own slide– see Amy’s topo ordering slide from textbook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1964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now present an overview of the airline schedule planning process.  It begins with schedule design, in which…  Next is fleet assignment, in which…. 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ircraft routing, in which…. And the last is crew scheduling, in which….  We will now move to 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ou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k at the fleet assignment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00603F-6040-4493-BBDB-E75892824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B3A4FE-AC4A-4D64-B9A6-0F7FBDF0E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938-080C-4171-A7CD-A1C5C5B8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E66-9A0C-4D5B-B69E-C1F3C5CA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1D2-BA67-40CE-9445-04F1A1BD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38C-8BEF-4970-B02F-DAB1ECB6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EA0-2D78-4382-A7D4-C9430D42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958-967B-4D28-8AF0-86512B1B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AC3-92BD-403A-9B90-0B60CC69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F0D-81A6-43EB-9D97-CD0981F3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3BB-D248-4777-B5A4-591C82D7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D43-0A8D-4042-850E-3F3598F8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7B7-46A0-408D-915A-EC0E6F90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3E8-DF53-4D38-A36E-F29890C9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6C81-1385-41AA-9859-E2BC4ABC28C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9A0A-B34A-4FF8-8581-B3FA81CA46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2514600"/>
            <a:ext cx="8077320" cy="339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6462720" y="4627440"/>
            <a:ext cx="318960" cy="758880"/>
            <a:chOff x="6462720" y="4627440"/>
            <a:chExt cx="318960" cy="758880"/>
          </a:xfrm>
        </p:grpSpPr>
        <p:sp>
          <p:nvSpPr>
            <p:cNvPr id="527" name=""/>
            <p:cNvSpPr/>
            <p:nvPr/>
          </p:nvSpPr>
          <p:spPr>
            <a:xfrm>
              <a:off x="6462720" y="4627440"/>
              <a:ext cx="244440" cy="61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6160" y="5203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0" y="42"/>
                  </a:moveTo>
                  <a:lnTo>
                    <a:pt x="89" y="115"/>
                  </a:lnTo>
                  <a:lnTo>
                    <a:pt x="9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601640" y="3133800"/>
            <a:ext cx="2132280" cy="6660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01640" y="5751360"/>
            <a:ext cx="699300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1152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7400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3332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93920" y="5837400"/>
            <a:ext cx="65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1060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164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3196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8908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601640" y="3168720"/>
            <a:ext cx="319320" cy="758880"/>
            <a:chOff x="1601640" y="3168720"/>
            <a:chExt cx="319320" cy="758880"/>
          </a:xfrm>
        </p:grpSpPr>
        <p:sp>
          <p:nvSpPr>
            <p:cNvPr id="540" name=""/>
            <p:cNvSpPr/>
            <p:nvPr/>
          </p:nvSpPr>
          <p:spPr>
            <a:xfrm>
              <a:off x="1601640" y="31687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6364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817720" y="4687920"/>
            <a:ext cx="319320" cy="758880"/>
            <a:chOff x="2817720" y="4687920"/>
            <a:chExt cx="319320" cy="758880"/>
          </a:xfrm>
        </p:grpSpPr>
        <p:sp>
          <p:nvSpPr>
            <p:cNvPr id="543" name=""/>
            <p:cNvSpPr/>
            <p:nvPr/>
          </p:nvSpPr>
          <p:spPr>
            <a:xfrm>
              <a:off x="2817720" y="46879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79720" y="526428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2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209680" y="3927600"/>
            <a:ext cx="319320" cy="760320"/>
            <a:chOff x="2209680" y="3927600"/>
            <a:chExt cx="319320" cy="760320"/>
          </a:xfrm>
        </p:grpSpPr>
        <p:sp>
          <p:nvSpPr>
            <p:cNvPr id="546" name=""/>
            <p:cNvSpPr/>
            <p:nvPr/>
          </p:nvSpPr>
          <p:spPr>
            <a:xfrm>
              <a:off x="220968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7168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856120" y="3927600"/>
            <a:ext cx="319320" cy="760320"/>
            <a:chOff x="5856120" y="3927600"/>
            <a:chExt cx="319320" cy="760320"/>
          </a:xfrm>
        </p:grpSpPr>
        <p:sp>
          <p:nvSpPr>
            <p:cNvPr id="549" name=""/>
            <p:cNvSpPr/>
            <p:nvPr/>
          </p:nvSpPr>
          <p:spPr>
            <a:xfrm>
              <a:off x="585612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812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248440" y="3168720"/>
            <a:ext cx="318960" cy="758880"/>
            <a:chOff x="5248440" y="3168720"/>
            <a:chExt cx="318960" cy="758880"/>
          </a:xfrm>
        </p:grpSpPr>
        <p:sp>
          <p:nvSpPr>
            <p:cNvPr id="552" name=""/>
            <p:cNvSpPr/>
            <p:nvPr/>
          </p:nvSpPr>
          <p:spPr>
            <a:xfrm>
              <a:off x="5248440" y="3168720"/>
              <a:ext cx="24264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1008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424320" y="3168720"/>
            <a:ext cx="369720" cy="2277720"/>
            <a:chOff x="3424320" y="3168720"/>
            <a:chExt cx="369720" cy="2277720"/>
          </a:xfrm>
        </p:grpSpPr>
        <p:sp>
          <p:nvSpPr>
            <p:cNvPr id="555" name=""/>
            <p:cNvSpPr/>
            <p:nvPr/>
          </p:nvSpPr>
          <p:spPr>
            <a:xfrm flipV="1">
              <a:off x="3424320" y="3320640"/>
              <a:ext cx="284040" cy="21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27360" y="316872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6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7070760" y="3159000"/>
            <a:ext cx="369720" cy="2277720"/>
            <a:chOff x="7070760" y="3159000"/>
            <a:chExt cx="369720" cy="2277720"/>
          </a:xfrm>
        </p:grpSpPr>
        <p:sp>
          <p:nvSpPr>
            <p:cNvPr id="558" name=""/>
            <p:cNvSpPr/>
            <p:nvPr/>
          </p:nvSpPr>
          <p:spPr>
            <a:xfrm flipV="1">
              <a:off x="7070760" y="3309480"/>
              <a:ext cx="284040" cy="2127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73800" y="315900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5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538200" y="286560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7280" y="295128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8200" y="3624120"/>
            <a:ext cx="91764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0880" y="371016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8200" y="4383000"/>
            <a:ext cx="917640" cy="461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0880" y="445932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8200" y="514368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800" y="52196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508120" y="4683240"/>
            <a:ext cx="309600" cy="187200"/>
            <a:chOff x="2508120" y="4683240"/>
            <a:chExt cx="309600" cy="187200"/>
          </a:xfrm>
        </p:grpSpPr>
        <p:sp>
          <p:nvSpPr>
            <p:cNvPr id="569" name=""/>
            <p:cNvSpPr/>
            <p:nvPr/>
          </p:nvSpPr>
          <p:spPr>
            <a:xfrm>
              <a:off x="250812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6860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20" y="29"/>
                  </a:lnTo>
                  <a:lnTo>
                    <a:pt x="23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20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4960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55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762600" y="5432400"/>
            <a:ext cx="308160" cy="187200"/>
            <a:chOff x="6762600" y="5432400"/>
            <a:chExt cx="308160" cy="187200"/>
          </a:xfrm>
        </p:grpSpPr>
        <p:sp>
          <p:nvSpPr>
            <p:cNvPr id="574" name=""/>
            <p:cNvSpPr/>
            <p:nvPr/>
          </p:nvSpPr>
          <p:spPr>
            <a:xfrm>
              <a:off x="6762600" y="543240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28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23080" y="551808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04080" y="555768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08760" y="543708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154560" y="4683240"/>
            <a:ext cx="308160" cy="187200"/>
            <a:chOff x="6154560" y="4683240"/>
            <a:chExt cx="308160" cy="187200"/>
          </a:xfrm>
        </p:grpSpPr>
        <p:sp>
          <p:nvSpPr>
            <p:cNvPr id="579" name=""/>
            <p:cNvSpPr/>
            <p:nvPr/>
          </p:nvSpPr>
          <p:spPr>
            <a:xfrm>
              <a:off x="615456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1504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604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00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546880" y="3922560"/>
            <a:ext cx="309240" cy="187560"/>
            <a:chOff x="5546880" y="3922560"/>
            <a:chExt cx="309240" cy="187560"/>
          </a:xfrm>
        </p:grpSpPr>
        <p:sp>
          <p:nvSpPr>
            <p:cNvPr id="584" name=""/>
            <p:cNvSpPr/>
            <p:nvPr/>
          </p:nvSpPr>
          <p:spPr>
            <a:xfrm>
              <a:off x="5546880" y="3922560"/>
              <a:ext cx="4572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07000" y="4008600"/>
              <a:ext cx="5544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88000" y="4049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9448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116160" y="5442120"/>
            <a:ext cx="308160" cy="187200"/>
            <a:chOff x="3116160" y="5442120"/>
            <a:chExt cx="308160" cy="187200"/>
          </a:xfrm>
        </p:grpSpPr>
        <p:sp>
          <p:nvSpPr>
            <p:cNvPr id="589" name=""/>
            <p:cNvSpPr/>
            <p:nvPr/>
          </p:nvSpPr>
          <p:spPr>
            <a:xfrm>
              <a:off x="3116160" y="544212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76640" y="5527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57640" y="556884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10" y="25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9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9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62320" y="54468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209680" y="3467160"/>
            <a:ext cx="3276360" cy="418680"/>
            <a:chOff x="2209680" y="3467160"/>
            <a:chExt cx="3276360" cy="418680"/>
          </a:xfrm>
        </p:grpSpPr>
        <p:sp>
          <p:nvSpPr>
            <p:cNvPr id="594" name=""/>
            <p:cNvSpPr/>
            <p:nvPr/>
          </p:nvSpPr>
          <p:spPr>
            <a:xfrm>
              <a:off x="2209680" y="3854880"/>
              <a:ext cx="59040" cy="3096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93920" y="3832200"/>
              <a:ext cx="5904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77800" y="3804120"/>
              <a:ext cx="59040" cy="280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62040" y="377712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44840" y="375444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33040" y="3728160"/>
              <a:ext cx="59040" cy="262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17280" y="370548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01520" y="3682800"/>
              <a:ext cx="6264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89360" y="3656160"/>
              <a:ext cx="5904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73600" y="363744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57840" y="3615120"/>
              <a:ext cx="626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45680" y="3593880"/>
              <a:ext cx="6300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28840" y="35755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16680" y="355320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00920" y="3534840"/>
              <a:ext cx="6264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89120" y="352044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77320" y="3507840"/>
              <a:ext cx="626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65160" y="349380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53360" y="3485160"/>
              <a:ext cx="59040" cy="180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37600" y="3471120"/>
              <a:ext cx="626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25440" y="3467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14000" y="3467160"/>
              <a:ext cx="62640" cy="140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01840" y="3467160"/>
              <a:ext cx="63000" cy="140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89680" y="3467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77880" y="34711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66080" y="3485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54280" y="349380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42120" y="3512160"/>
              <a:ext cx="59040" cy="2268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26720" y="353016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14560" y="3553200"/>
              <a:ext cx="5760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98800" y="3579840"/>
              <a:ext cx="57600" cy="262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81600" y="3606480"/>
              <a:ext cx="59040" cy="3096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965480" y="3637440"/>
              <a:ext cx="59040" cy="32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45760" y="3670200"/>
              <a:ext cx="63000" cy="3492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30000" y="3705480"/>
              <a:ext cx="57600" cy="367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8840" y="3742200"/>
              <a:ext cx="5904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89120" y="3777120"/>
              <a:ext cx="57600" cy="367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35200" y="3750480"/>
              <a:ext cx="150840" cy="13536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819520" y="4216320"/>
            <a:ext cx="3352320" cy="431640"/>
            <a:chOff x="2819520" y="4216320"/>
            <a:chExt cx="3352320" cy="431640"/>
          </a:xfrm>
        </p:grpSpPr>
        <p:sp>
          <p:nvSpPr>
            <p:cNvPr id="633" name=""/>
            <p:cNvSpPr/>
            <p:nvPr/>
          </p:nvSpPr>
          <p:spPr>
            <a:xfrm>
              <a:off x="2819520" y="4616280"/>
              <a:ext cx="60480" cy="316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05560" y="4592880"/>
              <a:ext cx="6012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91960" y="4563720"/>
              <a:ext cx="59040" cy="2880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76560" y="45360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62600" y="4512960"/>
              <a:ext cx="6444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2600" y="448524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39000" y="446184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25040" y="44388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15040" y="441108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01440" y="4392360"/>
              <a:ext cx="6444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86040" y="436896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76400" y="43470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62440" y="4328280"/>
              <a:ext cx="6444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52440" y="4304880"/>
              <a:ext cx="6444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38840" y="428616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28840" y="4272840"/>
              <a:ext cx="64440" cy="216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19200" y="425844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09200" y="4243680"/>
              <a:ext cx="64440" cy="187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99560" y="4235400"/>
              <a:ext cx="60480" cy="187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485960" y="4220280"/>
              <a:ext cx="6408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75960" y="4216320"/>
              <a:ext cx="64440" cy="190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66320" y="4216320"/>
              <a:ext cx="64080" cy="1440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56320" y="4216320"/>
              <a:ext cx="64440" cy="1440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46320" y="4216320"/>
              <a:ext cx="64440" cy="190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36680" y="422028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26680" y="4235400"/>
              <a:ext cx="64440" cy="187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17040" y="4243680"/>
              <a:ext cx="6408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07040" y="4262760"/>
              <a:ext cx="59040" cy="234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293080" y="4281840"/>
              <a:ext cx="63360" cy="2736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82000" y="430488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8400" y="4332600"/>
              <a:ext cx="6012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54440" y="4360320"/>
              <a:ext cx="60120" cy="316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40480" y="4392360"/>
              <a:ext cx="60480" cy="331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22560" y="4425480"/>
              <a:ext cx="63000" cy="360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07520" y="4461840"/>
              <a:ext cx="60120" cy="378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89600" y="4499640"/>
              <a:ext cx="60120" cy="360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1" y="16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71680" y="4536000"/>
              <a:ext cx="59040" cy="378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18480" y="4508640"/>
              <a:ext cx="153360" cy="13932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0" y="96"/>
                  </a:moveTo>
                  <a:lnTo>
                    <a:pt x="114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429000" y="4986360"/>
            <a:ext cx="3276720" cy="423360"/>
            <a:chOff x="3429000" y="4986360"/>
            <a:chExt cx="3276720" cy="423360"/>
          </a:xfrm>
        </p:grpSpPr>
        <p:sp>
          <p:nvSpPr>
            <p:cNvPr id="672" name=""/>
            <p:cNvSpPr/>
            <p:nvPr/>
          </p:nvSpPr>
          <p:spPr>
            <a:xfrm>
              <a:off x="3429000" y="5376960"/>
              <a:ext cx="59040" cy="327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13240" y="5354280"/>
              <a:ext cx="5760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96040" y="532728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80280" y="5299920"/>
              <a:ext cx="6264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64520" y="527724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52360" y="525024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36600" y="522720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20840" y="520452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09040" y="5177520"/>
              <a:ext cx="57600" cy="2700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91840" y="515880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76080" y="51361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64280" y="5113080"/>
              <a:ext cx="6264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48520" y="5095800"/>
              <a:ext cx="62640" cy="216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36360" y="507312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20600" y="505476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08800" y="504036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96640" y="502776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85200" y="5013360"/>
              <a:ext cx="63000" cy="183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73040" y="5004720"/>
              <a:ext cx="57600" cy="187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57640" y="4990320"/>
              <a:ext cx="6156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45480" y="4986360"/>
              <a:ext cx="61560" cy="1836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33680" y="4986360"/>
              <a:ext cx="61920" cy="140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21880" y="4986360"/>
              <a:ext cx="61560" cy="140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09720" y="4986360"/>
              <a:ext cx="61920" cy="1836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97920" y="4990320"/>
              <a:ext cx="6156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86120" y="5004720"/>
              <a:ext cx="61560" cy="187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74320" y="5013360"/>
              <a:ext cx="61560" cy="223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62520" y="5031720"/>
              <a:ext cx="57600" cy="2268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45320" y="505008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33160" y="507312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7760" y="510048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02000" y="5127480"/>
              <a:ext cx="59040" cy="31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3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85880" y="5158800"/>
              <a:ext cx="57600" cy="32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4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65080" y="5191560"/>
              <a:ext cx="62640" cy="352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3" y="15"/>
                  </a:lnTo>
                  <a:lnTo>
                    <a:pt x="42" y="25"/>
                  </a:lnTo>
                  <a:lnTo>
                    <a:pt x="45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2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48960" y="5227200"/>
              <a:ext cx="59040" cy="370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429240" y="5264280"/>
              <a:ext cx="57600" cy="352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5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08080" y="5299920"/>
              <a:ext cx="59040" cy="370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554520" y="5272920"/>
              <a:ext cx="151200" cy="13680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5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724200" y="2860560"/>
            <a:ext cx="1524240" cy="317520"/>
            <a:chOff x="3724200" y="2860560"/>
            <a:chExt cx="1524240" cy="317520"/>
          </a:xfrm>
        </p:grpSpPr>
        <p:sp>
          <p:nvSpPr>
            <p:cNvPr id="711" name=""/>
            <p:cNvSpPr/>
            <p:nvPr/>
          </p:nvSpPr>
          <p:spPr>
            <a:xfrm>
              <a:off x="3724200" y="31384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1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19600" y="309240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16440" y="3048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5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13280" y="30067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08320" y="296532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3" y="16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10200" y="2930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11720" y="29005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9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13240" y="28749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6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12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19440" y="2860560"/>
              <a:ext cx="74880" cy="2376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24560" y="286056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10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26080" y="286560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9" y="16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32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32280" y="28908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29120" y="293040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6" y="1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6"/>
                  </a:lnTo>
                  <a:lnTo>
                    <a:pt x="41" y="22"/>
                  </a:lnTo>
                  <a:lnTo>
                    <a:pt x="38" y="19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19840" y="298620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06960" y="30481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70600" y="30020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80"/>
                  </a:moveTo>
                  <a:lnTo>
                    <a:pt x="112" y="105"/>
                  </a:lnTo>
                  <a:lnTo>
                    <a:pt x="6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7369200" y="2824200"/>
            <a:ext cx="1074600" cy="344520"/>
            <a:chOff x="7369200" y="2824200"/>
            <a:chExt cx="1074600" cy="344520"/>
          </a:xfrm>
        </p:grpSpPr>
        <p:sp>
          <p:nvSpPr>
            <p:cNvPr id="728" name=""/>
            <p:cNvSpPr/>
            <p:nvPr/>
          </p:nvSpPr>
          <p:spPr>
            <a:xfrm>
              <a:off x="7369200" y="3129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5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6040" y="3083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62880" y="3041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2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58280" y="3002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26" y="16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3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59800" y="2960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1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56640" y="292104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25" y="16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2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56720" y="288432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6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3" y="1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58240" y="2849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59760" y="282888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26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61280" y="2824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19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67840" y="28353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6" y="12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1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867280" y="3452760"/>
            <a:ext cx="2727000" cy="433080"/>
            <a:chOff x="5867280" y="3452760"/>
            <a:chExt cx="2727000" cy="433080"/>
          </a:xfrm>
        </p:grpSpPr>
        <p:sp>
          <p:nvSpPr>
            <p:cNvPr id="740" name=""/>
            <p:cNvSpPr/>
            <p:nvPr/>
          </p:nvSpPr>
          <p:spPr>
            <a:xfrm>
              <a:off x="5867280" y="3859200"/>
              <a:ext cx="6372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58000" y="3836160"/>
              <a:ext cx="6768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48720" y="381384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43760" y="3791160"/>
              <a:ext cx="6228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33400" y="376848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28800" y="3745800"/>
              <a:ext cx="6372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19520" y="372312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10600" y="370044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05640" y="368208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96720" y="3659400"/>
              <a:ext cx="68040" cy="280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91760" y="3636720"/>
              <a:ext cx="68040" cy="2844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82840" y="3619440"/>
              <a:ext cx="6660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77880" y="3597120"/>
              <a:ext cx="66600" cy="266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67520" y="3578760"/>
              <a:ext cx="6768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62560" y="356004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2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3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53280" y="354168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48680" y="352476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43720" y="3506400"/>
              <a:ext cx="680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34800" y="349236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29840" y="3479400"/>
              <a:ext cx="6804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724880" y="3465360"/>
              <a:ext cx="680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20280" y="3456720"/>
              <a:ext cx="68040" cy="183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15320" y="3452760"/>
              <a:ext cx="68040" cy="169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10720" y="3452760"/>
              <a:ext cx="68040" cy="126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19" y="9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05760" y="3452760"/>
              <a:ext cx="68040" cy="169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01160" y="346140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9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1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91880" y="347940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2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86920" y="3502080"/>
              <a:ext cx="62280" cy="3564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472240" y="3537720"/>
              <a:ext cx="63720" cy="4104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2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559000" y="3583080"/>
              <a:ext cx="35280" cy="30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6477120" y="4114800"/>
            <a:ext cx="1904400" cy="515880"/>
            <a:chOff x="6477120" y="4114800"/>
            <a:chExt cx="1904400" cy="515880"/>
          </a:xfrm>
        </p:grpSpPr>
        <p:sp>
          <p:nvSpPr>
            <p:cNvPr id="771" name=""/>
            <p:cNvSpPr/>
            <p:nvPr/>
          </p:nvSpPr>
          <p:spPr>
            <a:xfrm>
              <a:off x="6477120" y="4589280"/>
              <a:ext cx="5580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51280" y="4549680"/>
              <a:ext cx="5580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630840" y="4513320"/>
              <a:ext cx="5580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6440" y="4473360"/>
              <a:ext cx="5580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5640" y="4438440"/>
              <a:ext cx="5436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60160" y="4397400"/>
              <a:ext cx="5940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39360" y="4362480"/>
              <a:ext cx="5580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18920" y="4325760"/>
              <a:ext cx="554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1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98120" y="4295520"/>
              <a:ext cx="5436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76240" y="4260600"/>
              <a:ext cx="554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55440" y="4230720"/>
              <a:ext cx="554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34640" y="4205160"/>
              <a:ext cx="5940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13840" y="4179960"/>
              <a:ext cx="5940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3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9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97000" y="4159080"/>
              <a:ext cx="554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76200" y="4138560"/>
              <a:ext cx="5940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59360" y="4128840"/>
              <a:ext cx="5940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42520" y="4119480"/>
              <a:ext cx="5904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8" y="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25320" y="4114800"/>
              <a:ext cx="5832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08480" y="4114800"/>
              <a:ext cx="5796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91280" y="4114800"/>
              <a:ext cx="5796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74440" y="4119480"/>
              <a:ext cx="5796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57600" y="4128840"/>
              <a:ext cx="5796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22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40760" y="4138560"/>
              <a:ext cx="5796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23560" y="4149720"/>
              <a:ext cx="5796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7010280" y="4930920"/>
            <a:ext cx="1584000" cy="555120"/>
            <a:chOff x="7010280" y="4930920"/>
            <a:chExt cx="1584000" cy="555120"/>
          </a:xfrm>
        </p:grpSpPr>
        <p:sp>
          <p:nvSpPr>
            <p:cNvPr id="796" name=""/>
            <p:cNvSpPr/>
            <p:nvPr/>
          </p:nvSpPr>
          <p:spPr>
            <a:xfrm>
              <a:off x="7010280" y="5443560"/>
              <a:ext cx="60120" cy="424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92720" y="5398920"/>
              <a:ext cx="61560" cy="38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76240" y="535644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64080" y="5311800"/>
              <a:ext cx="60120" cy="3744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46520" y="526896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34360" y="522468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3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18240" y="5181840"/>
              <a:ext cx="60120" cy="424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04640" y="5142240"/>
              <a:ext cx="61560" cy="392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88520" y="5104800"/>
              <a:ext cx="65520" cy="374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2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2" y="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76360" y="506736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64200" y="5028120"/>
              <a:ext cx="60120" cy="3888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52040" y="4995360"/>
              <a:ext cx="60480" cy="3240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6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38440" y="4968360"/>
              <a:ext cx="65880" cy="320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23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9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130600" y="4945680"/>
              <a:ext cx="61560" cy="273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23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9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18440" y="493092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1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3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310240" y="4930920"/>
              <a:ext cx="65880" cy="1476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02400" y="493092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3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2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494200" y="495288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582400" y="4973400"/>
              <a:ext cx="11880" cy="21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und ar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"/>
          <p:cNvSpPr/>
          <p:nvPr/>
        </p:nvSpPr>
        <p:spPr>
          <a:xfrm>
            <a:off x="5257800" y="3124080"/>
            <a:ext cx="2131920" cy="6696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905120" y="3962520"/>
            <a:ext cx="309240" cy="186840"/>
            <a:chOff x="1905120" y="3962520"/>
            <a:chExt cx="309240" cy="186840"/>
          </a:xfrm>
        </p:grpSpPr>
        <p:sp>
          <p:nvSpPr>
            <p:cNvPr id="818" name=""/>
            <p:cNvSpPr/>
            <p:nvPr/>
          </p:nvSpPr>
          <p:spPr>
            <a:xfrm>
              <a:off x="1905120" y="3962520"/>
              <a:ext cx="45720" cy="61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65240" y="4048200"/>
              <a:ext cx="55440" cy="565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46240" y="4089240"/>
              <a:ext cx="71280" cy="410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52720" y="3967200"/>
              <a:ext cx="161640" cy="18216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600200" y="5029200"/>
            <a:ext cx="1447920" cy="304920"/>
            <a:chOff x="1600200" y="5029200"/>
            <a:chExt cx="1447920" cy="304920"/>
          </a:xfrm>
        </p:grpSpPr>
        <p:sp>
          <p:nvSpPr>
            <p:cNvPr id="823" name=""/>
            <p:cNvSpPr/>
            <p:nvPr/>
          </p:nvSpPr>
          <p:spPr>
            <a:xfrm>
              <a:off x="1600200" y="5311440"/>
              <a:ext cx="259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37280" y="5294880"/>
              <a:ext cx="259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74360" y="5274360"/>
              <a:ext cx="25920" cy="201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11800" y="525492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748160" y="523836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87040" y="5218920"/>
              <a:ext cx="25920" cy="190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24480" y="520236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61560" y="518616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00440" y="5166720"/>
              <a:ext cx="259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37520" y="51530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74960" y="51368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13840" y="512136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0560" y="51080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9440" y="509148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26520" y="507852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65400" y="5068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04640" y="505872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43520" y="504864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82400" y="5042160"/>
              <a:ext cx="25920" cy="129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19480" y="5032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58360" y="502920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97600" y="5029200"/>
              <a:ext cx="2772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36480" y="5029200"/>
              <a:ext cx="2772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475360" y="502920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514240" y="5032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53120" y="504216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592000" y="50486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30880" y="5061960"/>
              <a:ext cx="25920" cy="1620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68320" y="507528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07200" y="5091480"/>
              <a:ext cx="25560" cy="194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744280" y="5111280"/>
              <a:ext cx="25560" cy="190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81000" y="5130720"/>
              <a:ext cx="259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18080" y="5153040"/>
              <a:ext cx="25920" cy="23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53360" y="5176800"/>
              <a:ext cx="27720" cy="255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90800" y="5202360"/>
              <a:ext cx="255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25720" y="5229360"/>
              <a:ext cx="25920" cy="255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61000" y="5254920"/>
              <a:ext cx="255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81520" y="5235480"/>
              <a:ext cx="66600" cy="98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1371600" y="4343400"/>
            <a:ext cx="1143000" cy="304920"/>
            <a:chOff x="1371600" y="4343400"/>
            <a:chExt cx="1143000" cy="304920"/>
          </a:xfrm>
        </p:grpSpPr>
        <p:sp>
          <p:nvSpPr>
            <p:cNvPr id="862" name=""/>
            <p:cNvSpPr/>
            <p:nvPr/>
          </p:nvSpPr>
          <p:spPr>
            <a:xfrm>
              <a:off x="1371600" y="4625640"/>
              <a:ext cx="205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400760" y="4609080"/>
              <a:ext cx="205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30280" y="4588560"/>
              <a:ext cx="20520" cy="201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59440" y="456912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488600" y="455256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519200" y="4533120"/>
              <a:ext cx="20520" cy="190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548720" y="4516560"/>
              <a:ext cx="2160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77880" y="4500360"/>
              <a:ext cx="2160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08480" y="4480920"/>
              <a:ext cx="205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38000" y="44672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667520" y="445104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98120" y="4435560"/>
              <a:ext cx="2196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26920" y="44222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57880" y="440568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87040" y="4392720"/>
              <a:ext cx="2160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818000" y="438228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48600" y="437292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79200" y="436284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10160" y="4356360"/>
              <a:ext cx="20520" cy="129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9320" y="434628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70280" y="434340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00880" y="4343400"/>
              <a:ext cx="2160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31480" y="4343400"/>
              <a:ext cx="2196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62440" y="434340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93040" y="434628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23640" y="435636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54600" y="43628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85200" y="4376160"/>
              <a:ext cx="20520" cy="1620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14720" y="4389480"/>
              <a:ext cx="2160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45320" y="4405680"/>
              <a:ext cx="20160" cy="194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74840" y="4425480"/>
              <a:ext cx="20160" cy="190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03640" y="4444920"/>
              <a:ext cx="205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33160" y="4467240"/>
              <a:ext cx="20520" cy="23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60880" y="4491000"/>
              <a:ext cx="21960" cy="255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90400" y="4516560"/>
              <a:ext cx="201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17760" y="4543560"/>
              <a:ext cx="20520" cy="255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45840" y="4569120"/>
              <a:ext cx="201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462040" y="4549680"/>
              <a:ext cx="52560" cy="98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1601640" y="31338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828800" y="38862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828800" y="464832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52480" y="5410080"/>
            <a:ext cx="6988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2DA-B897-4D06-9441-98E627A2A3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D960D-9BE7-4813-AB9C-15981D1986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nection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2514600"/>
            <a:ext cx="8076960" cy="339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462720" y="4627440"/>
            <a:ext cx="318960" cy="758880"/>
            <a:chOff x="6462720" y="4627440"/>
            <a:chExt cx="318960" cy="758880"/>
          </a:xfrm>
        </p:grpSpPr>
        <p:sp>
          <p:nvSpPr>
            <p:cNvPr id="907" name=""/>
            <p:cNvSpPr/>
            <p:nvPr/>
          </p:nvSpPr>
          <p:spPr>
            <a:xfrm>
              <a:off x="6462720" y="4627440"/>
              <a:ext cx="244440" cy="61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6160" y="5203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0" y="42"/>
                  </a:moveTo>
                  <a:lnTo>
                    <a:pt x="89" y="115"/>
                  </a:lnTo>
                  <a:lnTo>
                    <a:pt x="9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1601640" y="31338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01640" y="389268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601640" y="46530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601640" y="541188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01640" y="5751360"/>
            <a:ext cx="699300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1152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7400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3332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093920" y="5837400"/>
            <a:ext cx="65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61060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37164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3196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908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1601640" y="3168720"/>
            <a:ext cx="319320" cy="758880"/>
            <a:chOff x="1601640" y="3168720"/>
            <a:chExt cx="319320" cy="758880"/>
          </a:xfrm>
        </p:grpSpPr>
        <p:sp>
          <p:nvSpPr>
            <p:cNvPr id="923" name=""/>
            <p:cNvSpPr/>
            <p:nvPr/>
          </p:nvSpPr>
          <p:spPr>
            <a:xfrm>
              <a:off x="1601640" y="31687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6364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817720" y="4687920"/>
            <a:ext cx="319320" cy="758880"/>
            <a:chOff x="2817720" y="4687920"/>
            <a:chExt cx="319320" cy="758880"/>
          </a:xfrm>
        </p:grpSpPr>
        <p:sp>
          <p:nvSpPr>
            <p:cNvPr id="926" name=""/>
            <p:cNvSpPr/>
            <p:nvPr/>
          </p:nvSpPr>
          <p:spPr>
            <a:xfrm>
              <a:off x="2817720" y="46879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9720" y="526428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2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2209680" y="3927600"/>
            <a:ext cx="319320" cy="760320"/>
            <a:chOff x="2209680" y="3927600"/>
            <a:chExt cx="319320" cy="760320"/>
          </a:xfrm>
        </p:grpSpPr>
        <p:sp>
          <p:nvSpPr>
            <p:cNvPr id="929" name=""/>
            <p:cNvSpPr/>
            <p:nvPr/>
          </p:nvSpPr>
          <p:spPr>
            <a:xfrm>
              <a:off x="220968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7168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5856120" y="3927600"/>
            <a:ext cx="319320" cy="760320"/>
            <a:chOff x="5856120" y="3927600"/>
            <a:chExt cx="319320" cy="760320"/>
          </a:xfrm>
        </p:grpSpPr>
        <p:sp>
          <p:nvSpPr>
            <p:cNvPr id="932" name=""/>
            <p:cNvSpPr/>
            <p:nvPr/>
          </p:nvSpPr>
          <p:spPr>
            <a:xfrm>
              <a:off x="585612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1812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48440" y="3168720"/>
            <a:ext cx="318960" cy="758880"/>
            <a:chOff x="5248440" y="3168720"/>
            <a:chExt cx="318960" cy="758880"/>
          </a:xfrm>
        </p:grpSpPr>
        <p:sp>
          <p:nvSpPr>
            <p:cNvPr id="935" name=""/>
            <p:cNvSpPr/>
            <p:nvPr/>
          </p:nvSpPr>
          <p:spPr>
            <a:xfrm>
              <a:off x="5248440" y="3168720"/>
              <a:ext cx="24264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41008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424320" y="3168720"/>
            <a:ext cx="369720" cy="2277720"/>
            <a:chOff x="3424320" y="3168720"/>
            <a:chExt cx="369720" cy="2277720"/>
          </a:xfrm>
        </p:grpSpPr>
        <p:sp>
          <p:nvSpPr>
            <p:cNvPr id="938" name=""/>
            <p:cNvSpPr/>
            <p:nvPr/>
          </p:nvSpPr>
          <p:spPr>
            <a:xfrm flipV="1">
              <a:off x="3424320" y="3320640"/>
              <a:ext cx="284040" cy="21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27360" y="316872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6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070760" y="3159000"/>
            <a:ext cx="369720" cy="2277720"/>
            <a:chOff x="7070760" y="3159000"/>
            <a:chExt cx="369720" cy="2277720"/>
          </a:xfrm>
        </p:grpSpPr>
        <p:sp>
          <p:nvSpPr>
            <p:cNvPr id="941" name=""/>
            <p:cNvSpPr/>
            <p:nvPr/>
          </p:nvSpPr>
          <p:spPr>
            <a:xfrm flipV="1">
              <a:off x="7070760" y="3309480"/>
              <a:ext cx="284040" cy="2127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3800" y="315900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5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538200" y="286560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37280" y="295128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8200" y="3624120"/>
            <a:ext cx="91764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0880" y="371016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8200" y="4383000"/>
            <a:ext cx="917640" cy="461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40880" y="445932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8200" y="514368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9800" y="52196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900080" y="3922560"/>
            <a:ext cx="309600" cy="187560"/>
            <a:chOff x="1900080" y="3922560"/>
            <a:chExt cx="309600" cy="187560"/>
          </a:xfrm>
        </p:grpSpPr>
        <p:sp>
          <p:nvSpPr>
            <p:cNvPr id="952" name=""/>
            <p:cNvSpPr/>
            <p:nvPr/>
          </p:nvSpPr>
          <p:spPr>
            <a:xfrm>
              <a:off x="1900080" y="3922560"/>
              <a:ext cx="4608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962000" y="4008600"/>
              <a:ext cx="5580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9" y="4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8" y="36"/>
                  </a:lnTo>
                  <a:lnTo>
                    <a:pt x="31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1" y="26"/>
                  </a:lnTo>
                  <a:lnTo>
                    <a:pt x="25" y="23"/>
                  </a:lnTo>
                  <a:lnTo>
                    <a:pt x="25" y="26"/>
                  </a:lnTo>
                  <a:lnTo>
                    <a:pt x="28" y="26"/>
                  </a:lnTo>
                  <a:lnTo>
                    <a:pt x="19" y="13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43000" y="4049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9" y="26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8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5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2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4804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508120" y="4683240"/>
            <a:ext cx="309600" cy="187200"/>
            <a:chOff x="2508120" y="4683240"/>
            <a:chExt cx="309600" cy="187200"/>
          </a:xfrm>
        </p:grpSpPr>
        <p:sp>
          <p:nvSpPr>
            <p:cNvPr id="957" name=""/>
            <p:cNvSpPr/>
            <p:nvPr/>
          </p:nvSpPr>
          <p:spPr>
            <a:xfrm>
              <a:off x="250812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6860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20" y="29"/>
                  </a:lnTo>
                  <a:lnTo>
                    <a:pt x="23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20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64960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55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762600" y="5432400"/>
            <a:ext cx="308160" cy="187200"/>
            <a:chOff x="6762600" y="5432400"/>
            <a:chExt cx="308160" cy="187200"/>
          </a:xfrm>
        </p:grpSpPr>
        <p:sp>
          <p:nvSpPr>
            <p:cNvPr id="962" name=""/>
            <p:cNvSpPr/>
            <p:nvPr/>
          </p:nvSpPr>
          <p:spPr>
            <a:xfrm>
              <a:off x="6762600" y="543240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28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23080" y="551808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04080" y="555768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08760" y="543708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154560" y="4683240"/>
            <a:ext cx="308160" cy="187200"/>
            <a:chOff x="6154560" y="4683240"/>
            <a:chExt cx="308160" cy="187200"/>
          </a:xfrm>
        </p:grpSpPr>
        <p:sp>
          <p:nvSpPr>
            <p:cNvPr id="967" name=""/>
            <p:cNvSpPr/>
            <p:nvPr/>
          </p:nvSpPr>
          <p:spPr>
            <a:xfrm>
              <a:off x="615456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1504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9604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00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546880" y="3922560"/>
            <a:ext cx="309240" cy="187560"/>
            <a:chOff x="5546880" y="3922560"/>
            <a:chExt cx="309240" cy="187560"/>
          </a:xfrm>
        </p:grpSpPr>
        <p:sp>
          <p:nvSpPr>
            <p:cNvPr id="972" name=""/>
            <p:cNvSpPr/>
            <p:nvPr/>
          </p:nvSpPr>
          <p:spPr>
            <a:xfrm>
              <a:off x="5546880" y="3922560"/>
              <a:ext cx="4572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07000" y="4008600"/>
              <a:ext cx="5544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688000" y="4049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69448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116160" y="5442120"/>
            <a:ext cx="308160" cy="187200"/>
            <a:chOff x="3116160" y="5442120"/>
            <a:chExt cx="308160" cy="187200"/>
          </a:xfrm>
        </p:grpSpPr>
        <p:sp>
          <p:nvSpPr>
            <p:cNvPr id="977" name=""/>
            <p:cNvSpPr/>
            <p:nvPr/>
          </p:nvSpPr>
          <p:spPr>
            <a:xfrm>
              <a:off x="3116160" y="544212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176640" y="5527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57640" y="556884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10" y="25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9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9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62320" y="54468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900080" y="3467160"/>
            <a:ext cx="3956040" cy="471600"/>
            <a:chOff x="1900080" y="3467160"/>
            <a:chExt cx="3956040" cy="471600"/>
          </a:xfrm>
        </p:grpSpPr>
        <p:sp>
          <p:nvSpPr>
            <p:cNvPr id="982" name=""/>
            <p:cNvSpPr/>
            <p:nvPr/>
          </p:nvSpPr>
          <p:spPr>
            <a:xfrm>
              <a:off x="1900080" y="390384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01960" y="387828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03480" y="384660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05000" y="38163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305080" y="37908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11280" y="3760920"/>
              <a:ext cx="71640" cy="298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13160" y="37353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614680" y="37101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20880" y="367992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22400" y="36590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4280" y="363384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030480" y="361008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30560" y="35892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36760" y="35640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38640" y="354348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44840" y="352728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51400" y="351324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57600" y="34974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63800" y="3487680"/>
              <a:ext cx="7164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65680" y="347184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971880" y="34671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78440" y="3467160"/>
              <a:ext cx="7596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84640" y="3467160"/>
              <a:ext cx="7632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90840" y="34671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397400" y="34718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03600" y="348768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10160" y="34974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3517920"/>
              <a:ext cx="716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18240" y="35384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924440" y="356400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25960" y="359424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26040" y="362412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27560" y="36590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24400" y="3695760"/>
              <a:ext cx="7632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25920" y="373536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21320" y="377676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18160" y="381636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73600" y="3786120"/>
              <a:ext cx="182520" cy="152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08120" y="4216320"/>
            <a:ext cx="3954600" cy="471600"/>
            <a:chOff x="2508120" y="4216320"/>
            <a:chExt cx="3954600" cy="471600"/>
          </a:xfrm>
        </p:grpSpPr>
        <p:sp>
          <p:nvSpPr>
            <p:cNvPr id="1021" name=""/>
            <p:cNvSpPr/>
            <p:nvPr/>
          </p:nvSpPr>
          <p:spPr>
            <a:xfrm>
              <a:off x="2508120" y="46530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0000" y="4627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11520" y="4595760"/>
              <a:ext cx="69840" cy="316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11600" y="45655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13120" y="454032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19320" y="451008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21200" y="44845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22720" y="44593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28920" y="442908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430440" y="44085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530520" y="43830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37080" y="43592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38600" y="43387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844800" y="4313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946680" y="42926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52880" y="4278240"/>
              <a:ext cx="76320" cy="2376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59080" y="42624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65640" y="42465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371840" y="4237200"/>
              <a:ext cx="7164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473720" y="422100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79920" y="421632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86480" y="4216320"/>
              <a:ext cx="7596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2680" y="4216320"/>
              <a:ext cx="7632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98880" y="421632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005440" y="42210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1640" y="4237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18200" y="424656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24400" y="426708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25920" y="4287960"/>
              <a:ext cx="74880" cy="2988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30680" y="431316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32560" y="434340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34080" y="43736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35600" y="4408560"/>
              <a:ext cx="7164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32440" y="4444920"/>
              <a:ext cx="74520" cy="396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32520" y="4484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129360" y="45259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1" y="16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26200" y="45655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81640" y="4535640"/>
              <a:ext cx="181080" cy="15228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0" y="96"/>
                  </a:moveTo>
                  <a:lnTo>
                    <a:pt x="114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3116160" y="4986360"/>
            <a:ext cx="3954600" cy="471600"/>
            <a:chOff x="3116160" y="4986360"/>
            <a:chExt cx="3954600" cy="471600"/>
          </a:xfrm>
        </p:grpSpPr>
        <p:sp>
          <p:nvSpPr>
            <p:cNvPr id="1060" name=""/>
            <p:cNvSpPr/>
            <p:nvPr/>
          </p:nvSpPr>
          <p:spPr>
            <a:xfrm>
              <a:off x="3116160" y="54212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18040" y="539604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7760" y="536580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53355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21160" y="53103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627360" y="528012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28880" y="52545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30760" y="52293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936960" y="519912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7040" y="51786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38560" y="51530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45120" y="512748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46640" y="5108400"/>
              <a:ext cx="75960" cy="2412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452840" y="50832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554360" y="506268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60920" y="50468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767120" y="50324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73680" y="50166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79880" y="5006880"/>
              <a:ext cx="6984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081760" y="499104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187960" y="498636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294160" y="4986360"/>
              <a:ext cx="7488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400720" y="4986360"/>
              <a:ext cx="7452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506920" y="4986360"/>
              <a:ext cx="7488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613480" y="499104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19680" y="5006880"/>
              <a:ext cx="7452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26240" y="5016600"/>
              <a:ext cx="74520" cy="2520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32440" y="503712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032520" y="505764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38720" y="508320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240600" y="5113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342120" y="514368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3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43640" y="517860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4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39040" y="5214960"/>
              <a:ext cx="7596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3" y="15"/>
                  </a:lnTo>
                  <a:lnTo>
                    <a:pt x="42" y="25"/>
                  </a:lnTo>
                  <a:lnTo>
                    <a:pt x="45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2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40560" y="525456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37400" y="529596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5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832440" y="533556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888240" y="5305320"/>
              <a:ext cx="182520" cy="152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5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3724200" y="2860560"/>
            <a:ext cx="1524240" cy="317520"/>
            <a:chOff x="3724200" y="2860560"/>
            <a:chExt cx="1524240" cy="317520"/>
          </a:xfrm>
        </p:grpSpPr>
        <p:sp>
          <p:nvSpPr>
            <p:cNvPr id="1099" name=""/>
            <p:cNvSpPr/>
            <p:nvPr/>
          </p:nvSpPr>
          <p:spPr>
            <a:xfrm>
              <a:off x="3724200" y="31384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1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19600" y="309240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916440" y="3048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5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13280" y="30067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108320" y="296532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3" y="16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10200" y="2930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311720" y="29005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9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13240" y="28749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6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12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19440" y="2860560"/>
              <a:ext cx="74880" cy="2376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24560" y="286056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10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26080" y="286560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9" y="16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32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32280" y="28908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29120" y="293040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6" y="1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6"/>
                  </a:lnTo>
                  <a:lnTo>
                    <a:pt x="41" y="22"/>
                  </a:lnTo>
                  <a:lnTo>
                    <a:pt x="38" y="19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019840" y="298620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06960" y="30481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070600" y="30020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80"/>
                  </a:moveTo>
                  <a:lnTo>
                    <a:pt x="112" y="105"/>
                  </a:lnTo>
                  <a:lnTo>
                    <a:pt x="6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7369200" y="2824200"/>
            <a:ext cx="1074600" cy="344520"/>
            <a:chOff x="7369200" y="2824200"/>
            <a:chExt cx="1074600" cy="344520"/>
          </a:xfrm>
        </p:grpSpPr>
        <p:sp>
          <p:nvSpPr>
            <p:cNvPr id="1116" name=""/>
            <p:cNvSpPr/>
            <p:nvPr/>
          </p:nvSpPr>
          <p:spPr>
            <a:xfrm>
              <a:off x="7369200" y="3129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5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66040" y="3083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562880" y="3041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2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58280" y="3002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26" y="16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3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59800" y="2960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1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856640" y="292104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25" y="16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2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956720" y="288432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6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3" y="1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058240" y="2849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159760" y="282888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26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261280" y="2824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19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67840" y="28353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6" y="12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1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546880" y="3452760"/>
            <a:ext cx="3047760" cy="486000"/>
            <a:chOff x="5546880" y="3452760"/>
            <a:chExt cx="3047760" cy="486000"/>
          </a:xfrm>
        </p:grpSpPr>
        <p:sp>
          <p:nvSpPr>
            <p:cNvPr id="1128" name=""/>
            <p:cNvSpPr/>
            <p:nvPr/>
          </p:nvSpPr>
          <p:spPr>
            <a:xfrm>
              <a:off x="5546880" y="390852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48400" y="38829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9920" y="385776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56120" y="383220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56200" y="380700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62760" y="3781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64280" y="37558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265800" y="37306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72360" y="37101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473880" y="368460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580080" y="3659040"/>
              <a:ext cx="76320" cy="3204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81960" y="363996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88160" y="36147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88240" y="359424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994440" y="357336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2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3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095960" y="35528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2520" y="353376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308720" y="35132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410600" y="349740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516800" y="34830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623000" y="34671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729560" y="345744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835760" y="3452760"/>
              <a:ext cx="7632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942320" y="3452760"/>
              <a:ext cx="76320" cy="144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19" y="9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48520" y="3452760"/>
              <a:ext cx="7632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155080" y="346248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9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1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56600" y="34830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2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62800" y="3508200"/>
              <a:ext cx="69840" cy="399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458200" y="3548160"/>
              <a:ext cx="71280" cy="46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2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555040" y="35989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6154560" y="4172040"/>
            <a:ext cx="2440080" cy="515880"/>
            <a:chOff x="6154560" y="4172040"/>
            <a:chExt cx="2440080" cy="515880"/>
          </a:xfrm>
        </p:grpSpPr>
        <p:sp>
          <p:nvSpPr>
            <p:cNvPr id="1159" name=""/>
            <p:cNvSpPr/>
            <p:nvPr/>
          </p:nvSpPr>
          <p:spPr>
            <a:xfrm>
              <a:off x="6154560" y="464652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249960" y="460692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351480" y="4570560"/>
              <a:ext cx="7164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448320" y="45306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550200" y="44956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645240" y="4454640"/>
              <a:ext cx="7632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746760" y="441972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48640" y="438300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1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0160" y="435276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50240" y="43178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51760" y="428796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253280" y="42624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354800" y="423720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3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9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61360" y="421632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62880" y="41958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669080" y="418608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775640" y="4176720"/>
              <a:ext cx="7596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8" y="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881840" y="4172040"/>
              <a:ext cx="7488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988400" y="4172040"/>
              <a:ext cx="7452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94600" y="417204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201160" y="417672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07360" y="4186080"/>
              <a:ext cx="7452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22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413920" y="419580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520120" y="420696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762600" y="4930920"/>
            <a:ext cx="1832040" cy="515880"/>
            <a:chOff x="6762600" y="4930920"/>
            <a:chExt cx="1832040" cy="515880"/>
          </a:xfrm>
        </p:grpSpPr>
        <p:sp>
          <p:nvSpPr>
            <p:cNvPr id="1184" name=""/>
            <p:cNvSpPr/>
            <p:nvPr/>
          </p:nvSpPr>
          <p:spPr>
            <a:xfrm>
              <a:off x="6762600" y="54072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858000" y="5365800"/>
              <a:ext cx="7128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954840" y="53262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056360" y="5284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51760" y="52452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3280" y="52038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3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50120" y="51642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50200" y="512748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547040" y="5092560"/>
              <a:ext cx="7596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2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2" y="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648560" y="50576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750080" y="502128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851600" y="4991040"/>
              <a:ext cx="7020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6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51680" y="496584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23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9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058240" y="494496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23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9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59760" y="49309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1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3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65960" y="4930920"/>
              <a:ext cx="76320" cy="1404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72520" y="49309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3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2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478720" y="49514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580600" y="49705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ar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FA8-2EA3-4A06-ADB9-5B61CDCDA0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4ADD0-5619-4800-BA8A-5CD98DA1B1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vs. Connection Flight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large-scale problems, time-line network has fewer ground arcs than connection arcs in the connection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rther reduction in network size possible through “node consolidation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network allows more complex relations among fl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a flight to connect 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ly a subse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later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0C2-0A0F-4762-A15B-1900A127A0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2E658-B31E-4D01-9A3D-8267FF702A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7" name=""/>
          <p:cNvSpPr/>
          <p:nvPr/>
        </p:nvSpPr>
        <p:spPr>
          <a:xfrm>
            <a:off x="304920" y="2743200"/>
            <a:ext cx="8534160" cy="1965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562640" y="3898800"/>
            <a:ext cx="1012680" cy="749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514840" y="3843360"/>
            <a:ext cx="13680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7" y="78"/>
                </a:lnTo>
                <a:lnTo>
                  <a:pt x="45" y="73"/>
                </a:lnTo>
                <a:lnTo>
                  <a:pt x="44" y="69"/>
                </a:lnTo>
                <a:lnTo>
                  <a:pt x="43" y="64"/>
                </a:lnTo>
                <a:lnTo>
                  <a:pt x="42" y="59"/>
                </a:lnTo>
                <a:lnTo>
                  <a:pt x="39" y="56"/>
                </a:lnTo>
                <a:lnTo>
                  <a:pt x="37" y="52"/>
                </a:lnTo>
                <a:lnTo>
                  <a:pt x="34" y="47"/>
                </a:lnTo>
                <a:lnTo>
                  <a:pt x="32" y="43"/>
                </a:lnTo>
                <a:lnTo>
                  <a:pt x="29" y="39"/>
                </a:lnTo>
                <a:lnTo>
                  <a:pt x="27" y="35"/>
                </a:lnTo>
                <a:lnTo>
                  <a:pt x="23" y="32"/>
                </a:lnTo>
                <a:lnTo>
                  <a:pt x="19" y="29"/>
                </a:lnTo>
                <a:lnTo>
                  <a:pt x="15" y="25"/>
                </a:lnTo>
                <a:lnTo>
                  <a:pt x="13" y="23"/>
                </a:lnTo>
                <a:lnTo>
                  <a:pt x="8" y="20"/>
                </a:lnTo>
                <a:lnTo>
                  <a:pt x="4" y="18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562640" y="37353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600440" y="37051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640400" y="3678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678200" y="36482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716360" y="36194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4757760" y="3588840"/>
            <a:ext cx="17280" cy="17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4794120" y="356220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4832280" y="35337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870440" y="35035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4911840" y="34765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4948200" y="3446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4986360" y="34178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5024520" y="33904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062680" y="33606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5103720" y="333216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5140440" y="330192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178600" y="32749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5216400" y="324648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5254560" y="32162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5294160" y="318888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5332320" y="315900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5370480" y="31305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5408640" y="310176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446800" y="30733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5486400" y="304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524560" y="3014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562720" y="2985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600880" y="2958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638680" y="29289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5678640" y="2900160"/>
            <a:ext cx="187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645160" y="2851200"/>
            <a:ext cx="11736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14"/>
                </a:moveTo>
                <a:lnTo>
                  <a:pt x="74" y="0"/>
                </a:lnTo>
                <a:lnTo>
                  <a:pt x="40" y="68"/>
                </a:lnTo>
                <a:lnTo>
                  <a:pt x="40" y="64"/>
                </a:lnTo>
                <a:lnTo>
                  <a:pt x="39" y="60"/>
                </a:lnTo>
                <a:lnTo>
                  <a:pt x="38" y="57"/>
                </a:lnTo>
                <a:lnTo>
                  <a:pt x="36" y="53"/>
                </a:lnTo>
                <a:lnTo>
                  <a:pt x="34" y="49"/>
                </a:lnTo>
                <a:lnTo>
                  <a:pt x="33" y="45"/>
                </a:lnTo>
                <a:lnTo>
                  <a:pt x="30" y="41"/>
                </a:lnTo>
                <a:lnTo>
                  <a:pt x="28" y="38"/>
                </a:lnTo>
                <a:lnTo>
                  <a:pt x="25" y="34"/>
                </a:lnTo>
                <a:lnTo>
                  <a:pt x="23" y="31"/>
                </a:lnTo>
                <a:lnTo>
                  <a:pt x="20" y="29"/>
                </a:lnTo>
                <a:lnTo>
                  <a:pt x="18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962520" y="2906640"/>
            <a:ext cx="1123920" cy="8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027760" y="2851200"/>
            <a:ext cx="134640" cy="123840"/>
          </a:xfrm>
          <a:custGeom>
            <a:avLst/>
            <a:gdLst/>
            <a:ahLst/>
            <a:rect l="l" t="t" r="r" b="b"/>
            <a:pathLst>
              <a:path w="85" h="78">
                <a:moveTo>
                  <a:pt x="0" y="16"/>
                </a:moveTo>
                <a:lnTo>
                  <a:pt x="85" y="0"/>
                </a:lnTo>
                <a:lnTo>
                  <a:pt x="46" y="78"/>
                </a:lnTo>
                <a:lnTo>
                  <a:pt x="46" y="73"/>
                </a:lnTo>
                <a:lnTo>
                  <a:pt x="45" y="69"/>
                </a:lnTo>
                <a:lnTo>
                  <a:pt x="42" y="64"/>
                </a:lnTo>
                <a:lnTo>
                  <a:pt x="41" y="60"/>
                </a:lnTo>
                <a:lnTo>
                  <a:pt x="40" y="55"/>
                </a:lnTo>
                <a:lnTo>
                  <a:pt x="37" y="52"/>
                </a:lnTo>
                <a:lnTo>
                  <a:pt x="35" y="48"/>
                </a:lnTo>
                <a:lnTo>
                  <a:pt x="32" y="44"/>
                </a:lnTo>
                <a:lnTo>
                  <a:pt x="29" y="39"/>
                </a:lnTo>
                <a:lnTo>
                  <a:pt x="26" y="36"/>
                </a:lnTo>
                <a:lnTo>
                  <a:pt x="22" y="33"/>
                </a:lnTo>
                <a:lnTo>
                  <a:pt x="20" y="29"/>
                </a:lnTo>
                <a:lnTo>
                  <a:pt x="16" y="26"/>
                </a:lnTo>
                <a:lnTo>
                  <a:pt x="12" y="23"/>
                </a:lnTo>
                <a:lnTo>
                  <a:pt x="8" y="20"/>
                </a:lnTo>
                <a:lnTo>
                  <a:pt x="5" y="18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2162160" y="46339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2200320" y="46051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2241720" y="457668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279520" y="4546080"/>
            <a:ext cx="17640" cy="16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2316240" y="45180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2354400" y="44892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2395440" y="446076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2433600" y="4430880"/>
            <a:ext cx="1764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2470320" y="44035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2508120" y="437328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2549520" y="434484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2587680" y="4314960"/>
            <a:ext cx="172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2624040" y="428760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662200" y="425736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2703600" y="422892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2741760" y="4199040"/>
            <a:ext cx="172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2778120" y="41716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2816280" y="414144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2857680" y="411300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2895480" y="4083120"/>
            <a:ext cx="1764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933640" y="405576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970360" y="40273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3008160" y="39974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3046320" y="39686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3084480" y="39416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3122640" y="391140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3162240" y="3893760"/>
            <a:ext cx="468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112920" y="3843360"/>
            <a:ext cx="119160" cy="108000"/>
          </a:xfrm>
          <a:custGeom>
            <a:avLst/>
            <a:gdLst/>
            <a:ahLst/>
            <a:rect l="l" t="t" r="r" b="b"/>
            <a:pathLst>
              <a:path w="75" h="68">
                <a:moveTo>
                  <a:pt x="0" y="14"/>
                </a:moveTo>
                <a:lnTo>
                  <a:pt x="75" y="0"/>
                </a:lnTo>
                <a:lnTo>
                  <a:pt x="41" y="68"/>
                </a:lnTo>
                <a:lnTo>
                  <a:pt x="40" y="64"/>
                </a:lnTo>
                <a:lnTo>
                  <a:pt x="39" y="61"/>
                </a:lnTo>
                <a:lnTo>
                  <a:pt x="38" y="57"/>
                </a:lnTo>
                <a:lnTo>
                  <a:pt x="36" y="53"/>
                </a:lnTo>
                <a:lnTo>
                  <a:pt x="35" y="49"/>
                </a:lnTo>
                <a:lnTo>
                  <a:pt x="33" y="46"/>
                </a:lnTo>
                <a:lnTo>
                  <a:pt x="31" y="42"/>
                </a:lnTo>
                <a:lnTo>
                  <a:pt x="29" y="38"/>
                </a:lnTo>
                <a:lnTo>
                  <a:pt x="26" y="34"/>
                </a:lnTo>
                <a:lnTo>
                  <a:pt x="24" y="32"/>
                </a:lnTo>
                <a:lnTo>
                  <a:pt x="20" y="29"/>
                </a:lnTo>
                <a:lnTo>
                  <a:pt x="18" y="25"/>
                </a:lnTo>
                <a:lnTo>
                  <a:pt x="14" y="23"/>
                </a:lnTo>
                <a:lnTo>
                  <a:pt x="11" y="20"/>
                </a:lnTo>
                <a:lnTo>
                  <a:pt x="7" y="18"/>
                </a:lnTo>
                <a:lnTo>
                  <a:pt x="4" y="1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562040" y="3898800"/>
            <a:ext cx="1013040" cy="749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514600" y="384336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7" y="78"/>
                </a:lnTo>
                <a:lnTo>
                  <a:pt x="46" y="73"/>
                </a:lnTo>
                <a:lnTo>
                  <a:pt x="44" y="69"/>
                </a:lnTo>
                <a:lnTo>
                  <a:pt x="43" y="64"/>
                </a:lnTo>
                <a:lnTo>
                  <a:pt x="42" y="59"/>
                </a:lnTo>
                <a:lnTo>
                  <a:pt x="39" y="56"/>
                </a:lnTo>
                <a:lnTo>
                  <a:pt x="37" y="52"/>
                </a:lnTo>
                <a:lnTo>
                  <a:pt x="34" y="47"/>
                </a:lnTo>
                <a:lnTo>
                  <a:pt x="32" y="43"/>
                </a:lnTo>
                <a:lnTo>
                  <a:pt x="29" y="39"/>
                </a:lnTo>
                <a:lnTo>
                  <a:pt x="27" y="35"/>
                </a:lnTo>
                <a:lnTo>
                  <a:pt x="23" y="32"/>
                </a:lnTo>
                <a:lnTo>
                  <a:pt x="19" y="29"/>
                </a:lnTo>
                <a:lnTo>
                  <a:pt x="15" y="25"/>
                </a:lnTo>
                <a:lnTo>
                  <a:pt x="13" y="23"/>
                </a:lnTo>
                <a:lnTo>
                  <a:pt x="8" y="20"/>
                </a:lnTo>
                <a:lnTo>
                  <a:pt x="4" y="18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963720" y="46339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003320" y="46069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1041480" y="457812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079640" y="455112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1119240" y="452268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1157400" y="44942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195560" y="446724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1235160" y="443844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1273320" y="441144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1311120" y="43830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351080" y="435456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1389240" y="432756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1427040" y="429876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1467000" y="42703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1504800" y="42433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1542960" y="421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1582560" y="418752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1620720" y="415908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1660680" y="413064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1698480" y="41036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736640" y="407484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1776240" y="404784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1814400" y="401940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1852560" y="39909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1892160" y="39639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1930320" y="393516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1968480" y="3909600"/>
            <a:ext cx="15840" cy="111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933560" y="3862440"/>
            <a:ext cx="117360" cy="106200"/>
          </a:xfrm>
          <a:custGeom>
            <a:avLst/>
            <a:gdLst/>
            <a:ahLst/>
            <a:rect l="l" t="t" r="r" b="b"/>
            <a:pathLst>
              <a:path w="74" h="67">
                <a:moveTo>
                  <a:pt x="0" y="12"/>
                </a:moveTo>
                <a:lnTo>
                  <a:pt x="74" y="0"/>
                </a:lnTo>
                <a:lnTo>
                  <a:pt x="39" y="67"/>
                </a:lnTo>
                <a:lnTo>
                  <a:pt x="39" y="64"/>
                </a:lnTo>
                <a:lnTo>
                  <a:pt x="37" y="60"/>
                </a:lnTo>
                <a:lnTo>
                  <a:pt x="36" y="55"/>
                </a:lnTo>
                <a:lnTo>
                  <a:pt x="35" y="51"/>
                </a:lnTo>
                <a:lnTo>
                  <a:pt x="32" y="47"/>
                </a:lnTo>
                <a:lnTo>
                  <a:pt x="31" y="44"/>
                </a:lnTo>
                <a:lnTo>
                  <a:pt x="29" y="40"/>
                </a:lnTo>
                <a:lnTo>
                  <a:pt x="26" y="37"/>
                </a:lnTo>
                <a:lnTo>
                  <a:pt x="25" y="34"/>
                </a:lnTo>
                <a:lnTo>
                  <a:pt x="21" y="30"/>
                </a:lnTo>
                <a:lnTo>
                  <a:pt x="18" y="27"/>
                </a:lnTo>
                <a:lnTo>
                  <a:pt x="16" y="25"/>
                </a:lnTo>
                <a:lnTo>
                  <a:pt x="12" y="22"/>
                </a:lnTo>
                <a:lnTo>
                  <a:pt x="10" y="18"/>
                </a:lnTo>
                <a:lnTo>
                  <a:pt x="6" y="17"/>
                </a:lnTo>
                <a:lnTo>
                  <a:pt x="2" y="15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363600" y="3917520"/>
            <a:ext cx="1011240" cy="730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314360" y="386244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6" y="78"/>
                </a:lnTo>
                <a:lnTo>
                  <a:pt x="44" y="73"/>
                </a:lnTo>
                <a:lnTo>
                  <a:pt x="43" y="69"/>
                </a:lnTo>
                <a:lnTo>
                  <a:pt x="42" y="64"/>
                </a:lnTo>
                <a:lnTo>
                  <a:pt x="41" y="59"/>
                </a:lnTo>
                <a:lnTo>
                  <a:pt x="39" y="55"/>
                </a:lnTo>
                <a:lnTo>
                  <a:pt x="37" y="51"/>
                </a:lnTo>
                <a:lnTo>
                  <a:pt x="34" y="46"/>
                </a:lnTo>
                <a:lnTo>
                  <a:pt x="32" y="42"/>
                </a:lnTo>
                <a:lnTo>
                  <a:pt x="29" y="39"/>
                </a:lnTo>
                <a:lnTo>
                  <a:pt x="25" y="35"/>
                </a:lnTo>
                <a:lnTo>
                  <a:pt x="23" y="31"/>
                </a:lnTo>
                <a:lnTo>
                  <a:pt x="19" y="28"/>
                </a:lnTo>
                <a:lnTo>
                  <a:pt x="15" y="25"/>
                </a:lnTo>
                <a:lnTo>
                  <a:pt x="12" y="22"/>
                </a:lnTo>
                <a:lnTo>
                  <a:pt x="8" y="20"/>
                </a:lnTo>
                <a:lnTo>
                  <a:pt x="4" y="17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7562880" y="37353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7601040" y="37051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7640640" y="3678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7678800" y="36482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7716960" y="36194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7756560" y="3588840"/>
            <a:ext cx="19080" cy="17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7794720" y="35622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7832880" y="35337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7870680" y="35035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7910640" y="34765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7948440" y="3446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7986600" y="34178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8024760" y="33904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062920" y="33606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8102520" y="33321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8140680" y="330192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178840" y="32749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8217000" y="324648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8255160" y="3216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8294760" y="318888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8332920" y="315900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8370720" y="31305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8408880" y="310176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8447040" y="30733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8486640" y="304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8524800" y="3014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8562960" y="2985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8601120" y="2958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8639280" y="29289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8678880" y="290016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645400" y="2851200"/>
            <a:ext cx="11772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14"/>
                </a:moveTo>
                <a:lnTo>
                  <a:pt x="74" y="0"/>
                </a:lnTo>
                <a:lnTo>
                  <a:pt x="40" y="68"/>
                </a:lnTo>
                <a:lnTo>
                  <a:pt x="40" y="64"/>
                </a:lnTo>
                <a:lnTo>
                  <a:pt x="39" y="60"/>
                </a:lnTo>
                <a:lnTo>
                  <a:pt x="38" y="57"/>
                </a:lnTo>
                <a:lnTo>
                  <a:pt x="36" y="53"/>
                </a:lnTo>
                <a:lnTo>
                  <a:pt x="34" y="49"/>
                </a:lnTo>
                <a:lnTo>
                  <a:pt x="33" y="45"/>
                </a:lnTo>
                <a:lnTo>
                  <a:pt x="30" y="41"/>
                </a:lnTo>
                <a:lnTo>
                  <a:pt x="28" y="38"/>
                </a:lnTo>
                <a:lnTo>
                  <a:pt x="25" y="34"/>
                </a:lnTo>
                <a:lnTo>
                  <a:pt x="22" y="31"/>
                </a:lnTo>
                <a:lnTo>
                  <a:pt x="20" y="29"/>
                </a:lnTo>
                <a:lnTo>
                  <a:pt x="17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6962760" y="2906640"/>
            <a:ext cx="1123920" cy="8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026560" y="285120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6"/>
                </a:moveTo>
                <a:lnTo>
                  <a:pt x="86" y="0"/>
                </a:lnTo>
                <a:lnTo>
                  <a:pt x="47" y="78"/>
                </a:lnTo>
                <a:lnTo>
                  <a:pt x="47" y="73"/>
                </a:lnTo>
                <a:lnTo>
                  <a:pt x="46" y="69"/>
                </a:lnTo>
                <a:lnTo>
                  <a:pt x="43" y="64"/>
                </a:lnTo>
                <a:lnTo>
                  <a:pt x="42" y="60"/>
                </a:lnTo>
                <a:lnTo>
                  <a:pt x="41" y="55"/>
                </a:lnTo>
                <a:lnTo>
                  <a:pt x="38" y="52"/>
                </a:lnTo>
                <a:lnTo>
                  <a:pt x="36" y="48"/>
                </a:lnTo>
                <a:lnTo>
                  <a:pt x="33" y="44"/>
                </a:lnTo>
                <a:lnTo>
                  <a:pt x="29" y="39"/>
                </a:lnTo>
                <a:lnTo>
                  <a:pt x="27" y="36"/>
                </a:lnTo>
                <a:lnTo>
                  <a:pt x="23" y="33"/>
                </a:lnTo>
                <a:lnTo>
                  <a:pt x="21" y="29"/>
                </a:lnTo>
                <a:lnTo>
                  <a:pt x="17" y="26"/>
                </a:lnTo>
                <a:lnTo>
                  <a:pt x="13" y="23"/>
                </a:lnTo>
                <a:lnTo>
                  <a:pt x="9" y="20"/>
                </a:lnTo>
                <a:lnTo>
                  <a:pt x="6" y="18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5162400" y="46339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200560" y="46069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5238720" y="457812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5276880" y="4548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5316480" y="4521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5354640" y="44924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5392800" y="446220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5432400" y="44352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470560" y="44067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508720" y="437652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548320" y="43495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5586480" y="43192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5627520" y="42908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665680" y="42624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702400" y="42336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5743440" y="42051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5781600" y="41767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5819760" y="41464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5859360" y="41194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5897520" y="40910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5935680" y="40608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975280" y="40338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013440" y="400500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6051600" y="3975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6091200" y="394776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6129360" y="3917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6168960" y="3890880"/>
            <a:ext cx="1584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132600" y="3843360"/>
            <a:ext cx="118800" cy="108000"/>
          </a:xfrm>
          <a:custGeom>
            <a:avLst/>
            <a:gdLst/>
            <a:ahLst/>
            <a:rect l="l" t="t" r="r" b="b"/>
            <a:pathLst>
              <a:path w="75" h="68">
                <a:moveTo>
                  <a:pt x="0" y="14"/>
                </a:moveTo>
                <a:lnTo>
                  <a:pt x="75" y="0"/>
                </a:lnTo>
                <a:lnTo>
                  <a:pt x="41" y="68"/>
                </a:lnTo>
                <a:lnTo>
                  <a:pt x="39" y="64"/>
                </a:lnTo>
                <a:lnTo>
                  <a:pt x="38" y="59"/>
                </a:lnTo>
                <a:lnTo>
                  <a:pt x="37" y="56"/>
                </a:lnTo>
                <a:lnTo>
                  <a:pt x="36" y="52"/>
                </a:lnTo>
                <a:lnTo>
                  <a:pt x="34" y="48"/>
                </a:lnTo>
                <a:lnTo>
                  <a:pt x="32" y="44"/>
                </a:lnTo>
                <a:lnTo>
                  <a:pt x="31" y="40"/>
                </a:lnTo>
                <a:lnTo>
                  <a:pt x="28" y="38"/>
                </a:lnTo>
                <a:lnTo>
                  <a:pt x="26" y="34"/>
                </a:lnTo>
                <a:lnTo>
                  <a:pt x="23" y="32"/>
                </a:lnTo>
                <a:lnTo>
                  <a:pt x="21" y="28"/>
                </a:lnTo>
                <a:lnTo>
                  <a:pt x="17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5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56204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9591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244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2" y="34"/>
                </a:lnTo>
                <a:lnTo>
                  <a:pt x="2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16216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5588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2256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2" y="34"/>
                </a:lnTo>
                <a:lnTo>
                  <a:pt x="2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76228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5900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72268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36240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7591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2280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96252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35924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22560" y="3710160"/>
            <a:ext cx="8280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62640" y="3749760"/>
            <a:ext cx="10508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594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522680" y="3710160"/>
            <a:ext cx="8280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76252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15960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72292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36264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597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32304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96276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3594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92316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992120" y="3111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967160" y="3111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49160" y="4010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943520" y="4010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29840" y="40100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516640" y="4010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467240" y="3011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472160" y="3011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973160" y="4010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534760" y="4010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1300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3" y="73"/>
                </a:lnTo>
                <a:lnTo>
                  <a:pt x="10" y="54"/>
                </a:lnTo>
                <a:lnTo>
                  <a:pt x="21" y="35"/>
                </a:lnTo>
                <a:lnTo>
                  <a:pt x="37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7" y="168"/>
                </a:lnTo>
                <a:lnTo>
                  <a:pt x="21" y="153"/>
                </a:lnTo>
                <a:lnTo>
                  <a:pt x="10" y="136"/>
                </a:lnTo>
                <a:lnTo>
                  <a:pt x="3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01312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61288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21300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1312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41324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61348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21360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1372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41348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67C-A2AD-4E87-866D-EC9BA7223D9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1B4CD-FFB0-4F10-974F-7BF3083B63AB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 Consolid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2057400"/>
            <a:ext cx="9144000" cy="3276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56264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622840" y="3862440"/>
            <a:ext cx="14616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7" y="122"/>
                </a:lnTo>
                <a:lnTo>
                  <a:pt x="47" y="113"/>
                </a:lnTo>
                <a:lnTo>
                  <a:pt x="45" y="105"/>
                </a:lnTo>
                <a:lnTo>
                  <a:pt x="43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4" y="52"/>
                </a:lnTo>
                <a:lnTo>
                  <a:pt x="20" y="46"/>
                </a:lnTo>
                <a:lnTo>
                  <a:pt x="16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562640" y="37116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4603680" y="3662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4646520" y="361620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4686480" y="356508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4727520" y="351900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4770360" y="34682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4811760" y="342216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4851360" y="33764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4892760" y="332532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4935600" y="327960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4975200" y="3228480"/>
            <a:ext cx="205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5016600" y="3182400"/>
            <a:ext cx="2196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5057640" y="3136680"/>
            <a:ext cx="208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097600" y="3086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5140440" y="3039840"/>
            <a:ext cx="205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5181480" y="2989440"/>
            <a:ext cx="19080" cy="26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5222880" y="2943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5262480" y="2896920"/>
            <a:ext cx="223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5303880" y="28465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5346720" y="280008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388120" y="27493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5427720" y="27036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5468760" y="26575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5510160" y="26067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5553000" y="256068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5592600" y="2509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5634000" y="246384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5675400" y="24177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5715000" y="23670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5757840" y="232092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721480" y="2236680"/>
            <a:ext cx="126720" cy="181080"/>
          </a:xfrm>
          <a:custGeom>
            <a:avLst/>
            <a:gdLst/>
            <a:ahLst/>
            <a:rect l="l" t="t" r="r" b="b"/>
            <a:pathLst>
              <a:path w="80" h="114">
                <a:moveTo>
                  <a:pt x="0" y="23"/>
                </a:moveTo>
                <a:lnTo>
                  <a:pt x="80" y="0"/>
                </a:lnTo>
                <a:lnTo>
                  <a:pt x="43" y="114"/>
                </a:lnTo>
                <a:lnTo>
                  <a:pt x="43" y="107"/>
                </a:lnTo>
                <a:lnTo>
                  <a:pt x="42" y="101"/>
                </a:lnTo>
                <a:lnTo>
                  <a:pt x="41" y="95"/>
                </a:lnTo>
                <a:lnTo>
                  <a:pt x="39" y="88"/>
                </a:lnTo>
                <a:lnTo>
                  <a:pt x="37" y="82"/>
                </a:lnTo>
                <a:lnTo>
                  <a:pt x="35" y="76"/>
                </a:lnTo>
                <a:lnTo>
                  <a:pt x="33" y="69"/>
                </a:lnTo>
                <a:lnTo>
                  <a:pt x="30" y="63"/>
                </a:lnTo>
                <a:lnTo>
                  <a:pt x="27" y="57"/>
                </a:lnTo>
                <a:lnTo>
                  <a:pt x="25" y="53"/>
                </a:lnTo>
                <a:lnTo>
                  <a:pt x="22" y="49"/>
                </a:lnTo>
                <a:lnTo>
                  <a:pt x="19" y="42"/>
                </a:lnTo>
                <a:lnTo>
                  <a:pt x="15" y="38"/>
                </a:lnTo>
                <a:lnTo>
                  <a:pt x="11" y="34"/>
                </a:lnTo>
                <a:lnTo>
                  <a:pt x="8" y="30"/>
                </a:lnTo>
                <a:lnTo>
                  <a:pt x="4" y="28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3919680" y="2329920"/>
            <a:ext cx="1204920" cy="140508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59440" y="2236680"/>
            <a:ext cx="145800" cy="206640"/>
          </a:xfrm>
          <a:custGeom>
            <a:avLst/>
            <a:gdLst/>
            <a:ahLst/>
            <a:rect l="l" t="t" r="r" b="b"/>
            <a:pathLst>
              <a:path w="92" h="130">
                <a:moveTo>
                  <a:pt x="0" y="28"/>
                </a:moveTo>
                <a:lnTo>
                  <a:pt x="92" y="0"/>
                </a:lnTo>
                <a:lnTo>
                  <a:pt x="50" y="130"/>
                </a:lnTo>
                <a:lnTo>
                  <a:pt x="50" y="122"/>
                </a:lnTo>
                <a:lnTo>
                  <a:pt x="49" y="116"/>
                </a:lnTo>
                <a:lnTo>
                  <a:pt x="46" y="107"/>
                </a:lnTo>
                <a:lnTo>
                  <a:pt x="45" y="101"/>
                </a:lnTo>
                <a:lnTo>
                  <a:pt x="43" y="93"/>
                </a:lnTo>
                <a:lnTo>
                  <a:pt x="41" y="86"/>
                </a:lnTo>
                <a:lnTo>
                  <a:pt x="38" y="80"/>
                </a:lnTo>
                <a:lnTo>
                  <a:pt x="35" y="74"/>
                </a:lnTo>
                <a:lnTo>
                  <a:pt x="31" y="65"/>
                </a:lnTo>
                <a:lnTo>
                  <a:pt x="28" y="61"/>
                </a:lnTo>
                <a:lnTo>
                  <a:pt x="24" y="55"/>
                </a:lnTo>
                <a:lnTo>
                  <a:pt x="22" y="49"/>
                </a:lnTo>
                <a:lnTo>
                  <a:pt x="18" y="44"/>
                </a:lnTo>
                <a:lnTo>
                  <a:pt x="14" y="38"/>
                </a:lnTo>
                <a:lnTo>
                  <a:pt x="10" y="34"/>
                </a:lnTo>
                <a:lnTo>
                  <a:pt x="6" y="3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1990800" y="5210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2033640" y="51606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075040" y="51148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117880" y="5067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2157480" y="50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2198520" y="497376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2241720" y="492408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2282760" y="487836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2325600" y="483084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2365200" y="4784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2406600" y="47386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244944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490840" y="46418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2533680" y="45943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257328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261468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2657520" y="44510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698920" y="44053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2741760" y="43578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781360" y="43117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2822400" y="426564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2865600" y="421452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2905200" y="4168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2948040" y="41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2989440" y="40752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3030480" y="40291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307332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12920" y="3941640"/>
            <a:ext cx="1296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06864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1" y="92"/>
                </a:lnTo>
                <a:lnTo>
                  <a:pt x="39" y="86"/>
                </a:lnTo>
                <a:lnTo>
                  <a:pt x="36" y="80"/>
                </a:lnTo>
                <a:lnTo>
                  <a:pt x="35" y="73"/>
                </a:lnTo>
                <a:lnTo>
                  <a:pt x="32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2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134784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408400" y="3862440"/>
            <a:ext cx="14580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8" y="122"/>
                </a:lnTo>
                <a:lnTo>
                  <a:pt x="48" y="113"/>
                </a:lnTo>
                <a:lnTo>
                  <a:pt x="45" y="105"/>
                </a:lnTo>
                <a:lnTo>
                  <a:pt x="43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5" y="52"/>
                </a:lnTo>
                <a:lnTo>
                  <a:pt x="21" y="46"/>
                </a:lnTo>
                <a:lnTo>
                  <a:pt x="16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704880" y="5210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747720" y="51606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789120" y="51148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831960" y="5067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871560" y="50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912960" y="497376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955800" y="4924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996840" y="487836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1039680" y="483084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1079640" y="478476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1120680" y="47386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116352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204920" y="46418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1247760" y="45943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128736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132876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1371600" y="44510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1413000" y="44053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1455840" y="43578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1495440" y="43117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1536840" y="42656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579680" y="42145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1620720" y="41688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1663560" y="4121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1703520" y="40752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1744560" y="40291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178740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1827360" y="3941640"/>
            <a:ext cx="140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78272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1" y="92"/>
                </a:lnTo>
                <a:lnTo>
                  <a:pt x="39" y="86"/>
                </a:lnTo>
                <a:lnTo>
                  <a:pt x="37" y="80"/>
                </a:lnTo>
                <a:lnTo>
                  <a:pt x="35" y="73"/>
                </a:lnTo>
                <a:lnTo>
                  <a:pt x="33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2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6192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122480" y="3862440"/>
            <a:ext cx="14580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8" y="122"/>
                </a:lnTo>
                <a:lnTo>
                  <a:pt x="48" y="113"/>
                </a:lnTo>
                <a:lnTo>
                  <a:pt x="45" y="105"/>
                </a:lnTo>
                <a:lnTo>
                  <a:pt x="44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5" y="52"/>
                </a:lnTo>
                <a:lnTo>
                  <a:pt x="21" y="46"/>
                </a:lnTo>
                <a:lnTo>
                  <a:pt x="17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7777080" y="37116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7816680" y="3662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7859880" y="361620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7900920" y="3565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7942320" y="351900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7985160" y="34682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8024760" y="3422160"/>
            <a:ext cx="223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8066160" y="33764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8107200" y="3325320"/>
            <a:ext cx="2088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8150400" y="3279600"/>
            <a:ext cx="187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8190000" y="32284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8231040" y="3182400"/>
            <a:ext cx="2088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8272440" y="3136680"/>
            <a:ext cx="205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8312040" y="3086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8354880" y="303984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8396280" y="2989440"/>
            <a:ext cx="19080" cy="26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8437680" y="2943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8477280" y="2896920"/>
            <a:ext cx="223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8518680" y="28465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8561520" y="280008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8601120" y="2749320"/>
            <a:ext cx="205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8642520" y="27036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8683560" y="26575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8723160" y="2606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8766000" y="25606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8807400" y="2509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8848800" y="246384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8888400" y="241776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8929800" y="23670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8972640" y="232092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935920" y="2236680"/>
            <a:ext cx="127080" cy="181080"/>
          </a:xfrm>
          <a:custGeom>
            <a:avLst/>
            <a:gdLst/>
            <a:ahLst/>
            <a:rect l="l" t="t" r="r" b="b"/>
            <a:pathLst>
              <a:path w="80" h="114">
                <a:moveTo>
                  <a:pt x="0" y="23"/>
                </a:moveTo>
                <a:lnTo>
                  <a:pt x="80" y="0"/>
                </a:lnTo>
                <a:lnTo>
                  <a:pt x="43" y="114"/>
                </a:lnTo>
                <a:lnTo>
                  <a:pt x="43" y="107"/>
                </a:lnTo>
                <a:lnTo>
                  <a:pt x="42" y="101"/>
                </a:lnTo>
                <a:lnTo>
                  <a:pt x="41" y="95"/>
                </a:lnTo>
                <a:lnTo>
                  <a:pt x="39" y="88"/>
                </a:lnTo>
                <a:lnTo>
                  <a:pt x="37" y="82"/>
                </a:lnTo>
                <a:lnTo>
                  <a:pt x="35" y="76"/>
                </a:lnTo>
                <a:lnTo>
                  <a:pt x="32" y="69"/>
                </a:lnTo>
                <a:lnTo>
                  <a:pt x="30" y="63"/>
                </a:lnTo>
                <a:lnTo>
                  <a:pt x="27" y="57"/>
                </a:lnTo>
                <a:lnTo>
                  <a:pt x="24" y="53"/>
                </a:lnTo>
                <a:lnTo>
                  <a:pt x="22" y="49"/>
                </a:lnTo>
                <a:lnTo>
                  <a:pt x="19" y="42"/>
                </a:lnTo>
                <a:lnTo>
                  <a:pt x="15" y="38"/>
                </a:lnTo>
                <a:lnTo>
                  <a:pt x="11" y="34"/>
                </a:lnTo>
                <a:lnTo>
                  <a:pt x="8" y="30"/>
                </a:lnTo>
                <a:lnTo>
                  <a:pt x="4" y="28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7134120" y="2329920"/>
            <a:ext cx="1203480" cy="140508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8273880" y="2236680"/>
            <a:ext cx="146160" cy="206640"/>
          </a:xfrm>
          <a:custGeom>
            <a:avLst/>
            <a:gdLst/>
            <a:ahLst/>
            <a:rect l="l" t="t" r="r" b="b"/>
            <a:pathLst>
              <a:path w="92" h="130">
                <a:moveTo>
                  <a:pt x="0" y="28"/>
                </a:moveTo>
                <a:lnTo>
                  <a:pt x="92" y="0"/>
                </a:lnTo>
                <a:lnTo>
                  <a:pt x="50" y="130"/>
                </a:lnTo>
                <a:lnTo>
                  <a:pt x="50" y="122"/>
                </a:lnTo>
                <a:lnTo>
                  <a:pt x="49" y="116"/>
                </a:lnTo>
                <a:lnTo>
                  <a:pt x="46" y="107"/>
                </a:lnTo>
                <a:lnTo>
                  <a:pt x="44" y="101"/>
                </a:lnTo>
                <a:lnTo>
                  <a:pt x="43" y="93"/>
                </a:lnTo>
                <a:lnTo>
                  <a:pt x="40" y="86"/>
                </a:lnTo>
                <a:lnTo>
                  <a:pt x="38" y="80"/>
                </a:lnTo>
                <a:lnTo>
                  <a:pt x="35" y="74"/>
                </a:lnTo>
                <a:lnTo>
                  <a:pt x="31" y="65"/>
                </a:lnTo>
                <a:lnTo>
                  <a:pt x="28" y="61"/>
                </a:lnTo>
                <a:lnTo>
                  <a:pt x="24" y="55"/>
                </a:lnTo>
                <a:lnTo>
                  <a:pt x="22" y="49"/>
                </a:lnTo>
                <a:lnTo>
                  <a:pt x="17" y="44"/>
                </a:lnTo>
                <a:lnTo>
                  <a:pt x="13" y="38"/>
                </a:lnTo>
                <a:lnTo>
                  <a:pt x="9" y="34"/>
                </a:lnTo>
                <a:lnTo>
                  <a:pt x="5" y="3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205240" y="5210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248440" y="516060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289480" y="51148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5332320" y="506736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5372280" y="5021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5413320" y="49737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5456160" y="4924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5495760" y="487836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5538960" y="483084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5580000" y="4784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5621400" y="47386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566424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703840" y="46418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5746680" y="45943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578808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582948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5872320" y="445104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5911920" y="440532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5954760" y="4357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996160" y="431172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6037200" y="426564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6080040" y="42145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6119640" y="4168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6162840" y="4121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6203880" y="40752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6245280" y="40291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628812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6327720" y="3941640"/>
            <a:ext cx="1260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28344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0" y="92"/>
                </a:lnTo>
                <a:lnTo>
                  <a:pt x="39" y="86"/>
                </a:lnTo>
                <a:lnTo>
                  <a:pt x="36" y="80"/>
                </a:lnTo>
                <a:lnTo>
                  <a:pt x="35" y="73"/>
                </a:lnTo>
                <a:lnTo>
                  <a:pt x="32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1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4784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93356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30500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7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7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99080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57652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94796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7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7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63376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21948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59092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27672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86244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23388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91968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503600" y="3646440"/>
            <a:ext cx="5904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7684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84820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43248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80536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9116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07544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4832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2" y="57"/>
                </a:lnTo>
                <a:lnTo>
                  <a:pt x="52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2" y="23"/>
                </a:lnTo>
                <a:lnTo>
                  <a:pt x="52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3412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71840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09128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2" y="57"/>
                </a:lnTo>
                <a:lnTo>
                  <a:pt x="52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2" y="23"/>
                </a:lnTo>
                <a:lnTo>
                  <a:pt x="52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022360" y="2670120"/>
            <a:ext cx="110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208720" y="26701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75920" y="416880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968720" y="416880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97640" y="416880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584680" y="416880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459320" y="250344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679880" y="250344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688000" y="3613320"/>
            <a:ext cx="2249640" cy="249120"/>
          </a:xfrm>
          <a:prstGeom prst="rect">
            <a:avLst/>
          </a:prstGeom>
          <a:solidFill>
            <a:srgbClr val="1a1a1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722840" y="3735360"/>
            <a:ext cx="9651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62932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187280" y="3613320"/>
            <a:ext cx="3535560" cy="249120"/>
          </a:xfrm>
          <a:prstGeom prst="rect">
            <a:avLst/>
          </a:prstGeom>
          <a:solidFill>
            <a:srgbClr val="1a1a1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761840" y="416880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388960" y="4168800"/>
            <a:ext cx="307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43E-1A08-4534-BD44-43740D45EB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DFB06-7FD0-4C5A-B079-C0086AF80980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light Networks and Shortest Path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rtest paths on flight networks correspond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cost itineraries for passeng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profit aircraft ro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cost crew work schedules (on crew-feasible paths onl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rtant to be able to determine shortest paths in fligh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C44-8C06-42F8-BB7F-F2A5F85954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FF7DA-6602-48B2-AB44-01840E097C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hortest Path Challenges in Flight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networks are larg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ousands of flight arcs and ground arcs; thousands of flight arcs and tens of thousands connection ar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many airline optimization problems,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repeatedl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find shortest path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consider only “feasible” paths when determining 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y time” (not “arrival time”) of flight arrival nodes ensures feasibility of aircraft ro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asible crew work schedules correspond to a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et of possible network path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ntify the shortest “feasible” paths (i.e.,  feasible work schedules) using multi-label shortest path algorith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109-27F2-4C14-B0D3-823E889CC6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3FE47-DC29-4EEA-92B7-62703EF266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191124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444760" y="3892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0196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835280" y="4807080"/>
            <a:ext cx="21564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368440" y="5035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901960" y="47307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2133720" y="4038120"/>
            <a:ext cx="30456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666880" y="4038480"/>
            <a:ext cx="22860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2590920" y="4952880"/>
            <a:ext cx="38088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2057040" y="4952880"/>
            <a:ext cx="30492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1905120" y="4419720"/>
            <a:ext cx="7596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58520" y="2666880"/>
            <a:ext cx="197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clic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626240" y="45021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815976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8616960" y="45021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550280" y="511164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083440" y="5340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8616960" y="5035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7848720" y="434304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8381880" y="43434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8763120" y="4724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8305920" y="525780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 flipV="1">
            <a:off x="7772040" y="5257440"/>
            <a:ext cx="30492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7620120" y="4723920"/>
            <a:ext cx="7596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025600" y="2362320"/>
            <a:ext cx="208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yclic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44560" y="54165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645160" y="29019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578480" y="3435480"/>
            <a:ext cx="21564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940440" y="34354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397640" y="4121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330960" y="34354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149480" y="587376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530360" y="5264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111640" y="4121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673360" y="58737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1066680" y="5410080"/>
            <a:ext cx="45720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1294920" y="5486400"/>
            <a:ext cx="30492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H="1" flipV="1">
            <a:off x="990360" y="5638320"/>
            <a:ext cx="15228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752480" y="5410080"/>
            <a:ext cx="91440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289548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800600" y="3048120"/>
            <a:ext cx="83808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800600" y="358128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800600" y="36576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867280" y="297180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867280" y="304812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53080" y="35812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7162920" y="3123720"/>
            <a:ext cx="45720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5334120" y="3657600"/>
            <a:ext cx="99036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334120" y="419112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162920" y="35812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7543800" y="3124080"/>
            <a:ext cx="15228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920880" y="3359160"/>
            <a:ext cx="21564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225440" y="38163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606680" y="3206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1143000" y="3352680"/>
            <a:ext cx="45720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1371240" y="3429000"/>
            <a:ext cx="30492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 flipV="1">
            <a:off x="1066680" y="3580920"/>
            <a:ext cx="15264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25840" y="488304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730760" y="534024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111640" y="47307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4648320" y="4800240"/>
            <a:ext cx="4572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510552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4876920" y="4952520"/>
            <a:ext cx="3045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483240" y="47307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873760" y="52642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492880" y="57214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71184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93080" y="52642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10236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39764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705720" y="48769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6095520" y="4876920"/>
            <a:ext cx="38124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5714640" y="54100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95880" y="54100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6933960" y="54100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315200" y="54864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cyclic Directed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-line and Connection networks are acyclic directed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A16-706C-4E1F-BFD7-8D4AB7D0FC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FF814-889E-4E8B-A56D-E61C204A08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cyclic Networks and Shortest Path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icient algorithms exist for finding shortest paths on acyclic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ount of work is directly proportional to the number of arcs in the networ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ological ordering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 a network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l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its nu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nodes of a networ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e topologically ordered if for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, n(j) &lt; n(k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921-2DDA-4B69-AE02-93224A3773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3ACB5-4AC2-425A-89E4-76DBE953F8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073160" y="28256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606680" y="2521080"/>
            <a:ext cx="21564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063880" y="282564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996840" y="34354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530360" y="36640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063880" y="335916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1295280" y="266652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828800" y="26668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752120" y="3581280"/>
            <a:ext cx="38124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 flipV="1">
            <a:off x="1219320" y="3581280"/>
            <a:ext cx="30456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1066680" y="3048120"/>
            <a:ext cx="7632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568840" y="25210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502160" y="305424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864480" y="30542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321680" y="37400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254640" y="305424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035680" y="37400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473960" y="25210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4724280" y="2666880"/>
            <a:ext cx="83844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724280" y="3200400"/>
            <a:ext cx="152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724280" y="32767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791320" y="2590920"/>
            <a:ext cx="1752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791320" y="266688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477120" y="32004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7086600" y="274320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5257800" y="3276360"/>
            <a:ext cx="9907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257800" y="380988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086600" y="32004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7467480" y="2743200"/>
            <a:ext cx="15264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530360" y="45021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920880" y="50356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3964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75896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139840" y="50356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149480" y="5492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44476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752480" y="46483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1143000" y="464832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761760" y="51814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143000" y="51814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1981080" y="518148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362320" y="52578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52280" y="27892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58544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042640" y="27892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975960" y="33987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509480" y="3627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042640" y="3322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48128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014440" y="37036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54796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23376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4324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300440" y="37036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45308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509480" y="4465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118960" y="499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42388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73808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12824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1876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99640" y="499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873760" y="49593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264280" y="5492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88304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10236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48324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492880" y="59500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8816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095880" y="51055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5486400" y="510552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5105160" y="56386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486400" y="56386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324480" y="563868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705720" y="57150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852880" y="49230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46236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76728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08148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47164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6216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24304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pological Orde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4952880" y="274320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5029200" y="30481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800600" y="342900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5334120" y="35053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5867280" y="365760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5791320" y="274320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6172200" y="24382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6477120" y="31240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7086600" y="28195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7010280" y="327672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7391520" y="31240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A0C-D129-4AA7-8930-A19519A64B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C2D05-F3A7-435C-8727-C884D1BE3F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gn-up Sh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llab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chedule Planning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-line net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nection net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-label Shortest Paths on 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9FE-9F2A-4231-A45D-915F053AAD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2765A-CCD6-4F8B-81A6-902ACF3A40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pological Ordering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n acyclic graph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, let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= 1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(j)=0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eat until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=|N|+1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wher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|N|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number of nodes i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ny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no incoming arcs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(j) = 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(j) =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lete all arcs outgoing from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0EB-EDBE-452D-B46E-36EBBDBAED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5D57E-04A6-4F38-A9A5-5DA6D61649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6192720" y="3835440"/>
            <a:ext cx="169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162240" y="383544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71680" y="3606840"/>
            <a:ext cx="42516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243160" y="61545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5328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719440" y="360216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748480" y="3621240"/>
            <a:ext cx="42516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56732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69056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881840" y="365904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28164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442880" y="36399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865080" y="1843200"/>
            <a:ext cx="876240" cy="179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065320" y="1900080"/>
            <a:ext cx="819000" cy="171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2674800" y="1861920"/>
            <a:ext cx="3676680" cy="447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170160" y="3843360"/>
            <a:ext cx="144792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4923000" y="3995280"/>
            <a:ext cx="933120" cy="217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779480" y="4052880"/>
            <a:ext cx="647640" cy="20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732720" y="1690560"/>
            <a:ext cx="125712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180120" y="3824280"/>
            <a:ext cx="1200240" cy="232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01200" y="3618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72512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4587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285640" y="6172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773080" y="3598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601880" y="6113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8021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31620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87840" y="6132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878240" y="3675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rot="17880000">
            <a:off x="837720" y="2586960"/>
            <a:ext cx="48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rot="21540000">
            <a:off x="936000" y="34970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rot="3420000">
            <a:off x="3341160" y="397656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rot="4260000">
            <a:off x="1859400" y="435708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rot="3360000">
            <a:off x="7122600" y="2109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rot="3660000">
            <a:off x="2328120" y="21924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21540000">
            <a:off x="5799960" y="602748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rot="21540000">
            <a:off x="3317040" y="60210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21540000">
            <a:off x="6724080" y="3522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rot="21540000">
            <a:off x="3558240" y="34682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21540000">
            <a:off x="1948680" y="35100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rot="21540000">
            <a:off x="3815640" y="13604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rot="3420000">
            <a:off x="6557400" y="43196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rot="18480000">
            <a:off x="4954680" y="26096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rot="17880000">
            <a:off x="4999320" y="4620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133720" y="1676520"/>
            <a:ext cx="41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44640" y="3835440"/>
            <a:ext cx="48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879560" y="3835440"/>
            <a:ext cx="83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693880" y="6327720"/>
            <a:ext cx="188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014800" y="6327720"/>
            <a:ext cx="2235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4" name=""/>
          <p:cNvSpPr/>
          <p:nvPr/>
        </p:nvSpPr>
        <p:spPr>
          <a:xfrm>
            <a:off x="421920" y="314964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6019920"/>
            <a:ext cx="212580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n(j):  l(j), p(j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298160" y="1066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450800" y="320040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136600" y="5638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898360" y="31240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422600" y="548640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565600" y="31240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175080" y="99072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546680" y="5638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927200" y="3124080"/>
            <a:ext cx="89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808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295280" y="10666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10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447920" y="3200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0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172200" y="99072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10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8954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11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8954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0,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13372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: 1,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72200" y="99072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2,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419720" y="5486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1,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562720" y="31240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419720" y="5486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562720" y="31240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54380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1,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924680" y="3124080"/>
            <a:ext cx="9144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1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54380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1,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124080"/>
            <a:ext cx="9144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1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746-E310-4012-BF97-0AFF0C5201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2C08C-F999-4458-B5D7-4371A8B725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hortest Path Algorithm for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cyclic grap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note the length of the shortest path to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, p(j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note the predecessor nod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the shortest path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(jk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st of arc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j)=infin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=1, and 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1)= 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(1)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&lt;|N|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(j) = 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(k)=min(l(k), l(j)+c(jk)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4672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(k)=l(j)+c(jk)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(k)=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365-2334-49E9-A75E-77F14C4A10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CEF59-6D8C-4F37-98CE-8EB8B9BC5D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ltiple Label (Constrained) Shortest Paths on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 the objective of finding the minimum cost path with flying time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less than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pecified valu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labe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the flying time on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labe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the cost of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for an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paths wi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&lt; F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any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re considered (the rest are exclude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label set must be maintained at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non-dominated path to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dominated by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&gt; 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&gt; 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not dominated by any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,  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non-dominated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the worst case, a label set is maintained at each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 each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o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AFB-C9F4-4565-A98C-A42AEB3149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E4AE9-9602-4311-AE1B-F8B7A2316E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strained Shortest Paths and Crew Schedul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sets are used to ensure that the shortest path is a “feasible”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bels are used to count the number of work hours in a day, the number of hours a crew is away from their home base, the number of flights in a given day, the number of hours rest in a 24 hour period, etc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ome applications, there are over 2 dozen labels in a label s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paths ar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n-domin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onential growth in the number of label sets (one set for each non-dominated path) at each n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59A-B35E-44BD-B66F-C50577AC23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8BE7B-23F4-4EB2-BB16-63B847F3FF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6192720" y="3835440"/>
            <a:ext cx="169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162240" y="383544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71680" y="3606840"/>
            <a:ext cx="42516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243160" y="61545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25328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719440" y="360216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48480" y="3621240"/>
            <a:ext cx="42516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56732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9056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881840" y="365904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28164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442880" y="36399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865080" y="1843200"/>
            <a:ext cx="876240" cy="179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065320" y="1900080"/>
            <a:ext cx="819000" cy="171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2674800" y="1861920"/>
            <a:ext cx="3676680" cy="447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70160" y="3843360"/>
            <a:ext cx="144792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4923000" y="3995280"/>
            <a:ext cx="933120" cy="217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779480" y="4052880"/>
            <a:ext cx="647640" cy="20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732720" y="1690560"/>
            <a:ext cx="125712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80120" y="3824280"/>
            <a:ext cx="1200240" cy="232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01200" y="3618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72512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4587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285640" y="6172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773080" y="3598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601880" y="6113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8021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31620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287840" y="6132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878240" y="3675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rot="17880000">
            <a:off x="789840" y="2507760"/>
            <a:ext cx="66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0, 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rot="21540000">
            <a:off x="936000" y="3497400"/>
            <a:ext cx="52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rot="3420000">
            <a:off x="3297960" y="4051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rot="4260000">
            <a:off x="1846440" y="4474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rot="3360000">
            <a:off x="7080480" y="218412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rot="3660000">
            <a:off x="2280240" y="22683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21540000">
            <a:off x="5800680" y="60278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rot="21540000">
            <a:off x="3317760" y="60213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rot="21540000">
            <a:off x="6723000" y="35226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21540000">
            <a:off x="3558960" y="34686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21540000">
            <a:off x="1947600" y="35100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rot="21540000">
            <a:off x="3814560" y="1360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rot="3420000">
            <a:off x="6514200" y="43941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rot="18480000">
            <a:off x="4919760" y="25362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rot="17880000">
            <a:off x="4951440" y="45410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133720" y="1676520"/>
            <a:ext cx="41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944640" y="3835440"/>
            <a:ext cx="48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879560" y="3835440"/>
            <a:ext cx="83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693880" y="6327720"/>
            <a:ext cx="188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014800" y="6327720"/>
            <a:ext cx="2235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8" name=""/>
          <p:cNvSpPr/>
          <p:nvPr/>
        </p:nvSpPr>
        <p:spPr>
          <a:xfrm>
            <a:off x="108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0" y="6095880"/>
            <a:ext cx="2133720" cy="33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: l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l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p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pp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296360" y="1066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449000" y="320040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134800" y="5638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420800" y="548640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56380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173280" y="99072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544880" y="5638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80984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, 0,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295280" y="10666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0, 0, 1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47920" y="3200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, 1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172200" y="99072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0, 1, 2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1, 1, 2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1, 3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133720" y="5638680"/>
            <a:ext cx="144756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1, 3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172200" y="6094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2, 3, 4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419720" y="5486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4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56272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419720" y="5486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56272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543800" y="56386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6, 6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77240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7, 7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7543800" y="51814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2, 4, 7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7772400" y="259092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11, 6, 8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772400" y="1981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3, 8, 8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5715000"/>
            <a:ext cx="213372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Max value of label 2 =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7620120" y="1905120"/>
            <a:ext cx="93348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feas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7772400" y="2362320"/>
            <a:ext cx="100980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inat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6FB-AFB8-4ACB-8DD4-671B852385E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6573C-99F6-41BD-988C-474F083EA0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nstrained Shortest Path Notation for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cyclic grap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value of label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.g., length, flying time, etc.)  on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predecessor node for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predecessor label set for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(j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cost of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maximum possible number of non-dominated label sets at any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p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number of non-dominated label sets for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062-816E-4E50-AA52-E73969CD22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05F7E-F8F5-4804-93EC-CD1A8B2347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strained Shortest Path Algorithm for Acyclic Network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 = 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infin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p(j)=0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=1 and 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p(1)=1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 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&lt;|N|+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(i) = 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non-domina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70760" indent="-16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p(j)= np(j)+1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i, p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014120" indent="-162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=l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(i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c(ij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770760" indent="-16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&gt;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s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som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=1,..,np(j)-1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n dominated and 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p(j)= np(j)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874-9A06-4578-9002-1EDC695DF2A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DFE40-8C75-4D86-9A3D-267CC1E063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1440" y="461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359000" y="461880"/>
            <a:ext cx="6021000" cy="5488200"/>
            <a:chOff x="1359000" y="461880"/>
            <a:chExt cx="6021000" cy="5488200"/>
          </a:xfrm>
        </p:grpSpPr>
        <p:grpSp>
          <p:nvGrpSpPr>
            <p:cNvPr id="57" name=""/>
            <p:cNvGrpSpPr/>
            <p:nvPr/>
          </p:nvGrpSpPr>
          <p:grpSpPr>
            <a:xfrm>
              <a:off x="1359000" y="461880"/>
              <a:ext cx="6018480" cy="5487120"/>
              <a:chOff x="1359000" y="461880"/>
              <a:chExt cx="6018480" cy="5487120"/>
            </a:xfrm>
          </p:grpSpPr>
          <p:sp>
            <p:nvSpPr>
              <p:cNvPr id="58" name=""/>
              <p:cNvSpPr/>
              <p:nvPr/>
            </p:nvSpPr>
            <p:spPr>
              <a:xfrm>
                <a:off x="1359000" y="461880"/>
                <a:ext cx="6018480" cy="1047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59000" y="566640"/>
                <a:ext cx="6018480" cy="1047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59000" y="671400"/>
                <a:ext cx="6018480" cy="106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59000" y="778320"/>
                <a:ext cx="6018480" cy="104760"/>
              </a:xfrm>
              <a:prstGeom prst="rect">
                <a:avLst/>
              </a:prstGeom>
              <a:solidFill>
                <a:srgbClr val="9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359000" y="883080"/>
                <a:ext cx="6018480" cy="105840"/>
              </a:xfrm>
              <a:prstGeom prst="rect">
                <a:avLst/>
              </a:prstGeom>
              <a:solidFill>
                <a:srgbClr val="9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59000" y="988920"/>
                <a:ext cx="6018480" cy="104760"/>
              </a:xfrm>
              <a:prstGeom prst="rect">
                <a:avLst/>
              </a:prstGeom>
              <a:solidFill>
                <a:srgbClr val="9b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59000" y="1094040"/>
                <a:ext cx="6018480" cy="106920"/>
              </a:xfrm>
              <a:prstGeom prst="rect">
                <a:avLst/>
              </a:prstGeom>
              <a:solidFill>
                <a:srgbClr val="9b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59000" y="1200960"/>
                <a:ext cx="6018480" cy="104760"/>
              </a:xfrm>
              <a:prstGeom prst="rect">
                <a:avLst/>
              </a:prstGeom>
              <a:solidFill>
                <a:srgbClr val="9c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59000" y="1305720"/>
                <a:ext cx="6018480" cy="104760"/>
              </a:xfrm>
              <a:prstGeom prst="rect">
                <a:avLst/>
              </a:prstGeom>
              <a:solidFill>
                <a:srgbClr val="9c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59000" y="1410840"/>
                <a:ext cx="6018480" cy="105840"/>
              </a:xfrm>
              <a:prstGeom prst="rect">
                <a:avLst/>
              </a:prstGeom>
              <a:solidFill>
                <a:srgbClr val="9d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59000" y="1516680"/>
                <a:ext cx="6018480" cy="105840"/>
              </a:xfrm>
              <a:prstGeom prst="rect">
                <a:avLst/>
              </a:prstGeom>
              <a:solidFill>
                <a:srgbClr val="9e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59000" y="1622520"/>
                <a:ext cx="6018480" cy="105840"/>
              </a:xfrm>
              <a:prstGeom prst="rect">
                <a:avLst/>
              </a:prstGeom>
              <a:solidFill>
                <a:srgbClr val="9f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59000" y="1728720"/>
                <a:ext cx="6018480" cy="104760"/>
              </a:xfrm>
              <a:prstGeom prst="rect">
                <a:avLst/>
              </a:prstGeom>
              <a:solidFill>
                <a:srgbClr val="a0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59000" y="1833480"/>
                <a:ext cx="6018480" cy="104760"/>
              </a:xfrm>
              <a:prstGeom prst="rect">
                <a:avLst/>
              </a:prstGeom>
              <a:solidFill>
                <a:srgbClr val="a1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59000" y="1938240"/>
                <a:ext cx="6018480" cy="105840"/>
              </a:xfrm>
              <a:prstGeom prst="rect">
                <a:avLst/>
              </a:prstGeom>
              <a:solidFill>
                <a:srgbClr val="a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59000" y="2044080"/>
                <a:ext cx="6018480" cy="105840"/>
              </a:xfrm>
              <a:prstGeom prst="rect">
                <a:avLst/>
              </a:prstGeom>
              <a:solidFill>
                <a:srgbClr val="a4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59000" y="2150280"/>
                <a:ext cx="6018480" cy="105840"/>
              </a:xfrm>
              <a:prstGeom prst="rect">
                <a:avLst/>
              </a:prstGeom>
              <a:solidFill>
                <a:srgbClr val="a5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59000" y="2256120"/>
                <a:ext cx="6018480" cy="104760"/>
              </a:xfrm>
              <a:prstGeom prst="rect">
                <a:avLst/>
              </a:pr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59000" y="2360880"/>
                <a:ext cx="6018480" cy="104760"/>
              </a:xfrm>
              <a:prstGeom prst="rect">
                <a:avLst/>
              </a:prstGeom>
              <a:solidFill>
                <a:srgbClr val="a8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59000" y="2466000"/>
                <a:ext cx="6018480" cy="106920"/>
              </a:xfrm>
              <a:prstGeom prst="rect">
                <a:avLst/>
              </a:prstGeom>
              <a:solidFill>
                <a:srgbClr val="a9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59000" y="2572920"/>
                <a:ext cx="6018480" cy="104760"/>
              </a:xfrm>
              <a:prstGeom prst="rect">
                <a:avLst/>
              </a:prstGeom>
              <a:solidFill>
                <a:srgbClr val="ab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359000" y="2677680"/>
                <a:ext cx="6018480" cy="104760"/>
              </a:xfrm>
              <a:prstGeom prst="rect">
                <a:avLst/>
              </a:prstGeom>
              <a:solidFill>
                <a:srgbClr val="ac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59000" y="2782800"/>
                <a:ext cx="6018480" cy="105840"/>
              </a:xfrm>
              <a:prstGeom prst="rect">
                <a:avLst/>
              </a:prstGeom>
              <a:solidFill>
                <a:srgbClr val="ae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59000" y="2888640"/>
                <a:ext cx="6018480" cy="105840"/>
              </a:xfrm>
              <a:prstGeom prst="rect">
                <a:avLst/>
              </a:prstGeom>
              <a:solidFill>
                <a:srgbClr val="b0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359000" y="2994480"/>
                <a:ext cx="6018480" cy="105840"/>
              </a:xfrm>
              <a:prstGeom prst="rect">
                <a:avLst/>
              </a:prstGeom>
              <a:solidFill>
                <a:srgbClr val="b1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359000" y="3100680"/>
                <a:ext cx="6018480" cy="104760"/>
              </a:xfrm>
              <a:prstGeom prst="rect">
                <a:avLst/>
              </a:prstGeom>
              <a:solidFill>
                <a:srgbClr val="b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59000" y="3205440"/>
                <a:ext cx="6018480" cy="104760"/>
              </a:xfrm>
              <a:prstGeom prst="rect">
                <a:avLst/>
              </a:prstGeom>
              <a:solidFill>
                <a:srgbClr val="b5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59000" y="3310200"/>
                <a:ext cx="6018480" cy="105840"/>
              </a:xfrm>
              <a:prstGeom prst="rect">
                <a:avLst/>
              </a:prstGeom>
              <a:solidFill>
                <a:srgbClr val="b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59000" y="3416040"/>
                <a:ext cx="6018480" cy="105840"/>
              </a:xfrm>
              <a:prstGeom prst="rect">
                <a:avLst/>
              </a:prstGeom>
              <a:solidFill>
                <a:srgbClr val="b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59000" y="3522240"/>
                <a:ext cx="6018480" cy="105840"/>
              </a:xfrm>
              <a:prstGeom prst="rect">
                <a:avLst/>
              </a:prstGeom>
              <a:solidFill>
                <a:srgbClr val="b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59000" y="3628080"/>
                <a:ext cx="6018480" cy="104760"/>
              </a:xfrm>
              <a:prstGeom prst="rect">
                <a:avLst/>
              </a:prstGeom>
              <a:solidFill>
                <a:srgbClr val="b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359000" y="3732840"/>
                <a:ext cx="6018480" cy="104760"/>
              </a:xfrm>
              <a:prstGeom prst="rect">
                <a:avLst/>
              </a:prstGeom>
              <a:solidFill>
                <a:srgbClr val="b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359000" y="3837600"/>
                <a:ext cx="6018480" cy="106920"/>
              </a:xfrm>
              <a:prstGeom prst="rect">
                <a:avLst/>
              </a:prstGeom>
              <a:solidFill>
                <a:srgbClr val="be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59000" y="3944520"/>
                <a:ext cx="6018480" cy="104760"/>
              </a:xfrm>
              <a:prstGeom prst="rect">
                <a:avLst/>
              </a:prstGeom>
              <a:solidFill>
                <a:srgbClr val="bf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59000" y="4049280"/>
                <a:ext cx="6018480" cy="104760"/>
              </a:xfrm>
              <a:prstGeom prst="rect">
                <a:avLst/>
              </a:prstGeom>
              <a:solidFill>
                <a:srgbClr val="c0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359000" y="4154400"/>
                <a:ext cx="6018480" cy="105840"/>
              </a:xfrm>
              <a:prstGeom prst="rect">
                <a:avLst/>
              </a:prstGeom>
              <a:solidFill>
                <a:srgbClr val="c1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59000" y="4260240"/>
                <a:ext cx="6018480" cy="105840"/>
              </a:xfrm>
              <a:prstGeom prst="rect">
                <a:avLst/>
              </a:prstGeom>
              <a:solidFill>
                <a:srgbClr val="c3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359000" y="4366080"/>
                <a:ext cx="6018480" cy="105840"/>
              </a:xfrm>
              <a:prstGeom prst="rect">
                <a:avLst/>
              </a:prstGeom>
              <a:solidFill>
                <a:srgbClr val="c4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59000" y="4472280"/>
                <a:ext cx="6018480" cy="104760"/>
              </a:xfrm>
              <a:prstGeom prst="rect">
                <a:avLst/>
              </a:prstGeom>
              <a:solidFill>
                <a:srgbClr val="c5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59000" y="4577040"/>
                <a:ext cx="6018480" cy="104760"/>
              </a:xfrm>
              <a:prstGeom prst="rect">
                <a:avLst/>
              </a:prstGeom>
              <a:solidFill>
                <a:srgbClr val="c6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59000" y="4681800"/>
                <a:ext cx="6018480" cy="105840"/>
              </a:xfrm>
              <a:prstGeom prst="rect">
                <a:avLst/>
              </a:prstGeom>
              <a:solidFill>
                <a:srgbClr val="c6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59000" y="4787640"/>
                <a:ext cx="6018480" cy="105840"/>
              </a:xfrm>
              <a:prstGeom prst="rect">
                <a:avLst/>
              </a:prstGeom>
              <a:solidFill>
                <a:srgbClr val="c7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59000" y="4893840"/>
                <a:ext cx="6018480" cy="105840"/>
              </a:xfrm>
              <a:prstGeom prst="rect">
                <a:avLst/>
              </a:prstGeom>
              <a:solidFill>
                <a:srgbClr val="c8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59000" y="4999680"/>
                <a:ext cx="6018480" cy="104760"/>
              </a:xfrm>
              <a:prstGeom prst="rect">
                <a:avLst/>
              </a:prstGeom>
              <a:solidFill>
                <a:srgbClr val="c8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59000" y="5104440"/>
                <a:ext cx="6018480" cy="104760"/>
              </a:xfrm>
              <a:prstGeom prst="rect">
                <a:avLst/>
              </a:prstGeom>
              <a:solidFill>
                <a:srgbClr val="c9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59000" y="5209560"/>
                <a:ext cx="6018480" cy="106920"/>
              </a:xfrm>
              <a:prstGeom prst="rect">
                <a:avLst/>
              </a:prstGeom>
              <a:solidFill>
                <a:srgbClr val="ca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59000" y="5316480"/>
                <a:ext cx="6018480" cy="104760"/>
              </a:xfrm>
              <a:prstGeom prst="rect">
                <a:avLst/>
              </a:prstGeom>
              <a:solidFill>
                <a:srgbClr val="ca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59000" y="5421240"/>
                <a:ext cx="6018480" cy="105840"/>
              </a:xfrm>
              <a:prstGeom prst="rect">
                <a:avLst/>
              </a:prstGeom>
              <a:solidFill>
                <a:srgbClr val="ca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359000" y="5527440"/>
                <a:ext cx="6018480" cy="10476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59000" y="5632200"/>
                <a:ext cx="6018480" cy="10692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59000" y="5739480"/>
                <a:ext cx="6018480" cy="10476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59000" y="5844240"/>
                <a:ext cx="6018480" cy="104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1359000" y="461880"/>
              <a:ext cx="602100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379680" y="804960"/>
            <a:ext cx="194652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1440" y="860400"/>
            <a:ext cx="118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eet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0480" y="8604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5160" y="1604880"/>
            <a:ext cx="4468680" cy="1487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98960" y="1655640"/>
            <a:ext cx="79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09480" y="165564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30720" y="1655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87760" y="1830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3440" y="1830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75840" y="1830240"/>
            <a:ext cx="163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51600" y="1830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7760" y="20066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3440" y="2006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76560" y="2006640"/>
            <a:ext cx="189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79920" y="2006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65360" y="2197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19440" y="2197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3080" y="2181240"/>
            <a:ext cx="163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16600" y="2181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65360" y="23716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19440" y="23716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6680" y="2355840"/>
            <a:ext cx="196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tabl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57960" y="23558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65360" y="25462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9440" y="25462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5240" y="2532240"/>
            <a:ext cx="14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eet 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65680" y="2532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65360" y="27273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19440" y="27273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5960" y="271152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craft Ro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27600" y="2711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53160" y="3776760"/>
            <a:ext cx="233352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26400" y="3832200"/>
            <a:ext cx="140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w Schedu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13440" y="3832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53160" y="4462560"/>
            <a:ext cx="2333520" cy="4586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28200" y="4513320"/>
            <a:ext cx="145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port Resour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48520" y="4692600"/>
            <a:ext cx="105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92760" y="4692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4120" y="3776760"/>
            <a:ext cx="233208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45400" y="3832200"/>
            <a:ext cx="58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90960" y="3832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54120" y="4462560"/>
            <a:ext cx="2332080" cy="4586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5120" y="451332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enu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6600" y="4692600"/>
            <a:ext cx="105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90840" y="4692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54120" y="5262480"/>
            <a:ext cx="2332080" cy="45900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75560" y="5313240"/>
            <a:ext cx="82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es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91600" y="5492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44760" y="5492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53160" y="5262480"/>
            <a:ext cx="2333520" cy="45900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4160" y="5318280"/>
            <a:ext cx="161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s Contro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78680" y="5318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76160" y="461880"/>
            <a:ext cx="583920" cy="5488200"/>
            <a:chOff x="776160" y="461880"/>
            <a:chExt cx="583920" cy="5488200"/>
          </a:xfrm>
        </p:grpSpPr>
        <p:grpSp>
          <p:nvGrpSpPr>
            <p:cNvPr id="164" name=""/>
            <p:cNvGrpSpPr/>
            <p:nvPr/>
          </p:nvGrpSpPr>
          <p:grpSpPr>
            <a:xfrm>
              <a:off x="776160" y="461880"/>
              <a:ext cx="581760" cy="5486760"/>
              <a:chOff x="776160" y="461880"/>
              <a:chExt cx="581760" cy="5486760"/>
            </a:xfrm>
          </p:grpSpPr>
          <p:sp>
            <p:nvSpPr>
              <p:cNvPr id="165" name=""/>
              <p:cNvSpPr/>
              <p:nvPr/>
            </p:nvSpPr>
            <p:spPr>
              <a:xfrm>
                <a:off x="776160" y="461880"/>
                <a:ext cx="581760" cy="42840"/>
              </a:xfrm>
              <a:prstGeom prst="rect">
                <a:avLst/>
              </a:prstGeom>
              <a:solidFill>
                <a:srgbClr val="010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6160" y="504720"/>
                <a:ext cx="581760" cy="42480"/>
              </a:xfrm>
              <a:prstGeom prst="rect">
                <a:avLst/>
              </a:prstGeom>
              <a:solidFill>
                <a:srgbClr val="020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6160" y="547200"/>
                <a:ext cx="581760" cy="41760"/>
              </a:xfrm>
              <a:prstGeom prst="rect">
                <a:avLst/>
              </a:prstGeom>
              <a:solidFill>
                <a:srgbClr val="030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6160" y="589320"/>
                <a:ext cx="581760" cy="43920"/>
              </a:xfrm>
              <a:prstGeom prst="rect">
                <a:avLst/>
              </a:prstGeom>
              <a:solidFill>
                <a:srgbClr val="040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76160" y="633240"/>
                <a:ext cx="581760" cy="42840"/>
              </a:xfrm>
              <a:prstGeom prst="rect">
                <a:avLst/>
              </a:prstGeom>
              <a:solidFill>
                <a:srgbClr val="040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76160" y="676080"/>
                <a:ext cx="581760" cy="42480"/>
              </a:xfrm>
              <a:prstGeom prst="rect">
                <a:avLst/>
              </a:prstGeom>
              <a:solidFill>
                <a:srgbClr val="050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6160" y="718920"/>
                <a:ext cx="581760" cy="42840"/>
              </a:xfrm>
              <a:prstGeom prst="rect">
                <a:avLst/>
              </a:prstGeom>
              <a:solidFill>
                <a:srgbClr val="060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76160" y="761760"/>
                <a:ext cx="581760" cy="42840"/>
              </a:xfrm>
              <a:prstGeom prst="rect">
                <a:avLst/>
              </a:prstGeom>
              <a:solidFill>
                <a:srgbClr val="060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6160" y="804600"/>
                <a:ext cx="581760" cy="42840"/>
              </a:xfrm>
              <a:prstGeom prst="rect">
                <a:avLst/>
              </a:prstGeom>
              <a:solidFill>
                <a:srgbClr val="070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6160" y="847440"/>
                <a:ext cx="581760" cy="42480"/>
              </a:xfrm>
              <a:prstGeom prst="rect">
                <a:avLst/>
              </a:prstGeom>
              <a:solidFill>
                <a:srgbClr val="070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6160" y="890280"/>
                <a:ext cx="581760" cy="41760"/>
              </a:xfrm>
              <a:prstGeom prst="rect">
                <a:avLst/>
              </a:prstGeom>
              <a:solidFill>
                <a:srgbClr val="081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6160" y="932040"/>
                <a:ext cx="581760" cy="45000"/>
              </a:xfrm>
              <a:prstGeom prst="rect">
                <a:avLst/>
              </a:prstGeom>
              <a:solidFill>
                <a:srgbClr val="081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6160" y="977040"/>
                <a:ext cx="581760" cy="41760"/>
              </a:xfrm>
              <a:prstGeom prst="rect">
                <a:avLst/>
              </a:prstGeom>
              <a:solidFill>
                <a:srgbClr val="0912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6160" y="1019160"/>
                <a:ext cx="581760" cy="42480"/>
              </a:xfrm>
              <a:prstGeom prst="rect">
                <a:avLst/>
              </a:prstGeom>
              <a:solidFill>
                <a:srgbClr val="091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6160" y="1061640"/>
                <a:ext cx="581760" cy="42840"/>
              </a:xfrm>
              <a:prstGeom prst="rect">
                <a:avLst/>
              </a:prstGeom>
              <a:solidFill>
                <a:srgbClr val="0a1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76160" y="1104840"/>
                <a:ext cx="581760" cy="42840"/>
              </a:xfrm>
              <a:prstGeom prst="rect">
                <a:avLst/>
              </a:prstGeom>
              <a:solidFill>
                <a:srgbClr val="0a1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76160" y="1147680"/>
                <a:ext cx="581760" cy="42840"/>
              </a:xfrm>
              <a:prstGeom prst="rect">
                <a:avLst/>
              </a:prstGeom>
              <a:solidFill>
                <a:srgbClr val="0b1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6160" y="1190520"/>
                <a:ext cx="581760" cy="42480"/>
              </a:xfrm>
              <a:prstGeom prst="rect">
                <a:avLst/>
              </a:prstGeom>
              <a:solidFill>
                <a:srgbClr val="0b1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6160" y="1233360"/>
                <a:ext cx="581760" cy="41760"/>
              </a:xfrm>
              <a:prstGeom prst="rect">
                <a:avLst/>
              </a:prstGeom>
              <a:solidFill>
                <a:srgbClr val="0c1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6160" y="1275120"/>
                <a:ext cx="581760" cy="45000"/>
              </a:xfrm>
              <a:prstGeom prst="rect">
                <a:avLst/>
              </a:prstGeom>
              <a:solidFill>
                <a:srgbClr val="0c1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6160" y="1320120"/>
                <a:ext cx="581760" cy="41760"/>
              </a:xfrm>
              <a:prstGeom prst="rect">
                <a:avLst/>
              </a:prstGeom>
              <a:solidFill>
                <a:srgbClr val="0d1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76160" y="1361880"/>
                <a:ext cx="581760" cy="42480"/>
              </a:xfrm>
              <a:prstGeom prst="rect">
                <a:avLst/>
              </a:prstGeom>
              <a:solidFill>
                <a:srgbClr val="0d1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6160" y="1404720"/>
                <a:ext cx="581760" cy="42840"/>
              </a:xfrm>
              <a:prstGeom prst="rect">
                <a:avLst/>
              </a:prstGeom>
              <a:solidFill>
                <a:srgbClr val="0e1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6160" y="1447560"/>
                <a:ext cx="581760" cy="42840"/>
              </a:xfrm>
              <a:prstGeom prst="rect">
                <a:avLst/>
              </a:prstGeom>
              <a:solidFill>
                <a:srgbClr val="0e1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76160" y="1490400"/>
                <a:ext cx="581760" cy="42840"/>
              </a:xfrm>
              <a:prstGeom prst="rect">
                <a:avLst/>
              </a:prstGeom>
              <a:solidFill>
                <a:srgbClr val="0f1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76160" y="1533600"/>
                <a:ext cx="581760" cy="42480"/>
              </a:xfrm>
              <a:prstGeom prst="rect">
                <a:avLst/>
              </a:prstGeom>
              <a:solidFill>
                <a:srgbClr val="0f1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6160" y="1576080"/>
                <a:ext cx="581760" cy="41760"/>
              </a:xfrm>
              <a:prstGeom prst="rect">
                <a:avLst/>
              </a:prstGeom>
              <a:solidFill>
                <a:srgbClr val="102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6160" y="1617840"/>
                <a:ext cx="581760" cy="45000"/>
              </a:xfrm>
              <a:prstGeom prst="rect">
                <a:avLst/>
              </a:prstGeom>
              <a:solidFill>
                <a:srgbClr val="102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6160" y="1663200"/>
                <a:ext cx="581760" cy="41760"/>
              </a:xfrm>
              <a:prstGeom prst="rect">
                <a:avLst/>
              </a:prstGeom>
              <a:solidFill>
                <a:srgbClr val="112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6160" y="1704960"/>
                <a:ext cx="581760" cy="42480"/>
              </a:xfrm>
              <a:prstGeom prst="rect">
                <a:avLst/>
              </a:prstGeom>
              <a:solidFill>
                <a:srgbClr val="112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6160" y="1747800"/>
                <a:ext cx="581760" cy="42840"/>
              </a:xfrm>
              <a:prstGeom prst="rect">
                <a:avLst/>
              </a:prstGeom>
              <a:solidFill>
                <a:srgbClr val="122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6160" y="1790640"/>
                <a:ext cx="581760" cy="42840"/>
              </a:xfrm>
              <a:prstGeom prst="rect">
                <a:avLst/>
              </a:prstGeom>
              <a:solidFill>
                <a:srgbClr val="132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76160" y="1833480"/>
                <a:ext cx="581760" cy="42840"/>
              </a:xfrm>
              <a:prstGeom prst="rect">
                <a:avLst/>
              </a:prstGeom>
              <a:solidFill>
                <a:srgbClr val="132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76160" y="1876320"/>
                <a:ext cx="581760" cy="42480"/>
              </a:xfrm>
              <a:prstGeom prst="rect">
                <a:avLst/>
              </a:prstGeom>
              <a:solidFill>
                <a:srgbClr val="142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76160" y="1919160"/>
                <a:ext cx="581760" cy="41760"/>
              </a:xfrm>
              <a:prstGeom prst="rect">
                <a:avLst/>
              </a:prstGeom>
              <a:solidFill>
                <a:srgbClr val="142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6160" y="1960920"/>
                <a:ext cx="581760" cy="45000"/>
              </a:xfrm>
              <a:prstGeom prst="rect">
                <a:avLst/>
              </a:prstGeom>
              <a:solidFill>
                <a:srgbClr val="152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6160" y="2005920"/>
                <a:ext cx="581760" cy="41760"/>
              </a:xfrm>
              <a:prstGeom prst="rect">
                <a:avLst/>
              </a:prstGeom>
              <a:solidFill>
                <a:srgbClr val="15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6160" y="2048040"/>
                <a:ext cx="581760" cy="42480"/>
              </a:xfrm>
              <a:prstGeom prst="rect">
                <a:avLst/>
              </a:prstGeom>
              <a:solidFill>
                <a:srgbClr val="162c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76160" y="2090520"/>
                <a:ext cx="581760" cy="42840"/>
              </a:xfrm>
              <a:prstGeom prst="rect">
                <a:avLst/>
              </a:prstGeom>
              <a:solidFill>
                <a:srgbClr val="162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6160" y="2133360"/>
                <a:ext cx="581760" cy="42840"/>
              </a:xfrm>
              <a:prstGeom prst="rect">
                <a:avLst/>
              </a:prstGeom>
              <a:solidFill>
                <a:srgbClr val="172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6160" y="2176560"/>
                <a:ext cx="581760" cy="42840"/>
              </a:xfrm>
              <a:prstGeom prst="rect">
                <a:avLst/>
              </a:prstGeom>
              <a:solidFill>
                <a:srgbClr val="172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6160" y="2219400"/>
                <a:ext cx="581760" cy="42480"/>
              </a:xfrm>
              <a:prstGeom prst="rect">
                <a:avLst/>
              </a:prstGeom>
              <a:solidFill>
                <a:srgbClr val="183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76160" y="2261880"/>
                <a:ext cx="581760" cy="41760"/>
              </a:xfrm>
              <a:prstGeom prst="rect">
                <a:avLst/>
              </a:prstGeom>
              <a:solidFill>
                <a:srgbClr val="1932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6160" y="2304000"/>
                <a:ext cx="581760" cy="45000"/>
              </a:xfrm>
              <a:prstGeom prst="rect">
                <a:avLst/>
              </a:prstGeom>
              <a:solidFill>
                <a:srgbClr val="193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6160" y="2349000"/>
                <a:ext cx="581760" cy="41760"/>
              </a:xfrm>
              <a:prstGeom prst="rect">
                <a:avLst/>
              </a:prstGeom>
              <a:solidFill>
                <a:srgbClr val="1a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6160" y="2390760"/>
                <a:ext cx="581760" cy="42480"/>
              </a:xfrm>
              <a:prstGeom prst="rect">
                <a:avLst/>
              </a:prstGeom>
              <a:solidFill>
                <a:srgbClr val="1a3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76160" y="2433600"/>
                <a:ext cx="581760" cy="42840"/>
              </a:xfrm>
              <a:prstGeom prst="rect">
                <a:avLst/>
              </a:prstGeom>
              <a:solidFill>
                <a:srgbClr val="1b3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6160" y="2476440"/>
                <a:ext cx="581760" cy="42840"/>
              </a:xfrm>
              <a:prstGeom prst="rect">
                <a:avLst/>
              </a:prstGeom>
              <a:solidFill>
                <a:srgbClr val="1b3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6160" y="2519280"/>
                <a:ext cx="581760" cy="42840"/>
              </a:xfrm>
              <a:prstGeom prst="rect">
                <a:avLst/>
              </a:prstGeom>
              <a:solidFill>
                <a:srgbClr val="1c3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6160" y="2562480"/>
                <a:ext cx="581760" cy="42480"/>
              </a:xfrm>
              <a:prstGeom prst="rect">
                <a:avLst/>
              </a:prstGeom>
              <a:solidFill>
                <a:srgbClr val="1c3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76160" y="2604960"/>
                <a:ext cx="581760" cy="41760"/>
              </a:xfrm>
              <a:prstGeom prst="rect">
                <a:avLst/>
              </a:prstGeom>
              <a:solidFill>
                <a:srgbClr val="1d3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6160" y="2646720"/>
                <a:ext cx="581760" cy="45000"/>
              </a:xfrm>
              <a:prstGeom prst="rect">
                <a:avLst/>
              </a:prstGeom>
              <a:solidFill>
                <a:srgbClr val="1d3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6160" y="2692080"/>
                <a:ext cx="581760" cy="41760"/>
              </a:xfrm>
              <a:prstGeom prst="rect">
                <a:avLst/>
              </a:prstGeom>
              <a:solidFill>
                <a:srgbClr val="1e3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6160" y="2733840"/>
                <a:ext cx="581760" cy="42480"/>
              </a:xfrm>
              <a:prstGeom prst="rect">
                <a:avLst/>
              </a:prstGeom>
              <a:solidFill>
                <a:srgbClr val="1e3d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76160" y="2776320"/>
                <a:ext cx="581760" cy="42840"/>
              </a:xfrm>
              <a:prstGeom prst="rect">
                <a:avLst/>
              </a:prstGeom>
              <a:solidFill>
                <a:srgbClr val="1f3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6160" y="2819520"/>
                <a:ext cx="581760" cy="42840"/>
              </a:xfrm>
              <a:prstGeom prst="rect">
                <a:avLst/>
              </a:prstGeom>
              <a:solidFill>
                <a:srgbClr val="1f3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6160" y="2862360"/>
                <a:ext cx="581760" cy="42840"/>
              </a:xfrm>
              <a:prstGeom prst="rect">
                <a:avLst/>
              </a:prstGeom>
              <a:solidFill>
                <a:srgbClr val="204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6160" y="2905200"/>
                <a:ext cx="581760" cy="42480"/>
              </a:xfrm>
              <a:prstGeom prst="rect">
                <a:avLst/>
              </a:prstGeom>
              <a:solidFill>
                <a:srgbClr val="204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6160" y="2948040"/>
                <a:ext cx="581760" cy="42840"/>
              </a:xfrm>
              <a:prstGeom prst="rect">
                <a:avLst/>
              </a:prstGeom>
              <a:solidFill>
                <a:srgbClr val="214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6160" y="2990880"/>
                <a:ext cx="581760" cy="43920"/>
              </a:xfrm>
              <a:prstGeom prst="rect">
                <a:avLst/>
              </a:prstGeom>
              <a:solidFill>
                <a:srgbClr val="214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6160" y="3034800"/>
                <a:ext cx="581760" cy="41760"/>
              </a:xfrm>
              <a:prstGeom prst="rect">
                <a:avLst/>
              </a:prstGeom>
              <a:solidFill>
                <a:srgbClr val="224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76160" y="3076920"/>
                <a:ext cx="581760" cy="42480"/>
              </a:xfrm>
              <a:prstGeom prst="rect">
                <a:avLst/>
              </a:prstGeom>
              <a:solidFill>
                <a:srgbClr val="224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6160" y="3119400"/>
                <a:ext cx="581760" cy="42840"/>
              </a:xfrm>
              <a:prstGeom prst="rect">
                <a:avLst/>
              </a:prstGeom>
              <a:solidFill>
                <a:srgbClr val="234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6160" y="3162240"/>
                <a:ext cx="581760" cy="42840"/>
              </a:xfrm>
              <a:prstGeom prst="rect">
                <a:avLst/>
              </a:prstGeom>
              <a:solidFill>
                <a:srgbClr val="234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76160" y="3205440"/>
                <a:ext cx="581760" cy="42840"/>
              </a:xfrm>
              <a:prstGeom prst="rect">
                <a:avLst/>
              </a:prstGeom>
              <a:solidFill>
                <a:srgbClr val="244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76160" y="3248280"/>
                <a:ext cx="581760" cy="42480"/>
              </a:xfrm>
              <a:prstGeom prst="rect">
                <a:avLst/>
              </a:prstGeom>
              <a:solidFill>
                <a:srgbClr val="244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76160" y="3290760"/>
                <a:ext cx="581760" cy="42840"/>
              </a:xfrm>
              <a:prstGeom prst="rect">
                <a:avLst/>
              </a:prstGeom>
              <a:solidFill>
                <a:srgbClr val="254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76160" y="3333960"/>
                <a:ext cx="581760" cy="43920"/>
              </a:xfrm>
              <a:prstGeom prst="rect">
                <a:avLst/>
              </a:prstGeom>
              <a:solidFill>
                <a:srgbClr val="254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6160" y="3377880"/>
                <a:ext cx="581760" cy="41760"/>
              </a:xfrm>
              <a:prstGeom prst="rect">
                <a:avLst/>
              </a:prstGeom>
              <a:solidFill>
                <a:srgbClr val="264c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76160" y="3419640"/>
                <a:ext cx="581760" cy="42480"/>
              </a:xfrm>
              <a:prstGeom prst="rect">
                <a:avLst/>
              </a:prstGeom>
              <a:solidFill>
                <a:srgbClr val="264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6160" y="3462480"/>
                <a:ext cx="581760" cy="42840"/>
              </a:xfrm>
              <a:prstGeom prst="rect">
                <a:avLst/>
              </a:prstGeom>
              <a:solidFill>
                <a:srgbClr val="274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76160" y="3505320"/>
                <a:ext cx="581760" cy="42840"/>
              </a:xfrm>
              <a:prstGeom prst="rect">
                <a:avLst/>
              </a:prstGeom>
              <a:solidFill>
                <a:srgbClr val="274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6160" y="3548160"/>
                <a:ext cx="581760" cy="42840"/>
              </a:xfrm>
              <a:prstGeom prst="rect">
                <a:avLst/>
              </a:prstGeom>
              <a:solidFill>
                <a:srgbClr val="274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6160" y="3591360"/>
                <a:ext cx="581760" cy="42480"/>
              </a:xfrm>
              <a:prstGeom prst="rect">
                <a:avLst/>
              </a:prstGeom>
              <a:solidFill>
                <a:srgbClr val="285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6160" y="3633840"/>
                <a:ext cx="581760" cy="42840"/>
              </a:xfrm>
              <a:prstGeom prst="rect">
                <a:avLst/>
              </a:prstGeom>
              <a:solidFill>
                <a:srgbClr val="285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6160" y="3676680"/>
                <a:ext cx="581760" cy="43920"/>
              </a:xfrm>
              <a:prstGeom prst="rect">
                <a:avLst/>
              </a:prstGeom>
              <a:solidFill>
                <a:srgbClr val="295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6160" y="3720960"/>
                <a:ext cx="581760" cy="42840"/>
              </a:xfrm>
              <a:prstGeom prst="rect">
                <a:avLst/>
              </a:prstGeom>
              <a:solidFill>
                <a:srgbClr val="295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6160" y="3763800"/>
                <a:ext cx="581760" cy="41400"/>
              </a:xfrm>
              <a:prstGeom prst="rect">
                <a:avLst/>
              </a:prstGeom>
              <a:solidFill>
                <a:srgbClr val="295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6160" y="3805200"/>
                <a:ext cx="581760" cy="42840"/>
              </a:xfrm>
              <a:prstGeom prst="rect">
                <a:avLst/>
              </a:prstGeom>
              <a:solidFill>
                <a:srgbClr val="2a5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6160" y="3848400"/>
                <a:ext cx="581760" cy="42840"/>
              </a:xfrm>
              <a:prstGeom prst="rect">
                <a:avLst/>
              </a:prstGeom>
              <a:solidFill>
                <a:srgbClr val="2a5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6160" y="3891240"/>
                <a:ext cx="581760" cy="42840"/>
              </a:xfrm>
              <a:prstGeom prst="rect">
                <a:avLst/>
              </a:prstGeom>
              <a:solidFill>
                <a:srgbClr val="2a5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76160" y="3934080"/>
                <a:ext cx="581760" cy="42480"/>
              </a:xfrm>
              <a:prstGeom prst="rect">
                <a:avLst/>
              </a:prstGeom>
              <a:solidFill>
                <a:srgbClr val="2b56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6160" y="3976920"/>
                <a:ext cx="581760" cy="42840"/>
              </a:xfrm>
              <a:prstGeom prst="rect">
                <a:avLst/>
              </a:prstGeom>
              <a:solidFill>
                <a:srgbClr val="2b5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6160" y="4019760"/>
                <a:ext cx="581760" cy="43920"/>
              </a:xfrm>
              <a:prstGeom prst="rect">
                <a:avLst/>
              </a:prstGeom>
              <a:solidFill>
                <a:srgbClr val="2b5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76160" y="4063680"/>
                <a:ext cx="581760" cy="42840"/>
              </a:xfrm>
              <a:prstGeom prst="rect">
                <a:avLst/>
              </a:prstGeom>
              <a:solidFill>
                <a:srgbClr val="2c5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6160" y="4106520"/>
                <a:ext cx="581760" cy="41400"/>
              </a:xfrm>
              <a:prstGeom prst="rect">
                <a:avLst/>
              </a:prstGeom>
              <a:solidFill>
                <a:srgbClr val="2c5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76160" y="4148280"/>
                <a:ext cx="581760" cy="42840"/>
              </a:xfrm>
              <a:prstGeom prst="rect">
                <a:avLst/>
              </a:prstGeom>
              <a:solidFill>
                <a:srgbClr val="2c5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6160" y="4191120"/>
                <a:ext cx="581760" cy="42840"/>
              </a:xfrm>
              <a:prstGeom prst="rect">
                <a:avLst/>
              </a:prstGeom>
              <a:solidFill>
                <a:srgbClr val="2d5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6160" y="4234320"/>
                <a:ext cx="581760" cy="42840"/>
              </a:xfrm>
              <a:prstGeom prst="rect">
                <a:avLst/>
              </a:prstGeom>
              <a:solidFill>
                <a:srgbClr val="2d5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6160" y="4277160"/>
                <a:ext cx="581760" cy="42480"/>
              </a:xfrm>
              <a:prstGeom prst="rect">
                <a:avLst/>
              </a:prstGeom>
              <a:solidFill>
                <a:srgbClr val="2d5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6160" y="4319640"/>
                <a:ext cx="581760" cy="42840"/>
              </a:xfrm>
              <a:prstGeom prst="rect">
                <a:avLst/>
              </a:prstGeom>
              <a:solidFill>
                <a:srgbClr val="2e5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6160" y="4362840"/>
                <a:ext cx="581760" cy="43920"/>
              </a:xfrm>
              <a:prstGeom prst="rect">
                <a:avLst/>
              </a:prstGeom>
              <a:solidFill>
                <a:srgbClr val="2e5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76160" y="4406760"/>
                <a:ext cx="581760" cy="42840"/>
              </a:xfrm>
              <a:prstGeom prst="rect">
                <a:avLst/>
              </a:prstGeom>
              <a:solidFill>
                <a:srgbClr val="2e5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6160" y="4449600"/>
                <a:ext cx="581760" cy="41400"/>
              </a:xfrm>
              <a:prstGeom prst="rect">
                <a:avLst/>
              </a:prstGeom>
              <a:solidFill>
                <a:srgbClr val="2e5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160" y="4491360"/>
                <a:ext cx="581760" cy="42840"/>
              </a:xfrm>
              <a:prstGeom prst="rect">
                <a:avLst/>
              </a:prstGeom>
              <a:solidFill>
                <a:srgbClr val="2e5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6160" y="4534200"/>
                <a:ext cx="581760" cy="42840"/>
              </a:xfrm>
              <a:prstGeom prst="rect">
                <a:avLst/>
              </a:prstGeom>
              <a:solidFill>
                <a:srgbClr val="2f5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76160" y="4577040"/>
                <a:ext cx="581760" cy="42840"/>
              </a:xfrm>
              <a:prstGeom prst="rect">
                <a:avLst/>
              </a:prstGeom>
              <a:solidFill>
                <a:srgbClr val="2f5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76160" y="4619880"/>
                <a:ext cx="581760" cy="42480"/>
              </a:xfrm>
              <a:prstGeom prst="rect">
                <a:avLst/>
              </a:prstGeom>
              <a:solidFill>
                <a:srgbClr val="2f5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6160" y="4662720"/>
                <a:ext cx="581760" cy="42840"/>
              </a:xfrm>
              <a:prstGeom prst="rect">
                <a:avLst/>
              </a:prstGeom>
              <a:solidFill>
                <a:srgbClr val="2f5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6160" y="4705560"/>
                <a:ext cx="581760" cy="43920"/>
              </a:xfrm>
              <a:prstGeom prst="rect">
                <a:avLst/>
              </a:prstGeom>
              <a:solidFill>
                <a:srgbClr val="3060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76160" y="4749840"/>
                <a:ext cx="581760" cy="42840"/>
              </a:xfrm>
              <a:prstGeom prst="rect">
                <a:avLst/>
              </a:prstGeom>
              <a:solidFill>
                <a:srgbClr val="3060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6160" y="4792680"/>
                <a:ext cx="581760" cy="41400"/>
              </a:xfrm>
              <a:prstGeom prst="rect">
                <a:avLst/>
              </a:prstGeom>
              <a:solidFill>
                <a:srgbClr val="306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6160" y="4834080"/>
                <a:ext cx="581760" cy="42840"/>
              </a:xfrm>
              <a:prstGeom prst="rect">
                <a:avLst/>
              </a:prstGeom>
              <a:solidFill>
                <a:srgbClr val="3061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76160" y="4877280"/>
                <a:ext cx="581760" cy="42840"/>
              </a:xfrm>
              <a:prstGeom prst="rect">
                <a:avLst/>
              </a:prstGeom>
              <a:solidFill>
                <a:srgbClr val="3061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6160" y="4920120"/>
                <a:ext cx="581760" cy="42840"/>
              </a:xfrm>
              <a:prstGeom prst="rect">
                <a:avLst/>
              </a:prstGeom>
              <a:solidFill>
                <a:srgbClr val="306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76160" y="4962960"/>
                <a:ext cx="581760" cy="42480"/>
              </a:xfrm>
              <a:prstGeom prst="rect">
                <a:avLst/>
              </a:prstGeom>
              <a:solidFill>
                <a:srgbClr val="316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6160" y="5005800"/>
                <a:ext cx="581760" cy="4284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6160" y="5048640"/>
                <a:ext cx="581760" cy="4392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76160" y="5092560"/>
                <a:ext cx="581760" cy="42840"/>
              </a:xfrm>
              <a:prstGeom prst="rect">
                <a:avLst/>
              </a:prstGeom>
              <a:solidFill>
                <a:srgbClr val="3162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6160" y="5135400"/>
                <a:ext cx="581760" cy="41400"/>
              </a:xfrm>
              <a:prstGeom prst="rect">
                <a:avLst/>
              </a:prstGeom>
              <a:solidFill>
                <a:srgbClr val="316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76160" y="517716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6160" y="522000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6160" y="526284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6160" y="5306040"/>
                <a:ext cx="581760" cy="4248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6160" y="5348520"/>
                <a:ext cx="581760" cy="4284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76160" y="5391720"/>
                <a:ext cx="581760" cy="4392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6160" y="54356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6160" y="5478480"/>
                <a:ext cx="581760" cy="4140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76160" y="55202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76160" y="556308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6160" y="560592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6160" y="5648760"/>
                <a:ext cx="581760" cy="4248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6160" y="569160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6160" y="5734440"/>
                <a:ext cx="581760" cy="4392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6160" y="57783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6160" y="5821560"/>
                <a:ext cx="581760" cy="4140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6160" y="58629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76160" y="5905800"/>
                <a:ext cx="581760" cy="428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776160" y="461880"/>
              <a:ext cx="58392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776160" y="48052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70440" y="5090400"/>
            <a:ext cx="136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HORT TE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1029600" y="4719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6160" y="4618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407880" y="1116000"/>
            <a:ext cx="1256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NG TE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1029600" y="353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378560" y="461880"/>
            <a:ext cx="583920" cy="5488200"/>
            <a:chOff x="7378560" y="461880"/>
            <a:chExt cx="583920" cy="5488200"/>
          </a:xfrm>
        </p:grpSpPr>
        <p:grpSp>
          <p:nvGrpSpPr>
            <p:cNvPr id="301" name=""/>
            <p:cNvGrpSpPr/>
            <p:nvPr/>
          </p:nvGrpSpPr>
          <p:grpSpPr>
            <a:xfrm>
              <a:off x="7378560" y="461880"/>
              <a:ext cx="581760" cy="5486760"/>
              <a:chOff x="7378560" y="461880"/>
              <a:chExt cx="581760" cy="5486760"/>
            </a:xfrm>
          </p:grpSpPr>
          <p:sp>
            <p:nvSpPr>
              <p:cNvPr id="302" name=""/>
              <p:cNvSpPr/>
              <p:nvPr/>
            </p:nvSpPr>
            <p:spPr>
              <a:xfrm>
                <a:off x="7378560" y="461880"/>
                <a:ext cx="581760" cy="42840"/>
              </a:xfrm>
              <a:prstGeom prst="rect">
                <a:avLst/>
              </a:prstGeom>
              <a:solidFill>
                <a:srgbClr val="010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78560" y="504720"/>
                <a:ext cx="581760" cy="42480"/>
              </a:xfrm>
              <a:prstGeom prst="rect">
                <a:avLst/>
              </a:prstGeom>
              <a:solidFill>
                <a:srgbClr val="020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78560" y="547200"/>
                <a:ext cx="581760" cy="41760"/>
              </a:xfrm>
              <a:prstGeom prst="rect">
                <a:avLst/>
              </a:prstGeom>
              <a:solidFill>
                <a:srgbClr val="030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378560" y="589320"/>
                <a:ext cx="581760" cy="43920"/>
              </a:xfrm>
              <a:prstGeom prst="rect">
                <a:avLst/>
              </a:prstGeom>
              <a:solidFill>
                <a:srgbClr val="040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378560" y="633240"/>
                <a:ext cx="581760" cy="42840"/>
              </a:xfrm>
              <a:prstGeom prst="rect">
                <a:avLst/>
              </a:prstGeom>
              <a:solidFill>
                <a:srgbClr val="040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78560" y="676080"/>
                <a:ext cx="581760" cy="42480"/>
              </a:xfrm>
              <a:prstGeom prst="rect">
                <a:avLst/>
              </a:prstGeom>
              <a:solidFill>
                <a:srgbClr val="050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78560" y="718920"/>
                <a:ext cx="581760" cy="42840"/>
              </a:xfrm>
              <a:prstGeom prst="rect">
                <a:avLst/>
              </a:prstGeom>
              <a:solidFill>
                <a:srgbClr val="060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78560" y="761760"/>
                <a:ext cx="581760" cy="42840"/>
              </a:xfrm>
              <a:prstGeom prst="rect">
                <a:avLst/>
              </a:prstGeom>
              <a:solidFill>
                <a:srgbClr val="060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378560" y="804600"/>
                <a:ext cx="581760" cy="42840"/>
              </a:xfrm>
              <a:prstGeom prst="rect">
                <a:avLst/>
              </a:prstGeom>
              <a:solidFill>
                <a:srgbClr val="070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378560" y="847440"/>
                <a:ext cx="581760" cy="42480"/>
              </a:xfrm>
              <a:prstGeom prst="rect">
                <a:avLst/>
              </a:prstGeom>
              <a:solidFill>
                <a:srgbClr val="070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378560" y="890280"/>
                <a:ext cx="581760" cy="41760"/>
              </a:xfrm>
              <a:prstGeom prst="rect">
                <a:avLst/>
              </a:prstGeom>
              <a:solidFill>
                <a:srgbClr val="081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78560" y="932040"/>
                <a:ext cx="581760" cy="45000"/>
              </a:xfrm>
              <a:prstGeom prst="rect">
                <a:avLst/>
              </a:prstGeom>
              <a:solidFill>
                <a:srgbClr val="081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378560" y="977040"/>
                <a:ext cx="581760" cy="41760"/>
              </a:xfrm>
              <a:prstGeom prst="rect">
                <a:avLst/>
              </a:prstGeom>
              <a:solidFill>
                <a:srgbClr val="0912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78560" y="1019160"/>
                <a:ext cx="581760" cy="42480"/>
              </a:xfrm>
              <a:prstGeom prst="rect">
                <a:avLst/>
              </a:prstGeom>
              <a:solidFill>
                <a:srgbClr val="091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78560" y="1061640"/>
                <a:ext cx="581760" cy="42840"/>
              </a:xfrm>
              <a:prstGeom prst="rect">
                <a:avLst/>
              </a:prstGeom>
              <a:solidFill>
                <a:srgbClr val="0a1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78560" y="1104840"/>
                <a:ext cx="581760" cy="42840"/>
              </a:xfrm>
              <a:prstGeom prst="rect">
                <a:avLst/>
              </a:prstGeom>
              <a:solidFill>
                <a:srgbClr val="0a1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78560" y="1147680"/>
                <a:ext cx="581760" cy="42840"/>
              </a:xfrm>
              <a:prstGeom prst="rect">
                <a:avLst/>
              </a:prstGeom>
              <a:solidFill>
                <a:srgbClr val="0b1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78560" y="1190520"/>
                <a:ext cx="581760" cy="42480"/>
              </a:xfrm>
              <a:prstGeom prst="rect">
                <a:avLst/>
              </a:prstGeom>
              <a:solidFill>
                <a:srgbClr val="0b1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78560" y="1233360"/>
                <a:ext cx="581760" cy="41760"/>
              </a:xfrm>
              <a:prstGeom prst="rect">
                <a:avLst/>
              </a:prstGeom>
              <a:solidFill>
                <a:srgbClr val="0c1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78560" y="1275120"/>
                <a:ext cx="581760" cy="45000"/>
              </a:xfrm>
              <a:prstGeom prst="rect">
                <a:avLst/>
              </a:prstGeom>
              <a:solidFill>
                <a:srgbClr val="0c1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378560" y="1320120"/>
                <a:ext cx="581760" cy="41760"/>
              </a:xfrm>
              <a:prstGeom prst="rect">
                <a:avLst/>
              </a:prstGeom>
              <a:solidFill>
                <a:srgbClr val="0d1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78560" y="1361880"/>
                <a:ext cx="581760" cy="42480"/>
              </a:xfrm>
              <a:prstGeom prst="rect">
                <a:avLst/>
              </a:prstGeom>
              <a:solidFill>
                <a:srgbClr val="0d1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78560" y="1404720"/>
                <a:ext cx="581760" cy="42840"/>
              </a:xfrm>
              <a:prstGeom prst="rect">
                <a:avLst/>
              </a:prstGeom>
              <a:solidFill>
                <a:srgbClr val="0e1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78560" y="1447560"/>
                <a:ext cx="581760" cy="42840"/>
              </a:xfrm>
              <a:prstGeom prst="rect">
                <a:avLst/>
              </a:prstGeom>
              <a:solidFill>
                <a:srgbClr val="0e1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78560" y="1490400"/>
                <a:ext cx="581760" cy="42840"/>
              </a:xfrm>
              <a:prstGeom prst="rect">
                <a:avLst/>
              </a:prstGeom>
              <a:solidFill>
                <a:srgbClr val="0f1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78560" y="1533600"/>
                <a:ext cx="581760" cy="42480"/>
              </a:xfrm>
              <a:prstGeom prst="rect">
                <a:avLst/>
              </a:prstGeom>
              <a:solidFill>
                <a:srgbClr val="0f1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78560" y="1576080"/>
                <a:ext cx="581760" cy="41760"/>
              </a:xfrm>
              <a:prstGeom prst="rect">
                <a:avLst/>
              </a:prstGeom>
              <a:solidFill>
                <a:srgbClr val="102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78560" y="1617840"/>
                <a:ext cx="581760" cy="45000"/>
              </a:xfrm>
              <a:prstGeom prst="rect">
                <a:avLst/>
              </a:prstGeom>
              <a:solidFill>
                <a:srgbClr val="102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78560" y="1663200"/>
                <a:ext cx="581760" cy="41760"/>
              </a:xfrm>
              <a:prstGeom prst="rect">
                <a:avLst/>
              </a:prstGeom>
              <a:solidFill>
                <a:srgbClr val="112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378560" y="1704960"/>
                <a:ext cx="581760" cy="42480"/>
              </a:xfrm>
              <a:prstGeom prst="rect">
                <a:avLst/>
              </a:prstGeom>
              <a:solidFill>
                <a:srgbClr val="112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78560" y="1747800"/>
                <a:ext cx="581760" cy="42840"/>
              </a:xfrm>
              <a:prstGeom prst="rect">
                <a:avLst/>
              </a:prstGeom>
              <a:solidFill>
                <a:srgbClr val="122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78560" y="1790640"/>
                <a:ext cx="581760" cy="42840"/>
              </a:xfrm>
              <a:prstGeom prst="rect">
                <a:avLst/>
              </a:prstGeom>
              <a:solidFill>
                <a:srgbClr val="132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78560" y="1833480"/>
                <a:ext cx="581760" cy="42840"/>
              </a:xfrm>
              <a:prstGeom prst="rect">
                <a:avLst/>
              </a:prstGeom>
              <a:solidFill>
                <a:srgbClr val="132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78560" y="1876320"/>
                <a:ext cx="581760" cy="42480"/>
              </a:xfrm>
              <a:prstGeom prst="rect">
                <a:avLst/>
              </a:prstGeom>
              <a:solidFill>
                <a:srgbClr val="142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78560" y="1919160"/>
                <a:ext cx="581760" cy="41760"/>
              </a:xfrm>
              <a:prstGeom prst="rect">
                <a:avLst/>
              </a:prstGeom>
              <a:solidFill>
                <a:srgbClr val="142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78560" y="1960920"/>
                <a:ext cx="581760" cy="45000"/>
              </a:xfrm>
              <a:prstGeom prst="rect">
                <a:avLst/>
              </a:prstGeom>
              <a:solidFill>
                <a:srgbClr val="152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78560" y="2005920"/>
                <a:ext cx="581760" cy="41760"/>
              </a:xfrm>
              <a:prstGeom prst="rect">
                <a:avLst/>
              </a:prstGeom>
              <a:solidFill>
                <a:srgbClr val="15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378560" y="2048040"/>
                <a:ext cx="581760" cy="42480"/>
              </a:xfrm>
              <a:prstGeom prst="rect">
                <a:avLst/>
              </a:prstGeom>
              <a:solidFill>
                <a:srgbClr val="162c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78560" y="2090520"/>
                <a:ext cx="581760" cy="42840"/>
              </a:xfrm>
              <a:prstGeom prst="rect">
                <a:avLst/>
              </a:prstGeom>
              <a:solidFill>
                <a:srgbClr val="162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78560" y="2133360"/>
                <a:ext cx="581760" cy="42840"/>
              </a:xfrm>
              <a:prstGeom prst="rect">
                <a:avLst/>
              </a:prstGeom>
              <a:solidFill>
                <a:srgbClr val="172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78560" y="2176560"/>
                <a:ext cx="581760" cy="42840"/>
              </a:xfrm>
              <a:prstGeom prst="rect">
                <a:avLst/>
              </a:prstGeom>
              <a:solidFill>
                <a:srgbClr val="172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378560" y="2219400"/>
                <a:ext cx="581760" cy="42480"/>
              </a:xfrm>
              <a:prstGeom prst="rect">
                <a:avLst/>
              </a:prstGeom>
              <a:solidFill>
                <a:srgbClr val="183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78560" y="2261880"/>
                <a:ext cx="581760" cy="41760"/>
              </a:xfrm>
              <a:prstGeom prst="rect">
                <a:avLst/>
              </a:prstGeom>
              <a:solidFill>
                <a:srgbClr val="1932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78560" y="2304000"/>
                <a:ext cx="581760" cy="45000"/>
              </a:xfrm>
              <a:prstGeom prst="rect">
                <a:avLst/>
              </a:prstGeom>
              <a:solidFill>
                <a:srgbClr val="193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78560" y="2349000"/>
                <a:ext cx="581760" cy="41760"/>
              </a:xfrm>
              <a:prstGeom prst="rect">
                <a:avLst/>
              </a:prstGeom>
              <a:solidFill>
                <a:srgbClr val="1a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78560" y="2390760"/>
                <a:ext cx="581760" cy="42480"/>
              </a:xfrm>
              <a:prstGeom prst="rect">
                <a:avLst/>
              </a:prstGeom>
              <a:solidFill>
                <a:srgbClr val="1a3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78560" y="2433600"/>
                <a:ext cx="581760" cy="42840"/>
              </a:xfrm>
              <a:prstGeom prst="rect">
                <a:avLst/>
              </a:prstGeom>
              <a:solidFill>
                <a:srgbClr val="1b3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78560" y="2476440"/>
                <a:ext cx="581760" cy="42840"/>
              </a:xfrm>
              <a:prstGeom prst="rect">
                <a:avLst/>
              </a:prstGeom>
              <a:solidFill>
                <a:srgbClr val="1b3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378560" y="2519280"/>
                <a:ext cx="581760" cy="42840"/>
              </a:xfrm>
              <a:prstGeom prst="rect">
                <a:avLst/>
              </a:prstGeom>
              <a:solidFill>
                <a:srgbClr val="1c3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78560" y="2562480"/>
                <a:ext cx="581760" cy="42480"/>
              </a:xfrm>
              <a:prstGeom prst="rect">
                <a:avLst/>
              </a:prstGeom>
              <a:solidFill>
                <a:srgbClr val="1c3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378560" y="2604960"/>
                <a:ext cx="581760" cy="41760"/>
              </a:xfrm>
              <a:prstGeom prst="rect">
                <a:avLst/>
              </a:prstGeom>
              <a:solidFill>
                <a:srgbClr val="1d3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378560" y="2646720"/>
                <a:ext cx="581760" cy="45000"/>
              </a:xfrm>
              <a:prstGeom prst="rect">
                <a:avLst/>
              </a:prstGeom>
              <a:solidFill>
                <a:srgbClr val="1d3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378560" y="2692080"/>
                <a:ext cx="581760" cy="41760"/>
              </a:xfrm>
              <a:prstGeom prst="rect">
                <a:avLst/>
              </a:prstGeom>
              <a:solidFill>
                <a:srgbClr val="1e3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78560" y="2733840"/>
                <a:ext cx="581760" cy="42480"/>
              </a:xfrm>
              <a:prstGeom prst="rect">
                <a:avLst/>
              </a:prstGeom>
              <a:solidFill>
                <a:srgbClr val="1e3d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378560" y="2776320"/>
                <a:ext cx="581760" cy="42840"/>
              </a:xfrm>
              <a:prstGeom prst="rect">
                <a:avLst/>
              </a:prstGeom>
              <a:solidFill>
                <a:srgbClr val="1f3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378560" y="2819520"/>
                <a:ext cx="581760" cy="42840"/>
              </a:xfrm>
              <a:prstGeom prst="rect">
                <a:avLst/>
              </a:prstGeom>
              <a:solidFill>
                <a:srgbClr val="1f3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78560" y="2862360"/>
                <a:ext cx="581760" cy="42840"/>
              </a:xfrm>
              <a:prstGeom prst="rect">
                <a:avLst/>
              </a:prstGeom>
              <a:solidFill>
                <a:srgbClr val="204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378560" y="2905200"/>
                <a:ext cx="581760" cy="42480"/>
              </a:xfrm>
              <a:prstGeom prst="rect">
                <a:avLst/>
              </a:prstGeom>
              <a:solidFill>
                <a:srgbClr val="204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378560" y="2948040"/>
                <a:ext cx="581760" cy="42840"/>
              </a:xfrm>
              <a:prstGeom prst="rect">
                <a:avLst/>
              </a:prstGeom>
              <a:solidFill>
                <a:srgbClr val="214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378560" y="2990880"/>
                <a:ext cx="581760" cy="43920"/>
              </a:xfrm>
              <a:prstGeom prst="rect">
                <a:avLst/>
              </a:prstGeom>
              <a:solidFill>
                <a:srgbClr val="214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78560" y="3034800"/>
                <a:ext cx="581760" cy="41760"/>
              </a:xfrm>
              <a:prstGeom prst="rect">
                <a:avLst/>
              </a:prstGeom>
              <a:solidFill>
                <a:srgbClr val="224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78560" y="3076920"/>
                <a:ext cx="581760" cy="42480"/>
              </a:xfrm>
              <a:prstGeom prst="rect">
                <a:avLst/>
              </a:prstGeom>
              <a:solidFill>
                <a:srgbClr val="224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78560" y="3119400"/>
                <a:ext cx="581760" cy="42840"/>
              </a:xfrm>
              <a:prstGeom prst="rect">
                <a:avLst/>
              </a:prstGeom>
              <a:solidFill>
                <a:srgbClr val="234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78560" y="3162240"/>
                <a:ext cx="581760" cy="42840"/>
              </a:xfrm>
              <a:prstGeom prst="rect">
                <a:avLst/>
              </a:prstGeom>
              <a:solidFill>
                <a:srgbClr val="234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78560" y="3205440"/>
                <a:ext cx="581760" cy="42840"/>
              </a:xfrm>
              <a:prstGeom prst="rect">
                <a:avLst/>
              </a:prstGeom>
              <a:solidFill>
                <a:srgbClr val="244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378560" y="3248280"/>
                <a:ext cx="581760" cy="42480"/>
              </a:xfrm>
              <a:prstGeom prst="rect">
                <a:avLst/>
              </a:prstGeom>
              <a:solidFill>
                <a:srgbClr val="244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78560" y="3290760"/>
                <a:ext cx="581760" cy="42840"/>
              </a:xfrm>
              <a:prstGeom prst="rect">
                <a:avLst/>
              </a:prstGeom>
              <a:solidFill>
                <a:srgbClr val="254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8560" y="3333960"/>
                <a:ext cx="581760" cy="43920"/>
              </a:xfrm>
              <a:prstGeom prst="rect">
                <a:avLst/>
              </a:prstGeom>
              <a:solidFill>
                <a:srgbClr val="254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8560" y="3377880"/>
                <a:ext cx="581760" cy="41760"/>
              </a:xfrm>
              <a:prstGeom prst="rect">
                <a:avLst/>
              </a:prstGeom>
              <a:solidFill>
                <a:srgbClr val="264c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78560" y="3419640"/>
                <a:ext cx="581760" cy="42480"/>
              </a:xfrm>
              <a:prstGeom prst="rect">
                <a:avLst/>
              </a:prstGeom>
              <a:solidFill>
                <a:srgbClr val="264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378560" y="3462480"/>
                <a:ext cx="581760" cy="42840"/>
              </a:xfrm>
              <a:prstGeom prst="rect">
                <a:avLst/>
              </a:prstGeom>
              <a:solidFill>
                <a:srgbClr val="274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378560" y="3505320"/>
                <a:ext cx="581760" cy="42840"/>
              </a:xfrm>
              <a:prstGeom prst="rect">
                <a:avLst/>
              </a:prstGeom>
              <a:solidFill>
                <a:srgbClr val="274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78560" y="3548160"/>
                <a:ext cx="581760" cy="42840"/>
              </a:xfrm>
              <a:prstGeom prst="rect">
                <a:avLst/>
              </a:prstGeom>
              <a:solidFill>
                <a:srgbClr val="274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78560" y="3591360"/>
                <a:ext cx="581760" cy="42480"/>
              </a:xfrm>
              <a:prstGeom prst="rect">
                <a:avLst/>
              </a:prstGeom>
              <a:solidFill>
                <a:srgbClr val="285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78560" y="3633840"/>
                <a:ext cx="581760" cy="42840"/>
              </a:xfrm>
              <a:prstGeom prst="rect">
                <a:avLst/>
              </a:prstGeom>
              <a:solidFill>
                <a:srgbClr val="285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78560" y="3676680"/>
                <a:ext cx="581760" cy="43920"/>
              </a:xfrm>
              <a:prstGeom prst="rect">
                <a:avLst/>
              </a:prstGeom>
              <a:solidFill>
                <a:srgbClr val="295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78560" y="3720960"/>
                <a:ext cx="581760" cy="42840"/>
              </a:xfrm>
              <a:prstGeom prst="rect">
                <a:avLst/>
              </a:prstGeom>
              <a:solidFill>
                <a:srgbClr val="295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78560" y="3763800"/>
                <a:ext cx="581760" cy="41400"/>
              </a:xfrm>
              <a:prstGeom prst="rect">
                <a:avLst/>
              </a:prstGeom>
              <a:solidFill>
                <a:srgbClr val="295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378560" y="3805200"/>
                <a:ext cx="581760" cy="42840"/>
              </a:xfrm>
              <a:prstGeom prst="rect">
                <a:avLst/>
              </a:prstGeom>
              <a:solidFill>
                <a:srgbClr val="2a5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78560" y="3848400"/>
                <a:ext cx="581760" cy="42840"/>
              </a:xfrm>
              <a:prstGeom prst="rect">
                <a:avLst/>
              </a:prstGeom>
              <a:solidFill>
                <a:srgbClr val="2a5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378560" y="3891240"/>
                <a:ext cx="581760" cy="42840"/>
              </a:xfrm>
              <a:prstGeom prst="rect">
                <a:avLst/>
              </a:prstGeom>
              <a:solidFill>
                <a:srgbClr val="2a5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78560" y="3934080"/>
                <a:ext cx="581760" cy="42480"/>
              </a:xfrm>
              <a:prstGeom prst="rect">
                <a:avLst/>
              </a:prstGeom>
              <a:solidFill>
                <a:srgbClr val="2b56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78560" y="3976920"/>
                <a:ext cx="581760" cy="42840"/>
              </a:xfrm>
              <a:prstGeom prst="rect">
                <a:avLst/>
              </a:prstGeom>
              <a:solidFill>
                <a:srgbClr val="2b5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78560" y="4019760"/>
                <a:ext cx="581760" cy="43920"/>
              </a:xfrm>
              <a:prstGeom prst="rect">
                <a:avLst/>
              </a:prstGeom>
              <a:solidFill>
                <a:srgbClr val="2b5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78560" y="4063680"/>
                <a:ext cx="581760" cy="42840"/>
              </a:xfrm>
              <a:prstGeom prst="rect">
                <a:avLst/>
              </a:prstGeom>
              <a:solidFill>
                <a:srgbClr val="2c5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378560" y="4106520"/>
                <a:ext cx="581760" cy="41400"/>
              </a:xfrm>
              <a:prstGeom prst="rect">
                <a:avLst/>
              </a:prstGeom>
              <a:solidFill>
                <a:srgbClr val="2c5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78560" y="4148280"/>
                <a:ext cx="581760" cy="42840"/>
              </a:xfrm>
              <a:prstGeom prst="rect">
                <a:avLst/>
              </a:prstGeom>
              <a:solidFill>
                <a:srgbClr val="2c5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378560" y="4191120"/>
                <a:ext cx="581760" cy="42840"/>
              </a:xfrm>
              <a:prstGeom prst="rect">
                <a:avLst/>
              </a:prstGeom>
              <a:solidFill>
                <a:srgbClr val="2d5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378560" y="4234320"/>
                <a:ext cx="581760" cy="42840"/>
              </a:xfrm>
              <a:prstGeom prst="rect">
                <a:avLst/>
              </a:prstGeom>
              <a:solidFill>
                <a:srgbClr val="2d5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78560" y="4277160"/>
                <a:ext cx="581760" cy="42480"/>
              </a:xfrm>
              <a:prstGeom prst="rect">
                <a:avLst/>
              </a:prstGeom>
              <a:solidFill>
                <a:srgbClr val="2d5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78560" y="4319640"/>
                <a:ext cx="581760" cy="42840"/>
              </a:xfrm>
              <a:prstGeom prst="rect">
                <a:avLst/>
              </a:prstGeom>
              <a:solidFill>
                <a:srgbClr val="2e5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78560" y="4362840"/>
                <a:ext cx="581760" cy="43920"/>
              </a:xfrm>
              <a:prstGeom prst="rect">
                <a:avLst/>
              </a:prstGeom>
              <a:solidFill>
                <a:srgbClr val="2e5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78560" y="4406760"/>
                <a:ext cx="581760" cy="42840"/>
              </a:xfrm>
              <a:prstGeom prst="rect">
                <a:avLst/>
              </a:prstGeom>
              <a:solidFill>
                <a:srgbClr val="2e5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378560" y="4449600"/>
                <a:ext cx="581760" cy="41400"/>
              </a:xfrm>
              <a:prstGeom prst="rect">
                <a:avLst/>
              </a:prstGeom>
              <a:solidFill>
                <a:srgbClr val="2e5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378560" y="4491360"/>
                <a:ext cx="581760" cy="42840"/>
              </a:xfrm>
              <a:prstGeom prst="rect">
                <a:avLst/>
              </a:prstGeom>
              <a:solidFill>
                <a:srgbClr val="2e5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78560" y="4534200"/>
                <a:ext cx="581760" cy="42840"/>
              </a:xfrm>
              <a:prstGeom prst="rect">
                <a:avLst/>
              </a:prstGeom>
              <a:solidFill>
                <a:srgbClr val="2f5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78560" y="4577040"/>
                <a:ext cx="581760" cy="42840"/>
              </a:xfrm>
              <a:prstGeom prst="rect">
                <a:avLst/>
              </a:prstGeom>
              <a:solidFill>
                <a:srgbClr val="2f5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78560" y="4619880"/>
                <a:ext cx="581760" cy="42480"/>
              </a:xfrm>
              <a:prstGeom prst="rect">
                <a:avLst/>
              </a:prstGeom>
              <a:solidFill>
                <a:srgbClr val="2f5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78560" y="4662720"/>
                <a:ext cx="581760" cy="42840"/>
              </a:xfrm>
              <a:prstGeom prst="rect">
                <a:avLst/>
              </a:prstGeom>
              <a:solidFill>
                <a:srgbClr val="2f5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78560" y="4705560"/>
                <a:ext cx="581760" cy="43920"/>
              </a:xfrm>
              <a:prstGeom prst="rect">
                <a:avLst/>
              </a:prstGeom>
              <a:solidFill>
                <a:srgbClr val="3060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78560" y="4749840"/>
                <a:ext cx="581760" cy="42840"/>
              </a:xfrm>
              <a:prstGeom prst="rect">
                <a:avLst/>
              </a:prstGeom>
              <a:solidFill>
                <a:srgbClr val="3060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78560" y="4792680"/>
                <a:ext cx="581760" cy="41400"/>
              </a:xfrm>
              <a:prstGeom prst="rect">
                <a:avLst/>
              </a:prstGeom>
              <a:solidFill>
                <a:srgbClr val="306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78560" y="4834080"/>
                <a:ext cx="581760" cy="42840"/>
              </a:xfrm>
              <a:prstGeom prst="rect">
                <a:avLst/>
              </a:prstGeom>
              <a:solidFill>
                <a:srgbClr val="3061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8560" y="4877280"/>
                <a:ext cx="581760" cy="42840"/>
              </a:xfrm>
              <a:prstGeom prst="rect">
                <a:avLst/>
              </a:prstGeom>
              <a:solidFill>
                <a:srgbClr val="3061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378560" y="4920120"/>
                <a:ext cx="581760" cy="42840"/>
              </a:xfrm>
              <a:prstGeom prst="rect">
                <a:avLst/>
              </a:prstGeom>
              <a:solidFill>
                <a:srgbClr val="306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78560" y="4962960"/>
                <a:ext cx="581760" cy="42480"/>
              </a:xfrm>
              <a:prstGeom prst="rect">
                <a:avLst/>
              </a:prstGeom>
              <a:solidFill>
                <a:srgbClr val="316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378560" y="5005800"/>
                <a:ext cx="581760" cy="4284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78560" y="5048640"/>
                <a:ext cx="581760" cy="4392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78560" y="5092560"/>
                <a:ext cx="581760" cy="42840"/>
              </a:xfrm>
              <a:prstGeom prst="rect">
                <a:avLst/>
              </a:prstGeom>
              <a:solidFill>
                <a:srgbClr val="3162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378560" y="5135400"/>
                <a:ext cx="581760" cy="41400"/>
              </a:xfrm>
              <a:prstGeom prst="rect">
                <a:avLst/>
              </a:prstGeom>
              <a:solidFill>
                <a:srgbClr val="316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378560" y="517716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78560" y="522000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78560" y="526284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78560" y="5306040"/>
                <a:ext cx="581760" cy="4248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78560" y="5348520"/>
                <a:ext cx="581760" cy="4284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78560" y="5391720"/>
                <a:ext cx="581760" cy="4392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8560" y="54356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78560" y="5478480"/>
                <a:ext cx="581760" cy="4140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78560" y="55202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78560" y="556308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8560" y="560592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78560" y="5648760"/>
                <a:ext cx="581760" cy="4248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78560" y="569160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78560" y="5734440"/>
                <a:ext cx="581760" cy="4392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78560" y="57783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78560" y="5821560"/>
                <a:ext cx="581760" cy="4140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78560" y="58629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378560" y="5905800"/>
                <a:ext cx="581760" cy="428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378560" y="461880"/>
              <a:ext cx="58392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378560" y="48052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7129800" y="506052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CT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5400000">
            <a:off x="7643520" y="5804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8560" y="4618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7071480" y="97992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7643520" y="13068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268880" y="1147680"/>
            <a:ext cx="167760" cy="456840"/>
            <a:chOff x="4268880" y="1147680"/>
            <a:chExt cx="167760" cy="456840"/>
          </a:xfrm>
        </p:grpSpPr>
        <p:sp>
          <p:nvSpPr>
            <p:cNvPr id="438" name=""/>
            <p:cNvSpPr/>
            <p:nvPr/>
          </p:nvSpPr>
          <p:spPr>
            <a:xfrm>
              <a:off x="4351320" y="1147680"/>
              <a:ext cx="2160" cy="360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68880" y="1505880"/>
              <a:ext cx="167760" cy="986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0"/>
                  </a:moveTo>
                  <a:lnTo>
                    <a:pt x="40" y="83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417920" y="3090960"/>
            <a:ext cx="1800" cy="342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17640" y="3433680"/>
            <a:ext cx="3302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635200" y="3433680"/>
            <a:ext cx="169560" cy="344520"/>
            <a:chOff x="2635200" y="3433680"/>
            <a:chExt cx="169560" cy="344520"/>
          </a:xfrm>
        </p:grpSpPr>
        <p:sp>
          <p:nvSpPr>
            <p:cNvPr id="443" name=""/>
            <p:cNvSpPr/>
            <p:nvPr/>
          </p:nvSpPr>
          <p:spPr>
            <a:xfrm>
              <a:off x="2717640" y="3433680"/>
              <a:ext cx="180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35200" y="3678120"/>
              <a:ext cx="169560" cy="10008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0"/>
                  </a:moveTo>
                  <a:lnTo>
                    <a:pt x="39" y="84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937120" y="3433680"/>
            <a:ext cx="166320" cy="344520"/>
            <a:chOff x="5937120" y="3433680"/>
            <a:chExt cx="166320" cy="344520"/>
          </a:xfrm>
        </p:grpSpPr>
        <p:sp>
          <p:nvSpPr>
            <p:cNvPr id="446" name=""/>
            <p:cNvSpPr/>
            <p:nvPr/>
          </p:nvSpPr>
          <p:spPr>
            <a:xfrm>
              <a:off x="6019200" y="3433680"/>
              <a:ext cx="216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37120" y="3678120"/>
              <a:ext cx="166320" cy="10008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0" y="0"/>
                  </a:moveTo>
                  <a:lnTo>
                    <a:pt x="40" y="84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635200" y="4119480"/>
            <a:ext cx="169560" cy="344520"/>
            <a:chOff x="2635200" y="4119480"/>
            <a:chExt cx="169560" cy="344520"/>
          </a:xfrm>
        </p:grpSpPr>
        <p:sp>
          <p:nvSpPr>
            <p:cNvPr id="449" name=""/>
            <p:cNvSpPr/>
            <p:nvPr/>
          </p:nvSpPr>
          <p:spPr>
            <a:xfrm>
              <a:off x="2717640" y="4119480"/>
              <a:ext cx="180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35200" y="4363920"/>
              <a:ext cx="169560" cy="10008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0"/>
                  </a:moveTo>
                  <a:lnTo>
                    <a:pt x="39" y="84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635200" y="4919760"/>
            <a:ext cx="169560" cy="342360"/>
            <a:chOff x="2635200" y="4919760"/>
            <a:chExt cx="169560" cy="342360"/>
          </a:xfrm>
        </p:grpSpPr>
        <p:sp>
          <p:nvSpPr>
            <p:cNvPr id="452" name=""/>
            <p:cNvSpPr/>
            <p:nvPr/>
          </p:nvSpPr>
          <p:spPr>
            <a:xfrm>
              <a:off x="2717640" y="4919760"/>
              <a:ext cx="1800" cy="24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35200" y="5163480"/>
              <a:ext cx="169560" cy="9864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0" y="0"/>
                  </a:moveTo>
                  <a:lnTo>
                    <a:pt x="39" y="83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937120" y="4119480"/>
            <a:ext cx="166320" cy="344520"/>
            <a:chOff x="5937120" y="4119480"/>
            <a:chExt cx="166320" cy="344520"/>
          </a:xfrm>
        </p:grpSpPr>
        <p:sp>
          <p:nvSpPr>
            <p:cNvPr id="455" name=""/>
            <p:cNvSpPr/>
            <p:nvPr/>
          </p:nvSpPr>
          <p:spPr>
            <a:xfrm>
              <a:off x="6019200" y="4119480"/>
              <a:ext cx="216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37120" y="4363920"/>
              <a:ext cx="166320" cy="10008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0" y="0"/>
                  </a:moveTo>
                  <a:lnTo>
                    <a:pt x="40" y="84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937120" y="4919760"/>
            <a:ext cx="166320" cy="342360"/>
            <a:chOff x="5937120" y="4919760"/>
            <a:chExt cx="166320" cy="342360"/>
          </a:xfrm>
        </p:grpSpPr>
        <p:sp>
          <p:nvSpPr>
            <p:cNvPr id="458" name=""/>
            <p:cNvSpPr/>
            <p:nvPr/>
          </p:nvSpPr>
          <p:spPr>
            <a:xfrm>
              <a:off x="6019200" y="4919760"/>
              <a:ext cx="2160" cy="24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37120" y="5163480"/>
              <a:ext cx="166320" cy="986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0"/>
                  </a:moveTo>
                  <a:lnTo>
                    <a:pt x="40" y="83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0" y="2405160"/>
            <a:ext cx="77940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-475200" y="2791440"/>
            <a:ext cx="1598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ime Horiz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288360" y="23428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61400" y="2176560"/>
            <a:ext cx="77796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5400000">
            <a:off x="7396560" y="3203640"/>
            <a:ext cx="200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ypes of Decis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8365320" y="37609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BE4-807F-4BE7-9390-AE9AE193C6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92AC1-56FA-41FF-AB75-533B41AE74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191120" y="3733920"/>
            <a:ext cx="434340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 individual aircraft hon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tenance restr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aircraft types to flight le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ribu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max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 flight specifies origin, destinatio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d departure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91120" y="3733920"/>
            <a:ext cx="4343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tribution = Revenue -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1828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371600" y="2286000"/>
            <a:ext cx="2666880" cy="1145520"/>
            <a:chOff x="1371600" y="2286000"/>
            <a:chExt cx="2666880" cy="1145520"/>
          </a:xfrm>
        </p:grpSpPr>
        <p:sp>
          <p:nvSpPr>
            <p:cNvPr id="475" name=""/>
            <p:cNvSpPr/>
            <p:nvPr/>
          </p:nvSpPr>
          <p:spPr>
            <a:xfrm>
              <a:off x="1371600" y="2971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66880" y="2286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371600" y="3429000"/>
            <a:ext cx="2666880" cy="1145520"/>
            <a:chOff x="1371600" y="3429000"/>
            <a:chExt cx="2666880" cy="1145520"/>
          </a:xfrm>
        </p:grpSpPr>
        <p:sp>
          <p:nvSpPr>
            <p:cNvPr id="478" name=""/>
            <p:cNvSpPr/>
            <p:nvPr/>
          </p:nvSpPr>
          <p:spPr>
            <a:xfrm>
              <a:off x="1371600" y="4114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66880" y="3429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371600" y="4572000"/>
            <a:ext cx="2666880" cy="1145520"/>
            <a:chOff x="1371600" y="4572000"/>
            <a:chExt cx="2666880" cy="1145520"/>
          </a:xfrm>
        </p:grpSpPr>
        <p:sp>
          <p:nvSpPr>
            <p:cNvPr id="481" name=""/>
            <p:cNvSpPr/>
            <p:nvPr/>
          </p:nvSpPr>
          <p:spPr>
            <a:xfrm>
              <a:off x="13716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6880" y="4572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4191120" y="16002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lect optimal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flight leg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a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48006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crew (pilots and/or fl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tendants) to flight le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699-BCF0-4B98-A14F-391C0F9DBB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F9C89-2304-4206-A856-A3851399DD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: 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1676520"/>
            <a:ext cx="7772400" cy="46861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954080" y="1752480"/>
            <a:ext cx="5104800" cy="4267080"/>
            <a:chOff x="1954080" y="1752480"/>
            <a:chExt cx="5104800" cy="4267080"/>
          </a:xfrm>
        </p:grpSpPr>
        <p:sp>
          <p:nvSpPr>
            <p:cNvPr id="488" name=""/>
            <p:cNvSpPr/>
            <p:nvPr/>
          </p:nvSpPr>
          <p:spPr>
            <a:xfrm>
              <a:off x="1954080" y="1752480"/>
              <a:ext cx="510480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54080" y="2971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54080" y="4114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54080" y="5257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2872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2872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2872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16E-2246-4998-AD35-32B78C6C21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4F707-94BB-4875-AC8D-6ECA6A0567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: 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219320" y="1752480"/>
            <a:ext cx="5104440" cy="4267080"/>
            <a:chOff x="1219320" y="1752480"/>
            <a:chExt cx="5104440" cy="4267080"/>
          </a:xfrm>
        </p:grpSpPr>
        <p:sp>
          <p:nvSpPr>
            <p:cNvPr id="497" name=""/>
            <p:cNvSpPr/>
            <p:nvPr/>
          </p:nvSpPr>
          <p:spPr>
            <a:xfrm>
              <a:off x="1219320" y="1752480"/>
              <a:ext cx="510444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19320" y="2971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19320" y="4114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19320" y="5257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9360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9360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9360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324480" y="33717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371760"/>
            <a:ext cx="0" cy="1200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324120" y="4572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4480" y="20001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200016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324120" y="31431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24480" y="46782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4678200"/>
            <a:ext cx="0" cy="1036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6324120" y="5715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24480" y="3371760"/>
            <a:ext cx="172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51760" y="3371760"/>
            <a:ext cx="0" cy="2648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324480" y="6019920"/>
            <a:ext cx="172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B66-3446-44B2-9962-9A4878BAD3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1A989-8DC3-482B-953E-E17F135F3E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light Sched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inimum turn times = 30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447920" y="2209680"/>
          <a:ext cx="6476760" cy="4267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6002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ight N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sti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p. 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rival 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565-4774-4F59-829E-980D52E3F4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16B6F-64B4-4F75-88BE-2F3F58C349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ime-Space Flight Network Nod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ssociated with each nod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a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cation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a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m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t(j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Departure Nod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rresponds to a flight departure from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 Arrival Nod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rresponds to a flight arrival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– min_turn_tim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(j)= arrival time of flight + min_turn_time = flight ready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D9D-F0A9-4B9D-AFC5-04351E4BED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35B62-1CC6-420B-BD66-89816C1B0FFA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Space Flight Network Arc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ssociated with each arc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with endnodes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  is an aircraft movement in space and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Flight Arc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resents a flight departing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arriving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k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k) – min_turn_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Ground Arc or Connection Arc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resents an aircraft on the ground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(= l(k)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om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until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k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D8B-D5F3-48B9-9098-E8A60DEA75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DBE18-CCF3-4D7D-8560-C631DEECD32A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3:04Z</dcterms:modified>
  <cp:revision>309</cp:revision>
  <dc:subject/>
  <dc:title>Thesis Proposal Meeting</dc:title>
</cp:coreProperties>
</file>