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25D4E7-3E43-4DE3-9649-0FBD68CC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A7978-0E69-4C29-A0F6-996974AE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8723F3-F93C-4BED-BCEB-A6E0AA08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FC2803-EF6B-42D1-BFB5-2ED8DF6B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3DFA8B-A680-4C38-8046-FA678010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1088FD-900A-4859-870D-64E5FFC5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447F9-637F-49AA-BF05-79E8179E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15A483-D727-4B43-B35A-E332375E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15D2C-21BA-41D3-BCD7-ED971E5F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3CBAA2-B6D3-4367-B524-DE2136FE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EA78E-4B23-4295-8704-45E67F5B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DB218-B6C1-4DAB-AED9-8145D11D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71D296-D390-41AC-8044-91E2E3FE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0C74F5-BB63-41D9-90B5-176B74F1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4D53D1-338C-4261-B50B-0F539C51F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A563C0-39DC-40E0-80FC-5BA0CD0E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7878A1-D0C4-409E-AA25-A969EC1D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9ACE8-9631-44D7-90E9-8BAFD7CB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06B-3A82-4117-B37A-E0B4F740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BDB-F262-426C-9E42-365B62AE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244-C7F0-45AB-BC1D-08D945AC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FA4-A7CD-4CAD-AF72-579D2F0B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6F-06B4-4CA5-824B-7279245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39B-8988-44EA-9564-30A89DDA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3B5-357D-4125-8874-0D51887A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501-D920-4D78-912C-0862EB3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C89-41D0-441A-A792-A9B133F4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A14-FD7F-4500-815D-7DDD59C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639-4145-44D4-99E1-E249816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B17-98E7-4A47-ADEE-750DEE4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ECE-EB1F-443E-A8F8-5C516D3310A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5B3-D161-46D0-86E5-132E7A89BB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F09-878F-4CED-891F-84CEE566FD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FEAB0-A588-4383-9550-9B665EB6D6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817-DA64-4871-BF0F-4EB27D46E0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11F00-A132-4CDF-95AC-B1B5B59E8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94B-53F3-4D68-B76B-85E45FB26487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85CD5-A6E8-4317-9342-4A093E1A3A4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27A-598A-48C0-B65C-2CB6AC454BE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D362-36A2-4393-B6E8-C6E215360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F70-0A75-42F9-A226-98A0CE8013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BEF48-D8CF-4674-9999-2B1B69314C91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73D-6B30-439F-9475-B10CD104FF2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A543A-B04E-46F5-80D1-8CE4E61BF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921-158C-4AC4-8064-BEBE35716C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58B71-85CD-4949-8B35-681E6BDB37E8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1EA-3AF5-4BAB-8038-D454A48FE79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95F79-DB46-450B-AFB0-015D09719C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CBA-6000-4F79-84C4-3DE302F898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F81BB-F27E-42EA-A35C-205C8219709A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373-83CA-454C-83BC-D06D63B741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251A9-C30B-484E-93EE-F4B32421A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1CE-026C-4C1A-AD54-F01D71C000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A4FE0-D1DC-4FC8-A692-1C68F473ED7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B10-53C1-4A03-B0F7-3023B6DA26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93CF-5C99-4AD9-8453-003FC3512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5C1-7EBF-4098-A8A6-F695422C39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803B8-D45C-41A8-930A-AE4D558C1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3AF-8A7C-4A35-9537-5158B73CDC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A4B1F-330E-4ED1-A387-34B8A63E6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466-A3DA-464A-B92D-17BF57741C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9112E-65BC-4191-840F-967F0BABAB68}" type="datetime5">
              <a:rPr lang="en-US"/>
              <a:t>Jul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F4C-97DE-49A7-8B93-C5DA633F48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B08EB-1796-4E57-9CBA-7E5DCCB21A5F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421-A4B7-4E1E-A198-0E43A96BC4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8D4A0-0C66-4735-965A-F48F719C76D0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C6D-B8F1-4B2D-A94A-0B8C0DCE8A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2EA3-307C-4524-B2C4-A34BE820E27F}" type="datetime5">
              <a:rPr lang="en-US"/>
              <a:t>Jul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123-1D74-4CB5-A799-8B221E41BD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3B71C-EABC-4593-9827-2B60156BA42D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6A1-FDFF-4ACC-BFCE-64F24D6F1C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CB7D6-060E-469D-8A45-1EA94ED89EC2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CC9-BFE3-4826-9702-5891E2DDD1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5FB3C-CB6B-4677-829E-7B466120B54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AD3-7680-4F22-BBC4-2831FF2C5F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D5A41-4BFD-4124-B2D9-380C50F41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904-DB24-4C2B-94B4-8C60EBCF8B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AD791-E08B-4BE7-BB38-1DB6024B90DB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608-93C1-4193-9A89-6F0420C1CE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BACE1-B954-44E7-8B8A-023B7A06A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A1D-B11F-4644-A545-9D116B98449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89387-A16F-4C19-A195-98F49DE2016E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C81-4E2C-466B-8044-C9810698F7B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F2758-3053-4588-9E87-952BD82B4380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BD6-D1AF-4D8A-95B6-DBEE3E0F2A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27189-B647-4A8F-8141-7BDD420FB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6B4-AD04-403D-AD6E-7B2A70E9DF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761AE-0C41-4AD8-BA6C-A550FC9ACBAA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62B-A0AC-43AD-BF62-C6624E0A45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CB7BA-A495-4FAC-AE87-0318D4082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CB9-EA85-4039-9EF3-F89839280A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BC350-6BA1-4D43-9793-B5C2E2CC8E5C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B29-3D25-4CE7-896A-0B8BEC8A17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A1E4-A0DE-40EA-A3E7-195163106348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D75-4F41-4277-99EC-99374D09E5A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D59C8-7341-412A-ABC7-92F3C521253D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646-4808-4B93-867B-67E6C0D47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9391E-1586-48B5-9DEE-3B9A357AB3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DE1-3AC1-41A8-8FCC-1A33B295BC6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3FF0F-FC99-4602-A028-33A629007F7E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97A-2913-4673-91EF-9AE1E6C6069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AA268-9D0E-4A89-88F9-75EC27CBBC39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4FE-993C-4416-9656-EA413E1255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567B9-B053-478C-B9CD-6FDFBA3C9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68D-A20F-4EF1-92AF-08F7B6C4198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C6ADC-4C88-497E-B6DF-14D7831A2A65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AC0-91D5-4B23-B348-BD8F7F9099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8A352-D7E8-4178-B691-9E28388C39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348-C513-4B98-B4CE-48DC34B417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77776-542B-4CB1-8C57-B77C2053E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209-2882-48DE-BDA6-558E7C31FF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B1717-8B23-4F56-B972-493CBE997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D5D-0C74-4536-9340-E78FF91A9F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BD952-9BC1-43F5-8AB6-13B69624F9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1B8-441A-4CE8-980C-E37A320D3EA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1FBAB-2067-40A8-A0B0-8D618B53B197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3FE-D27C-4DA3-80E3-61E843D811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E6AA9-5EAB-4CD2-9DBE-C96857503F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48F-A374-42C7-B1F5-4F8F206545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56D0E-C151-4462-9076-9A6091F109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E89-BC78-42D1-A2B0-3AA934620B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0684D-90FE-42E8-9746-93A4C936A6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700-83CB-4E4B-B126-B105A2CDA6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546C3-D4B4-4DB5-903C-812904A0DCA5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E95-41A1-4B1B-916B-E8AB5C8D9B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9921C-C31F-4F6E-AA9E-079E4AE35A40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C7C-8B02-46AB-A1DB-B254635B70F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847C3-3DFB-4E73-9D32-E46C8F25D1C7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206-2147-4552-89F0-8063FA4EF89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B0182-EEC6-4627-9418-66A13B0FC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15D-1B32-4412-945A-F8C7CFF371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631D9-467F-47C0-9D47-50AE9FFF8E8B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206-3207-4B6C-9447-5D05EDACA7A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F7B55-B11F-4237-944E-E812DE9C7706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499-1020-47F7-85F3-2A46C28897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B86CF-DB78-442B-B9F7-CC644ADD6DCB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876-0E00-4B97-97AF-8F305363BE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E57B8-43FD-4C78-8DAF-0F5561075398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ED7-B173-4841-85B3-E1B9860423C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5F9C3-98B8-4B0F-82BE-EC3565C5585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DD0-BA03-45BB-B104-ED11B239D6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03BB9-6A51-4644-96CB-1D9A26DD3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A8B-C4C7-4B19-93F3-A9DBBDCE9B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D3ED6-750E-4890-A19A-04D4CFBA6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FE1-62B1-4FB3-8908-27CFC9C080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39D82-E186-4986-A39F-D4FE815AB4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97C-C6DA-44FD-9ACD-170609F34A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F63AF-61A0-474C-B3DD-865266BDE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665-3BE3-4AAA-8F7E-ADB7EB9E6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9D4AF-6CFB-4862-9EC9-445247D44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446-B771-46AC-BC9D-9FF588BAC1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01B32-E645-46AD-B85A-0EA74B4CB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