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334-F3F3-4FA8-A3E0-21CAC90C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118-BC48-4A4F-B8CF-C55AED0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4A9-ABC0-47AB-802F-EEB807D3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9D3-EC59-4CB6-8D8D-BA385C7C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E45-60B4-431D-9186-5B6A465B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229-B574-4A65-BC35-66FEF2CA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987-1469-4821-A881-35BE040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A19-15DB-4187-B192-1CC1DD8C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D97-9EEE-42CE-AE05-A4B97C2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D7B-FE05-4A7B-BD04-5D225F7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8F9-A4D6-4957-B114-1EAF275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8DF-A62F-4931-A4E4-29D8E87D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3E1-617D-401A-8513-59F54F5655E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0BC8-0109-4890-831F-C884910D4C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* total dut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duty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compensates for flying time, but also compensates for “undesirable”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E4D-0A9A-421C-A05C-D3740765BE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0A6AB-5123-4464-9F78-79A47794F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uty perio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nterspersed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s of re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at begins and ends at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w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606-E52E-44B9-ADB9-9F67C86021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07B5E-84A5-4006-8C7E-BD075C3D64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uty starts/last duty ends at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rest between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lay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number of days away from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in-24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E35-3122-44AD-83DE-0035B7AD6B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01AE6-AB7C-4F67-930B-8F8F2687A3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* total time away from base (TAF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pairing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A5A-6EA6-4835-9758-CAD5B3BDA2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A8AB2-91E7-469D-B01C-DEC9231BB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rest between pai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monthly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ime on du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total number of day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key differ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function focuses on crew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edules individuals rather than complete cr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EA6-F719-40D6-8AED-62C9932469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C0BA9-77C3-4F54-8A6D-03A70412B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Schedul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371600"/>
            <a:ext cx="6172200" cy="441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w Schedul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251000"/>
            <a:ext cx="8166240" cy="466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2760" y="1219320"/>
            <a:ext cx="8178480" cy="48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4160" y="1130400"/>
            <a:ext cx="863568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3DD-2BE1-49F4-B839-D1310947F3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FDF9A-77B1-46BE-9986-2F27A02C9F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 minimum cost set of pairings such that every flight is included in exactly one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7BC-9E4C-480E-B625-0A912515B3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14F9B-BA1D-45AD-B190-8D9144AA1D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lights operating four or more times per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sen pairings will be repeated each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day pairings will be flown by multiple cre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cannot be repeated in a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793-4047-495B-85EC-B3CAAB8BE0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DF08A-5D99-4012-962C-96B8ED4AF4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2040" y="35560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775040" y="40892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78836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78836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E7B-65F6-458B-8932-42153F8BDA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BEEE-8D3C-4AB1-9429-9BF630A21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632040" y="190512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75040" y="2438280"/>
            <a:ext cx="3302280" cy="40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24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0080" y="303516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7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89920" y="30351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920" y="2436840"/>
            <a:ext cx="992160" cy="3826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320" y="249408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1905120"/>
            <a:ext cx="992160" cy="382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8640" y="196200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7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2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015-93F6-4F96-9C0C-5C14E1BCA6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C3A89-3BEC-4275-89F4-0EB82D673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tial 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Optimiz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Price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1B5-B836-4740-841A-95D37FD45A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96B90-5F12-4633-B08F-E07FB3D05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scheduled in a week-long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on a particular flight leg can vary by day of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85A-6D5C-4088-9266-2C4E8D430A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EC654-E7BF-4053-BB5B-8268E1BDC6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in “broken pairing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that are scheduled at most three times/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“weekly”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E86-6CA1-4F24-B435-C905C169DA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17B1A-0B42-4464-82CD-8E16439F9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an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flights in pairings that cross the end of the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te as well as flight number, location, time, day-of-we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pairings connecting two different flight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DBA-0D80-4A9F-9986-454130B100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20861-BD8F-4D09-B404-40958ECBE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812880" y="3048120"/>
            <a:ext cx="1854000" cy="106668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124080"/>
            <a:ext cx="198144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124080"/>
            <a:ext cx="205740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52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884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F83-DC7E-48D3-8583-C5B5ED0E12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93647-AE95-49D1-8E3C-ED94A81441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ment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ed at the individ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rest, vacation time, medical leave,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is not on cost but crew needs/ prefer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910-B37C-4F08-BB0E-DD5F42671E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2B067-A58A-4856-ACBC-A2D1352CE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idline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s are constructed into gener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s are posted and crew members bid for specif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enior crew members given greater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ly used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24F-E116-42A6-9B4A-3923987A16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CE225-47EF-4693-93E1-D0C6EB266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Roste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d pairings are constru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crew vacation requests, training need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priority given to more senior crew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 outside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F0E-482F-49E6-B3B9-6A3E202087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580E1-86B6-4F3C-9DF9-C8EE29F7CB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vs.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ing flights to form pairing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quencing pairings to form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partitioning formulations (possibly with side constrain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rews vs. single crew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 fun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 hor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6B6-6365-40BE-AB82-9238D944C9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AAC25-CA80-43E4-BDCA-6EF86C8977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ckpit vs. Cab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s stay together; cabin crew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akeup is fixed; cabin needs can vary by dem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bin crew members have a wider range of aircraft they can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embers receive higher sal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C6B-4904-435F-A20E-BDEA21682B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EC1D-9C1A-4935-B9A6-B4E1E9CF64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omestic vs. Internation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estic U.S. networks of large carriers are predominantly hub-and-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many connection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estic networks are usually 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networks are typically point-to-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of a need to 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adh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networks are typically 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448-A00A-4460-9725-A47A074CE9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A3A65-6CDA-47A4-88F9-7D8DFC1248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rew Scheduling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largest operating expense (after fu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success 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x problems with many remaining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se study for techniques to solve large 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145-E59E-425B-A94B-D6881E0A3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604A-5A88-4F16-B714-7BEFD36023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overy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disruption, adjust the crew schedule so that it becomes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ur objecti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original schedule as quickly as possi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passenger disruptio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co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time horizon -- need fast heu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4B5-2FD9-4F3A-99DD-9307C2F833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9BDC7-A8CB-412F-AA26-F0B943378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cus: Daily Domestic Cockpit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approach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with aircraft routing, F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871-F29E-4DE4-AF55-FBC6DD19FC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BBA06-C144-43A5-AA46-4BC314960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set of flights (corresponding to 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al fleet type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leet fami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choose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cost set of pairings such that e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is covered exactly once (i.e. every flight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ed in exactly one pai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376-5CD1-46E4-834F-F0721E9CD8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75AFC-234D-4BF4-B37B-2594A97D7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feasible pairings for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daily flights assigned to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f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defined to be 1 if flight f is included in pairing p, else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the cost of pairing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a binary decision variable – value 1 indicates that pairing p is chosen, else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393-E785-4974-B2AD-CCC2262EA2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F4BEF-B224-426F-B022-D6E5D4487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C84-2272-41CF-8870-7B8E885606C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63ECE-99D3-4B68-8024-EDE6CE61D4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 this an easy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objective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complex feasibility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write/intui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 number of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number of integer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CD9-77B7-44BE-AA78-843CE0E70D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FA538-7F7C-414E-AD76-90E65F281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do we solve it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branch-and-bound to solve the 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column generation to solve the individual LP relax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mbines the tw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CB5-4625-40CA-8108-C47F437D15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FD206-B13E-4A27-B3EE-FC9C5021D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generation solv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 with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stricted mas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 subset of the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o optim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put the duals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ic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look for negative reduced cost colum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8EE-74CE-44C3-88E0-F967921179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28111-737F-4125-A6DF-8B9FA1EA95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Crew 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enough columns to ensure a feasible solution (may need to use artificial variab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Restricted Master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one or more negative reduced cost columns for each crew base; add to Restricted Master problem and re-sol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 new columns are found, LP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B2A-F519-4072-AFB1-DB45C05E2B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F281E-E865-4F24-A653-472EA96495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airing Reduced C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cost of pairing p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819520"/>
            <a:ext cx="7238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95280" y="3060720"/>
                <a:ext cx="72201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B21-461D-4F84-9697-5C26162100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FA021-DDFA-46D8-AF2A-E92FD016A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51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ADB-0575-4AF4-B6BB-E9CCA724E0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8538B-C0F4-47A7-BAF2-6D0667CD53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7F1-D934-40B4-9063-40BA4798B40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EFB6E-8135-42B7-91E6-4862D614E5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as a Shortest Path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iring can be seen as a path, where nodes represent flights and arcs represent valid conn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tart/end at a given crew b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daily problem,  paths cannot repeat a f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atisfy duty and pairing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costs can be computed via labels corresponding to pairing reduc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105-B467-4743-86FC-5E3347C8C2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AFBDF-6D09-42D4-8E84-4E949155AE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s represent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s represent (potentially) feasible conn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copies of the network in order to construct multi-day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/sink nodes at the crew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0D8-91ED-4D4C-B717-86650C469D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B0E26-4021-4E9C-9E7A-B11B9CD07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429000"/>
            <a:ext cx="1143000" cy="1143000"/>
          </a:xfrm>
          <a:prstGeom prst="ellipse">
            <a:avLst/>
          </a:prstGeom>
          <a:solidFill>
            <a:srgbClr val="00cc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2819520"/>
            <a:ext cx="1371600" cy="76176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419720"/>
            <a:ext cx="1219320" cy="68580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486400"/>
            <a:ext cx="3200400" cy="3049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651640" cy="5194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792600" y="1905120"/>
            <a:ext cx="2760480" cy="71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92600" y="2819520"/>
            <a:ext cx="2684520" cy="90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809880" y="3962520"/>
            <a:ext cx="2760840" cy="125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34F-02C1-4DBB-B9C7-5415E667E4D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383B5-BE81-4CAC-B68B-3FE90E4700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Day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88620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276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24382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E07-3683-4DBF-9934-9AFD0140C6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C0994-95C0-451A-89D2-BD82D80714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sibil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# of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fly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idle (connection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idle (connections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otal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983-FD5C-4455-A026-BBF3AD843BBA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9BA36-64A3-49AB-903B-2572A6663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have to trac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ing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elapsed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duty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ring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completed duties’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# completed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pairing reduced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also conta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’s label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7F2-0686-4B9A-BDAA-3A7D2D77C2E9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61EAB-B70B-4588-A1EA-4E563D81C8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(in topological order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label at that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66240" indent="-203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nnection arc out of that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the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label is created, check existing labels for domin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node ends at the crew base and reduced cost is negative, a potential column’s been f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167-2191-46D7-B02C-AB38A8F4FC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B1C91-160F-47D1-B51D-EEA257C37F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2336760" y="2133720"/>
            <a:ext cx="137160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light repea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33720"/>
            <a:ext cx="91440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iv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11560" y="762120"/>
            <a:ext cx="1396800" cy="14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708360" y="2108160"/>
            <a:ext cx="256392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477040" y="1301760"/>
            <a:ext cx="134640" cy="838080"/>
            <a:chOff x="5477040" y="1301760"/>
            <a:chExt cx="134640" cy="838080"/>
          </a:xfrm>
        </p:grpSpPr>
        <p:sp>
          <p:nvSpPr>
            <p:cNvPr id="249" name=""/>
            <p:cNvSpPr/>
            <p:nvPr/>
          </p:nvSpPr>
          <p:spPr>
            <a:xfrm>
              <a:off x="5514840" y="1433520"/>
              <a:ext cx="5724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7040" y="1301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42" y="0"/>
                  </a:lnTo>
                  <a:lnTo>
                    <a:pt x="0" y="86"/>
                  </a:lnTo>
                  <a:lnTo>
                    <a:pt x="8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857840" y="768240"/>
            <a:ext cx="13730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9840" y="9129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15040" y="1682640"/>
            <a:ext cx="534960" cy="23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6560" y="1703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80200" y="2657520"/>
            <a:ext cx="1143000" cy="135000"/>
            <a:chOff x="6280200" y="2657520"/>
            <a:chExt cx="1143000" cy="135000"/>
          </a:xfrm>
        </p:grpSpPr>
        <p:sp>
          <p:nvSpPr>
            <p:cNvPr id="256" name=""/>
            <p:cNvSpPr/>
            <p:nvPr/>
          </p:nvSpPr>
          <p:spPr>
            <a:xfrm>
              <a:off x="6280200" y="2695680"/>
              <a:ext cx="10112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8200" y="26575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5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23200" y="2114640"/>
            <a:ext cx="1373040" cy="13730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37840" y="254160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9600" y="281628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ing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2571840"/>
            <a:ext cx="534960" cy="230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6760" y="25923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16720" y="762120"/>
            <a:ext cx="139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442280" y="3456000"/>
            <a:ext cx="1396800" cy="142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95480" y="3733920"/>
            <a:ext cx="4572000" cy="19810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du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id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914400"/>
            <a:ext cx="6019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657600"/>
            <a:ext cx="3429000" cy="28954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b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red.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sum of duty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105520"/>
            <a:ext cx="4724280" cy="144756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pai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number of du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in lay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8380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DE3-9943-4B0F-A0D6-0D9ABB15B13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72B9F-0DCF-40B9-A85A-7BE81B1A87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and 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y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number of ar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hundreds of connections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363 flights, 7838 duties, 1.65 M conn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labels per path - duty rules are built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er number of ar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ically not more than 30 connections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r number of lab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7C3-E992-43D1-9C7B-8F62803B17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CD5C7-CDBD-46E5-8AB4-FFC962E60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crews to cover all flights for a given fleet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 paid for fl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alty”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1AA-385D-42BC-9492-C3C83161C2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C6647-535B-4174-B892-5FB43FB8F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049640" y="1066680"/>
            <a:ext cx="762120" cy="76212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0680" cy="96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803160" cy="803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343400" y="2916360"/>
            <a:ext cx="3144960" cy="96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073400" y="4038480"/>
            <a:ext cx="803520" cy="80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121520" y="4038480"/>
            <a:ext cx="803160" cy="80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60560" y="4668840"/>
            <a:ext cx="3159360" cy="96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673600" y="5749920"/>
            <a:ext cx="803520" cy="80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133720" y="5749920"/>
            <a:ext cx="16556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646-0350-49F9-A44D-F5AEA2ADAB6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A275C-C766-4973-8001-DA899D96A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euristic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-and-bound with only root node LP solved using column gene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feasible solution may exist in the columns generated to solve the root node 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tional wisdom:  need some “bad” columns to get a “good”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614-7008-43D1-A770-330F9603F4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C5D3F-7CD5-4465-ADDC-441F65BD96A4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a branching rule that is compatible with column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must be enforceable without changing the structure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label shortest path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based on variable dichotomy is not compat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not restrict the shortest path algorithm from finding a path (that is, a pair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B45-05AC-4A09-AA7C-49ABF49A669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C546A-A230-441D-B268-FF1827D75B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ariable Dichotomy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 to the crew pairing problem, pick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.t.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0 &lt;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&lt;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new problems: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,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rawback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epth of t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forcing in the pricing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ea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h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082-3E1F-48FC-B3A2-43D54B27D5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52749-4818-4F63-8103-5E344112CF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on Follow-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, there must be two flight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, f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uch tha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s followed by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2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fractional amount in the solu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1-f2-f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 and 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 on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s/is not followed by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wer branching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enforce in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CC2-C0C5-47CD-9AFA-48EAC03B09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5C2CC-DB16-474C-854D-F92A27B67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Alter Network to Enforce Branching Decis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D66-5F31-4479-B5A7-C5E0BD03B3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C9DF1-4B5E-4428-8E2F-8368D9D63493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Select Flight Pairs for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current LP solution values of all possible flight follow-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 on the follow-on with the greatest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F4F-6567-44C3-8667-A8874DF957D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EFA7C-6676-4F9B-AE31-3C1A4812077D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n Airlines (1993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5,000+ crew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ve $20+ million/y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s in 4 - 10 hou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CC7-FEDA-43C0-B3AE-85836A4EC7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7D630-3C0D-40A0-8E52-C8800C54C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ther Crew Scheduling Research Topi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bin crew schedu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ng pairing and assig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obust plann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cov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ed mod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33A-372F-4CE5-82FD-1AEC98DC2B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396B-0F7C-4FDF-B91E-500E5037EF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Flow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1240" cy="43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3080" y="1430280"/>
            <a:ext cx="7180200" cy="436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438280"/>
            <a:ext cx="4495680" cy="2971800"/>
          </a:xfrm>
          <a:prstGeom prst="rect">
            <a:avLst/>
          </a:prstGeom>
          <a:solidFill>
            <a:srgbClr val="ed253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feas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linear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519-33FD-47ED-8DAE-F9D5209900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C9D1A-A469-4B03-94BF-A0E27CA60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98640" y="1828800"/>
            <a:ext cx="1849680" cy="335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40760" y="2058840"/>
            <a:ext cx="1706400" cy="31226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65400" y="2133720"/>
            <a:ext cx="2247480" cy="3062160"/>
            <a:chOff x="365400" y="2133720"/>
            <a:chExt cx="2247480" cy="3062160"/>
          </a:xfrm>
        </p:grpSpPr>
        <p:grpSp>
          <p:nvGrpSpPr>
            <p:cNvPr id="68" name=""/>
            <p:cNvGrpSpPr/>
            <p:nvPr/>
          </p:nvGrpSpPr>
          <p:grpSpPr>
            <a:xfrm>
              <a:off x="365400" y="2133720"/>
              <a:ext cx="1485720" cy="3062160"/>
              <a:chOff x="365400" y="2133720"/>
              <a:chExt cx="1485720" cy="30621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1880" y="2133720"/>
                <a:ext cx="1389240" cy="1295280"/>
                <a:chOff x="461880" y="2133720"/>
                <a:chExt cx="1389240" cy="1295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17680" y="2828880"/>
                  <a:ext cx="121284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461880" y="2133720"/>
                  <a:ext cx="1389240" cy="1295280"/>
                  <a:chOff x="461880" y="2133720"/>
                  <a:chExt cx="1389240" cy="1295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936720" y="22860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36720" y="243828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936720" y="3048120"/>
                    <a:ext cx="304560" cy="75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36720" y="32004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520" y="2666880"/>
                    <a:ext cx="1371600" cy="2286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012680" y="2133720"/>
                    <a:ext cx="152640" cy="53316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012680" y="2895480"/>
                    <a:ext cx="152640" cy="53352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55480" y="243828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55480" y="289476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461880" y="2692440"/>
                    <a:ext cx="372960" cy="166680"/>
                  </a:xfrm>
                  <a:custGeom>
                    <a:avLst/>
                    <a:gdLst>
                      <a:gd name="textAreaLeft" fmla="*/ 360 w 372960"/>
                      <a:gd name="textAreaRight" fmla="*/ 373680 w 372960"/>
                      <a:gd name="textAreaTop" fmla="*/ 0 h 166680"/>
                      <a:gd name="textAreaBottom" fmla="*/ 16668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365400" y="4675320"/>
                <a:ext cx="10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ligh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16200" y="4842000"/>
              <a:ext cx="590400" cy="134640"/>
            </a:xfrm>
            <a:prstGeom prst="rightArrow">
              <a:avLst>
                <a:gd name="adj1" fmla="val 50000"/>
                <a:gd name="adj2" fmla="val 109626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2480" y="272088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99080" y="2200320"/>
            <a:ext cx="2679480" cy="2936520"/>
            <a:chOff x="4699080" y="2200320"/>
            <a:chExt cx="2679480" cy="2936520"/>
          </a:xfrm>
        </p:grpSpPr>
        <p:sp>
          <p:nvSpPr>
            <p:cNvPr id="86" name=""/>
            <p:cNvSpPr/>
            <p:nvPr/>
          </p:nvSpPr>
          <p:spPr>
            <a:xfrm>
              <a:off x="5230080" y="46162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ai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8160" y="482292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7800" y="264780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99080" y="2200320"/>
              <a:ext cx="1927080" cy="10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AC5-8093-410E-966F-92C7A3FC72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AFBEC-2D65-4EFB-98D5-515B55BF4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Perio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uty period is a day-long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ecutive fligh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can be assigned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ingle c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o be followed by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 of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178-3301-4CA2-AFFF-8FB20A2F39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E94BE-18E5-4CFE-8498-D51D199257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flyi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ut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E74-8AC5-467F-BEC4-FB665494CC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706C0-C5A4-49AA-8BED-0D63645DD4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6T16:12:55Z</dcterms:modified>
  <cp:revision>493</cp:revision>
  <dc:subject/>
  <dc:title>Thesis Proposal Meeting</dc:title>
</cp:coreProperties>
</file>