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1FF564-175F-4043-92E2-1D2ECD0B9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6700A1-57C0-4BE2-98DD-521B9717B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30C202-EF78-4289-95F4-47FF999DD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D53FE4-B4FF-40AC-A14F-05236BE50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306461-DF74-4D92-BA93-99FA843A9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754-6D51-44D1-BFE6-34FE4556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E01-CFD3-41BA-A2B5-2D571953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926-9DC5-46F2-A49E-751AD93D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B04-148F-4109-980F-4A5B9B3C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EBE-D14E-4F8B-8627-5BCE5739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C1A-B4E3-493D-ABEE-4E04EE6C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42F-E0A9-4717-AF40-F2D3538D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318-992B-404A-AEAA-5A5A691E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8E1-3CFA-4112-893C-0333103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B06-4D38-49D7-92E6-E2E79B6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E3B-ADD0-4D7C-AF0C-8814BEA5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707-D9F2-4080-973B-B932109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8F68-0FC5-41A0-8A50-D41347E6FC7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D7B0-5D22-41BF-9E6F-C1DE057A13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B0A-BEE0-4764-8197-0653C839A3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D9A0E-66D1-47ED-904C-3DF74615AE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9C3-EEFB-464C-B3F8-5954428DD9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E40B9-1065-479D-823D-9D54851450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4B2-E7C2-486F-A6F0-9FAC2CDB1BE0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1B521-850B-4E62-AD33-0AA05B62981F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B7A-4E9D-4E1D-9CF8-7F3CB00FA990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998FD-2043-4943-B30B-DC5DBDAF57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B09-C240-433C-8846-8EA5F82C8B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D95C0-8ABA-4953-83E3-32C53FF3191A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995-C851-4E6D-827B-10A6CD972BF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E0B7E-229D-46BA-8070-BC1A10A7CF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EB7-2A44-43ED-AB57-5626D64580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E9183-86BF-4F59-B717-E91F78AF986C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DBA-6BB6-449E-B55A-8C89AD62257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32B86-5B23-40C3-8F4D-AAED1880E4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D7B-0133-4238-BE10-B3622FC3A5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7771D-1E2B-467F-9B09-E04EE5597546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0E0-C28D-4FBA-829F-16ABA1FC87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2C0A9-9113-4DF7-BF0F-DC58EEC042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ACD-7D00-4424-8B75-41181839E1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DA1BF-DECC-4063-99DD-1A5E7DC533D3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402-7190-47D2-B9E5-17BBE5BCE1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A3257-27A4-4AF7-A2BE-57C525876E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5CE-DEA2-4947-9952-8E8E25D9A6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453DB-8ECF-4607-84E2-D5096FDC0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6B4-B590-405F-A6B6-829D2C6AA0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4A936-3B5C-4929-836B-92EF7AF845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CDA-7993-4922-9565-D153F3FB87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8D5C1-A6E9-442A-9872-A6D311049F42}" type="datetime5">
              <a:rPr lang="en-US"/>
              <a:t>Jul 30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860-FE29-4527-ADF6-19EE9E91B9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1274A-7676-4706-B745-43E95A5F37CF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ADA-5E50-4315-A957-2AEE64AB37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D9EBD-7501-445A-AEC7-97D26B76CC77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9C2-76E1-4526-9D7C-1849981970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B1707-E2C9-4920-B832-59E65FEB3C90}" type="datetime5">
              <a:rPr lang="en-US"/>
              <a:t>Jul 30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704-BC21-458E-A579-DD5203B242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D38BC-2757-473B-8B02-A7B8580E2C96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F4A-DEE8-4F7C-8FCF-F34B118130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FEC3A-9F54-4AC5-BC94-6BD90EFF8133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252-DFA5-45C4-91A0-56747B2A1A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71F0A-007C-484C-8DC3-3984ECFF15B8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1E5-56B9-41FB-8B0F-F0EA8FE05F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2FEC4-2101-43A0-936E-73E442474F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358-C70A-4A17-8749-C671CF1B3D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E54D0-FD2D-4953-8B95-3041AA7E1A43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12571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DBF-0EA1-430E-A71C-E2AA2888E1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80C7A-14C2-4CA1-9F48-145E2B580B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05C-55DB-4454-86CF-6D0A184DA86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8C7C2-7677-409F-9A61-2D41003305B3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629-A2D3-4299-8F4E-3A11EFD82E3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59940-61A4-42A2-BDEF-07E12952BF10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B57-4E3A-45A8-A063-A455387466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D552F-C38F-4133-AB7E-DF25359869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AEA-BA94-477F-BB0C-CDC6DC3625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1D0A8-A951-47ED-A152-E35862DF560F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E4B-9F4D-42C6-B0D5-0F9102B3591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68708-72F5-49EC-8710-D526B77A39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C4E-E782-4F57-B582-737C9D97AA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12A1E-F2CA-4B77-95C2-A38088582C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1F6-5D80-4625-8E96-15E44B78DB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B9676-DA99-428A-B582-24592240F6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537-1F8D-4C85-88E5-6C2F9DACFE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3BBD6-7D39-4F6B-AEDB-BF421BB772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176-3D84-4A93-B9EE-90355E89B7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41136-0D41-4807-8F23-0832E2CBC9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DA4-B275-4137-B098-977B614E3A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55564-29A6-44FA-A93E-E6A3E9055D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C1B-684E-4E43-BDD1-2B17A9F1DA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C05A3-C174-4C53-9D54-92A78C4C89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790-C4F0-4A01-9AF9-BAE61FE4C5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AE070-F41F-4213-91A4-A903B9CCE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F52-824C-41AA-90DE-3FFFE7692F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F3A84-92B2-44A4-9C36-80F59754A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4:38Z</dcterms:modified>
  <cp:revision>370</cp:revision>
  <dc:subject/>
  <dc:title>Thesis Proposal Meeting</dc:title>
</cp:coreProperties>
</file>