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59F4-5C8C-4095-B432-12013390B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9FD0-9F5C-4A08-9878-51918270F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CD32-DEA2-4C2E-A9CC-B0976D35B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44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968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44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968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A0BC-5AF0-43D5-9C4F-FF32B5A24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3059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1BED-C40E-4076-ABF8-DD3F49B39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844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968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844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968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73C2-549C-486C-8729-6964244C0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020C-2C7C-4E12-A8CF-83753954F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AB22-6969-44C6-8514-ED398A651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3059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3AF9-1B18-4FFA-9C30-49EA0F1DA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EB87-9386-402B-B25C-BCA225066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4264-BDC2-4D6B-993D-D1BDA08A2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20F8-EC36-490F-BA58-BA362B5F9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99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197920" y="6510240"/>
            <a:ext cx="709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9136080" cy="46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8000" y="6267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976D-7069-4058-A91A-C6C679D79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97920" y="6510240"/>
            <a:ext cx="709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buClr>
                <a:srgbClr val="000099"/>
              </a:buClr>
              <a:buSzPct val="60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ew Approaches to Add Robustness into Airline Schedul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2120" y="38095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han Lan, Cindy Barnhart and John-Paul Clarke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enter for Transportation and Logistic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ssachusetts Institute of Technolog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y 5 , 200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34000" y="228600"/>
            <a:ext cx="62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rtesy of Shan Lan, Cindy Barnhart and John-Paul Clarke. Used with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of Building Robust Pla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ck of a systematic way to define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rcraft, crew and passenger flows interact in the hub-and-spok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uge problem size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tractability issu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balance robustness and cost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4AA6-BEED-4E7F-AFBE-03DB101433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 of Robustn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co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aircraft/passenger/crew delays and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asy to recover (aircraft, crew, passenger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olate disruptions and reduce the downstream impac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2984-9692-46C1-8FF1-75BA69C412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bust Airline Schedule Plann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362320" y="3124080"/>
          <a:ext cx="6553080" cy="2590920"/>
        </p:xfrm>
        <a:graphic>
          <a:graphicData uri="http://schemas.openxmlformats.org/drawingml/2006/table">
            <a:tbl>
              <a:tblPr/>
              <a:tblGrid>
                <a:gridCol w="1398600"/>
                <a:gridCol w="1400040"/>
                <a:gridCol w="1324080"/>
                <a:gridCol w="1135080"/>
                <a:gridCol w="129528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ng &amp;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osenberger, </a:t>
                      </a: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t al.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geeva &amp; Clarke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ng &amp;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Yen &amp; Birg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chaefer, </a:t>
                      </a: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t a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ebalov &amp; Klab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900520" y="213372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2240" y="2133720"/>
            <a:ext cx="13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as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61280" y="213372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 delay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is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13372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sol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is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1981080"/>
            <a:ext cx="1400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60960" y="1981080"/>
            <a:ext cx="13161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1981080"/>
            <a:ext cx="2438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981080"/>
            <a:ext cx="1398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840" y="3124080"/>
            <a:ext cx="2160360" cy="2590920"/>
            <a:chOff x="213840" y="3124080"/>
            <a:chExt cx="2160360" cy="2590920"/>
          </a:xfrm>
        </p:grpSpPr>
        <p:sp>
          <p:nvSpPr>
            <p:cNvPr id="122" name=""/>
            <p:cNvSpPr/>
            <p:nvPr/>
          </p:nvSpPr>
          <p:spPr>
            <a:xfrm>
              <a:off x="356400" y="3200400"/>
              <a:ext cx="18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Schedule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5320" y="38862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Fleet Ass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840" y="45720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Maintenance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6400" y="5257800"/>
              <a:ext cx="18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Crew Schedu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3280" y="31240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3280" y="38098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3280" y="44956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3280" y="51814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9EF4-C612-4A8D-A9EF-C164305F04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 Should We Start?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balance cost that airlines are willing to pay for robustness versus cost of op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oking for robust solution without significant added co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maintenance routing problem: The financial impact is relatively small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t is more a feasibility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to route aircraft has impacts on flight delays and cancellations, passengers, crew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hat robustness can be achieved for the maintenance routing problem?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8135-EEF5-4DAA-8449-CD25D9ED99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138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Robust Aircraft Maintenance Routing –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Delay Propag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Modeling Id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tring based for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olution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roof-of-concept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D615-DE77-4350-9401-4413A79E400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lay Propag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rrival delay may cause departure delay for the next flight that is using the same aircraft if there is not enough slack between these two fligh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ay propagation may cause schedule, passenger and crew disruptions for downstream flights (especially at hub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52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9528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5880" y="5486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5105520"/>
            <a:ext cx="6934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10552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419112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667400"/>
            <a:ext cx="2533680" cy="863280"/>
          </a:xfrm>
          <a:custGeom>
            <a:avLst/>
            <a:gdLst/>
            <a:ahLst/>
            <a:rect l="l" t="t" r="r" b="b"/>
            <a:pathLst>
              <a:path w="1596" h="544">
                <a:moveTo>
                  <a:pt x="0" y="276"/>
                </a:moveTo>
                <a:cubicBezTo>
                  <a:pt x="72" y="314"/>
                  <a:pt x="230" y="544"/>
                  <a:pt x="432" y="504"/>
                </a:cubicBezTo>
                <a:cubicBezTo>
                  <a:pt x="634" y="464"/>
                  <a:pt x="1018" y="72"/>
                  <a:pt x="1212" y="36"/>
                </a:cubicBezTo>
                <a:cubicBezTo>
                  <a:pt x="1406" y="0"/>
                  <a:pt x="1516" y="236"/>
                  <a:pt x="1596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7840" y="54864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33720" y="4191120"/>
            <a:ext cx="2895480" cy="914400"/>
            <a:chOff x="2133720" y="4191120"/>
            <a:chExt cx="2895480" cy="914400"/>
          </a:xfrm>
        </p:grpSpPr>
        <p:sp>
          <p:nvSpPr>
            <p:cNvPr id="145" name=""/>
            <p:cNvSpPr/>
            <p:nvPr/>
          </p:nvSpPr>
          <p:spPr>
            <a:xfrm>
              <a:off x="2133720" y="4191120"/>
              <a:ext cx="289548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4120" y="426744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181480" y="51055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54864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6019920"/>
            <a:ext cx="685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5943600"/>
            <a:ext cx="3049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49960" y="5105520"/>
            <a:ext cx="759960" cy="914400"/>
            <a:chOff x="6249960" y="5105520"/>
            <a:chExt cx="759960" cy="914400"/>
          </a:xfrm>
        </p:grpSpPr>
        <p:sp>
          <p:nvSpPr>
            <p:cNvPr id="152" name=""/>
            <p:cNvSpPr/>
            <p:nvPr/>
          </p:nvSpPr>
          <p:spPr>
            <a:xfrm>
              <a:off x="6476760" y="5105520"/>
              <a:ext cx="53316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9960" y="548676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2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066680" y="4191120"/>
            <a:ext cx="685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15B6-9BF4-4649-87A2-A5FCB1FE4C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pagated Delay vs. Independent Dela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13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may be divided into two categorie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pagated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used by inbound aircraft delay –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0-30% of total delay (Continental Airline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dependent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used by other factors – not a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5C96-55B4-46A4-8CC4-48FBD64C30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828800"/>
            <a:ext cx="693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3240" y="22953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6440" y="34383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7240" y="304812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1240" y="30481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 Tu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693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1148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297180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97180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2971800"/>
            <a:ext cx="152388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5200" y="26668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31000" y="4199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0" y="26668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4720" y="4199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4876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8200" y="45799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4520" y="4579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5400" y="48769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82880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6840" y="33624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828800"/>
            <a:ext cx="99072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1828800"/>
            <a:ext cx="160020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76440" y="2362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1880" y="2219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2400" y="23623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8200" y="23623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31360" y="20574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143000" y="4495680"/>
                <a:ext cx="27432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TT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D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0680" y="33782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Tu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5C34-80B2-4858-A4EB-CB10DF046D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ing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ays propagate along aircraft rout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ly limited slack can be ad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ly located slack can prevent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uting aircraft intelligently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tter allocated slack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ssentially add slack where advantageous, reducing slack where less nee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9D4E-C102-4D65-9947-7A3EFE73E8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ustration of the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884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28600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2200" y="2819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438280"/>
            <a:ext cx="6934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4382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5238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1523880"/>
            <a:ext cx="60948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2000160"/>
            <a:ext cx="2533680" cy="863640"/>
          </a:xfrm>
          <a:custGeom>
            <a:avLst/>
            <a:gdLst/>
            <a:ahLst/>
            <a:rect l="l" t="t" r="r" b="b"/>
            <a:pathLst>
              <a:path w="1596" h="544">
                <a:moveTo>
                  <a:pt x="0" y="276"/>
                </a:moveTo>
                <a:cubicBezTo>
                  <a:pt x="72" y="314"/>
                  <a:pt x="230" y="544"/>
                  <a:pt x="432" y="504"/>
                </a:cubicBezTo>
                <a:cubicBezTo>
                  <a:pt x="634" y="464"/>
                  <a:pt x="1018" y="72"/>
                  <a:pt x="1212" y="36"/>
                </a:cubicBezTo>
                <a:cubicBezTo>
                  <a:pt x="1406" y="0"/>
                  <a:pt x="1516" y="236"/>
                  <a:pt x="1596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1981080"/>
            <a:ext cx="3086280" cy="841320"/>
          </a:xfrm>
          <a:custGeom>
            <a:avLst/>
            <a:gdLst/>
            <a:ahLst/>
            <a:rect l="l" t="t" r="r" b="b"/>
            <a:pathLst>
              <a:path w="1944" h="530">
                <a:moveTo>
                  <a:pt x="0" y="294"/>
                </a:moveTo>
                <a:cubicBezTo>
                  <a:pt x="80" y="326"/>
                  <a:pt x="250" y="530"/>
                  <a:pt x="480" y="486"/>
                </a:cubicBezTo>
                <a:cubicBezTo>
                  <a:pt x="710" y="442"/>
                  <a:pt x="1136" y="60"/>
                  <a:pt x="1380" y="30"/>
                </a:cubicBezTo>
                <a:cubicBezTo>
                  <a:pt x="1624" y="0"/>
                  <a:pt x="1827" y="249"/>
                  <a:pt x="1944" y="30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35080" y="1889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4160" y="2819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09680" y="1523880"/>
            <a:ext cx="2895840" cy="914400"/>
            <a:chOff x="2209680" y="1523880"/>
            <a:chExt cx="2895840" cy="914400"/>
          </a:xfrm>
        </p:grpSpPr>
        <p:sp>
          <p:nvSpPr>
            <p:cNvPr id="213" name=""/>
            <p:cNvSpPr/>
            <p:nvPr/>
          </p:nvSpPr>
          <p:spPr>
            <a:xfrm>
              <a:off x="2209680" y="1523880"/>
              <a:ext cx="289584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30800" y="1600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088040" y="2819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8195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70572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981080"/>
            <a:ext cx="160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3412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6080" y="1676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429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3352680"/>
            <a:ext cx="685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43828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3276720"/>
            <a:ext cx="30456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326280" y="2438280"/>
            <a:ext cx="760320" cy="914400"/>
            <a:chOff x="6326280" y="2438280"/>
            <a:chExt cx="760320" cy="914400"/>
          </a:xfrm>
        </p:grpSpPr>
        <p:sp>
          <p:nvSpPr>
            <p:cNvPr id="227" name=""/>
            <p:cNvSpPr/>
            <p:nvPr/>
          </p:nvSpPr>
          <p:spPr>
            <a:xfrm>
              <a:off x="6553080" y="2438280"/>
              <a:ext cx="53352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26280" y="281952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3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143000" y="1523880"/>
            <a:ext cx="685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43000" y="4029120"/>
            <a:ext cx="6972480" cy="2349360"/>
            <a:chOff x="1143000" y="4029120"/>
            <a:chExt cx="6972480" cy="2349360"/>
          </a:xfrm>
        </p:grpSpPr>
        <p:sp>
          <p:nvSpPr>
            <p:cNvPr id="231" name=""/>
            <p:cNvSpPr/>
            <p:nvPr/>
          </p:nvSpPr>
          <p:spPr>
            <a:xfrm>
              <a:off x="3620520" y="60102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8840" y="42670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9880" y="4800600"/>
              <a:ext cx="1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2200" y="533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143000" y="4943520"/>
              <a:ext cx="69724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4952880"/>
              <a:ext cx="5335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9680" y="4038480"/>
              <a:ext cx="5335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4038480"/>
              <a:ext cx="6094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43200" y="4624560"/>
              <a:ext cx="3959280" cy="688680"/>
            </a:xfrm>
            <a:custGeom>
              <a:avLst/>
              <a:gdLst/>
              <a:ahLst/>
              <a:rect l="l" t="t" r="r" b="b"/>
              <a:pathLst>
                <a:path w="2494" h="434">
                  <a:moveTo>
                    <a:pt x="0" y="207"/>
                  </a:moveTo>
                  <a:cubicBezTo>
                    <a:pt x="130" y="240"/>
                    <a:pt x="468" y="434"/>
                    <a:pt x="780" y="405"/>
                  </a:cubicBezTo>
                  <a:cubicBezTo>
                    <a:pt x="1092" y="376"/>
                    <a:pt x="1586" y="66"/>
                    <a:pt x="1872" y="33"/>
                  </a:cubicBezTo>
                  <a:cubicBezTo>
                    <a:pt x="2158" y="0"/>
                    <a:pt x="2365" y="169"/>
                    <a:pt x="2494" y="205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4038480"/>
              <a:ext cx="289584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9440" y="4749840"/>
              <a:ext cx="1619280" cy="376200"/>
            </a:xfrm>
            <a:custGeom>
              <a:avLst/>
              <a:gdLst/>
              <a:ahLst/>
              <a:rect l="l" t="t" r="r" b="b"/>
              <a:pathLst>
                <a:path w="1020" h="237">
                  <a:moveTo>
                    <a:pt x="0" y="128"/>
                  </a:moveTo>
                  <a:cubicBezTo>
                    <a:pt x="50" y="143"/>
                    <a:pt x="170" y="237"/>
                    <a:pt x="300" y="218"/>
                  </a:cubicBezTo>
                  <a:cubicBezTo>
                    <a:pt x="430" y="199"/>
                    <a:pt x="660" y="28"/>
                    <a:pt x="780" y="14"/>
                  </a:cubicBezTo>
                  <a:cubicBezTo>
                    <a:pt x="900" y="0"/>
                    <a:pt x="970" y="109"/>
                    <a:pt x="1020" y="134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560" y="44956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533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0800" y="41148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88040" y="533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4952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733920" y="5324040"/>
              <a:ext cx="163836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7057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257800" y="4486320"/>
              <a:ext cx="15620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3341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6080" y="4191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143000" y="5857920"/>
              <a:ext cx="68961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4952880"/>
              <a:ext cx="53316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143000" y="4029120"/>
              <a:ext cx="68961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B19C-7D8A-4912-9BE8-186A6E7BE9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 –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AC2B-F925-420C-A583-CCEA46A287F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ing Issu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use leg-based models to track th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e variable (string) for each aircraft route between two maintenances (Barnhart, et al. 1998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string: a sequence of connected flights that begins and ends at maintenance sta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propagation for each route can be determ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ed to determine delays for each feasible rou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st of the feasible routes haven’t been realized y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D and TAD are a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D and TAD for these routes can’t be found in the historical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AD is not a function of routing and can be calculated by tracking the route of each individual aircraft in the historical data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9BBF-02C3-4C49-8D01-F408662216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enerating Flight Delay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r Any Feasible Rou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1: Determine propagated delays from historical data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= max (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slac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0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 2: Determine Independent Arrival Delays (IAD) from historical data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= 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 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 3: Determine TAD and PD for feasible route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the first flight on each string, New_TAD = IA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_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=max (New_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slac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0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_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= I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+ New_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ECAA-AE89-4EF9-8E46-45A25312C7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ing 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514600" y="1447920"/>
                <a:ext cx="415908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s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nary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ED9B-E4C7-4F2D-9F5B-748C3F60D4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90720" y="2057400"/>
                <a:ext cx="6553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E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bjective Function Coeffici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13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ndom variables (PD) can be replaced by their me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tribution of Total Arrival Dela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ssible distributions analyzed: Normal, Exponential, Gamma, Weibull, Lognormal, etc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r statistical analysis shows that lognormal distribution is the best f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closed form of expected value function can be obtain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219320" y="5560920"/>
                <a:ext cx="35049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Φ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3EB3-50BE-4BCD-9B1E-82A7979FEC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lution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s formulation is a deterministic mixed-integer program with a huge number of 0-1 variabl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nch-and-pr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anch-and-Bound with a linear programming relaxation solved at each node of the branch-and-bound tree using column gener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P solu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special branching strategy: branching on follow-ons (Ryan and Foster 1981, Barnhart et al. 1998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D11A-C39C-4CF3-AD53-6CA386AA41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st Network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 divided into two sets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rst data set (Jul 2000) used to build model and generate rout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data set (Aug 2000) used to test these new rout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9" name="network%20size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3352680" cy="17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18C7-AD69-4AFE-83F3-D4D271ADBE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Delay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uly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2" name="PD%20July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5029200" cy="1900080"/>
          </a:xfrm>
          <a:prstGeom prst="rect">
            <a:avLst/>
          </a:prstGeom>
          <a:ln w="0">
            <a:noFill/>
          </a:ln>
        </p:spPr>
      </p:pic>
      <p:pic>
        <p:nvPicPr>
          <p:cNvPr id="273" name="PD%20August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495288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29FE-AC3C-4848-846C-7132F80301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Delay Distrib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tal delays for existing and new routing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6" name="TD%20distribution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15000" cy="157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E7BC-C8A5-4C8B-9267-146BF4D23B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Passenger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ruptions calculated at the flight leve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a flight was cancelled, all passengers on that flight is disrupt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actual departure time of flight B – actual arrival time of flight A &lt; minimum connecting time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ll passengers connecting from A to B are disrupt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9" name="PD%20Passengers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172200" cy="23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7594-DC33-47BF-9028-178CF5883E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assenger delays and disrup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Modeling Id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ormulations and their proper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olution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roof-of-concept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8CE2-E51B-4F07-9F97-EBD681C3BCC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819520" y="1371600"/>
            <a:ext cx="3580920" cy="3263760"/>
            <a:chOff x="2819520" y="1371600"/>
            <a:chExt cx="3580920" cy="3263760"/>
          </a:xfrm>
        </p:grpSpPr>
        <p:sp>
          <p:nvSpPr>
            <p:cNvPr id="86" name=""/>
            <p:cNvSpPr/>
            <p:nvPr/>
          </p:nvSpPr>
          <p:spPr>
            <a:xfrm>
              <a:off x="2819520" y="137160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hedule 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520" y="417564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w Schedu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9520" y="230292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eet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9520" y="324396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intenance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08360" y="181044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08360" y="2742120"/>
              <a:ext cx="144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08360" y="367380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irline Schedule Planning Proc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st existing planning models assume that aircraft, crew, and passengers will operate as plann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7CA1-343D-4971-AE73-C51A5F69B8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elays and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and passenger delay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elay caused by disruptions is the most critical part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number of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good proxy for passenger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84" name="delay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867280" cy="19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225C-9AB0-4F6E-9621-92BF3A89C3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 Related to Passenger Disruption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219320" y="1905120"/>
            <a:ext cx="6858000" cy="3968640"/>
            <a:chOff x="1219320" y="1905120"/>
            <a:chExt cx="6858000" cy="3968640"/>
          </a:xfrm>
        </p:grpSpPr>
        <p:grpSp>
          <p:nvGrpSpPr>
            <p:cNvPr id="287" name=""/>
            <p:cNvGrpSpPr/>
            <p:nvPr/>
          </p:nvGrpSpPr>
          <p:grpSpPr>
            <a:xfrm>
              <a:off x="1219320" y="2543760"/>
              <a:ext cx="6858000" cy="2643480"/>
              <a:chOff x="1219320" y="2543760"/>
              <a:chExt cx="6858000" cy="2643480"/>
            </a:xfrm>
          </p:grpSpPr>
          <p:sp>
            <p:nvSpPr>
              <p:cNvPr id="288" name=""/>
              <p:cNvSpPr/>
              <p:nvPr/>
            </p:nvSpPr>
            <p:spPr>
              <a:xfrm>
                <a:off x="1219320" y="390312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524240" y="2543760"/>
                <a:ext cx="1066680" cy="135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15360" y="3903120"/>
                <a:ext cx="1218960" cy="128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86560" y="3978720"/>
                <a:ext cx="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81440" y="2543760"/>
                <a:ext cx="2971800" cy="135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74320" y="397728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a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50120" y="395316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19320" y="254376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19320" y="518724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3978720"/>
                <a:ext cx="0" cy="5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15360" y="3978720"/>
                <a:ext cx="0" cy="5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438640" y="435600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12040" y="44316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12240" y="35254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D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6080" y="35254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16400" y="35254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72560" y="3903120"/>
                <a:ext cx="1600200" cy="128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98040" y="35254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D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76920" y="3147840"/>
                <a:ext cx="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560" y="3147840"/>
                <a:ext cx="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24640" y="329904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83640" y="29214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781720" y="190512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73880" y="541404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371600" y="160020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CT – MCT &lt; 0, passengers are disrup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4FBF-08DA-4BD7-8CBE-D8EFCB85CC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ize Passenger Missed Connec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92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the slack is “eaten” by flight delay, passengers are disrupt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ding more slack can be good for connecting passengers, but can result in reduced productivity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ly located slack can prevent passenger disrup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ving flight departure times in a small time window can lead to better allocated slack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7C67-E067-4F8E-A5D3-15EB432E35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llustration of the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3505320"/>
            <a:ext cx="4724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267080"/>
            <a:ext cx="472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666880"/>
            <a:ext cx="472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5029200"/>
            <a:ext cx="4724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2666880"/>
            <a:ext cx="60948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3505320"/>
            <a:ext cx="6858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426708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3040" y="243828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3400" y="327672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53920" y="403056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3040" y="480060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666880" y="3657600"/>
                <a:ext cx="25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886200" y="4343400"/>
                <a:ext cx="233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43000" y="2895480"/>
                <a:ext cx="2160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581280" y="3505320"/>
            <a:ext cx="685800" cy="7617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1120" y="4267080"/>
            <a:ext cx="685800" cy="762120"/>
          </a:xfrm>
          <a:prstGeom prst="line">
            <a:avLst/>
          </a:prstGeom>
          <a:ln w="2556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440" y="1673280"/>
            <a:ext cx="78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00 passengers in fligh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connect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3505320"/>
            <a:ext cx="668520" cy="7617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00200" y="3505320"/>
            <a:ext cx="762120" cy="761760"/>
            <a:chOff x="1600200" y="3505320"/>
            <a:chExt cx="762120" cy="761760"/>
          </a:xfrm>
        </p:grpSpPr>
        <p:sp>
          <p:nvSpPr>
            <p:cNvPr id="335" name=""/>
            <p:cNvSpPr/>
            <p:nvPr/>
          </p:nvSpPr>
          <p:spPr>
            <a:xfrm>
              <a:off x="1676520" y="3505320"/>
              <a:ext cx="685800" cy="761760"/>
            </a:xfrm>
            <a:prstGeom prst="line">
              <a:avLst/>
            </a:prstGeom>
            <a:ln w="25560">
              <a:solidFill>
                <a:srgbClr val="33cc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1600200" y="3733920"/>
                  <a:ext cx="3268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7" name=""/>
          <p:cNvSpPr/>
          <p:nvPr/>
        </p:nvSpPr>
        <p:spPr>
          <a:xfrm>
            <a:off x="68580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587760" y="2743200"/>
            <a:ext cx="5334120" cy="1424160"/>
            <a:chOff x="3587760" y="2743200"/>
            <a:chExt cx="5334120" cy="1424160"/>
          </a:xfrm>
        </p:grpSpPr>
        <p:sp>
          <p:nvSpPr>
            <p:cNvPr id="339" name=""/>
            <p:cNvSpPr/>
            <p:nvPr/>
          </p:nvSpPr>
          <p:spPr>
            <a:xfrm>
              <a:off x="6705720" y="2895480"/>
              <a:ext cx="221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 (misconnect)= 0.3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disrupted pax) = 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3587760" y="2743200"/>
              <a:ext cx="5251320" cy="1424160"/>
              <a:chOff x="3587760" y="2743200"/>
              <a:chExt cx="5251320" cy="1424160"/>
            </a:xfrm>
          </p:grpSpPr>
          <p:sp>
            <p:nvSpPr>
              <p:cNvPr id="341" name=""/>
              <p:cNvSpPr/>
              <p:nvPr/>
            </p:nvSpPr>
            <p:spPr>
              <a:xfrm>
                <a:off x="3587760" y="3276720"/>
                <a:ext cx="3146400" cy="890640"/>
              </a:xfrm>
              <a:custGeom>
                <a:avLst/>
                <a:gdLst/>
                <a:ahLst/>
                <a:rect l="l" t="t" r="r" b="b"/>
                <a:pathLst>
                  <a:path w="1982" h="561">
                    <a:moveTo>
                      <a:pt x="0" y="561"/>
                    </a:moveTo>
                    <a:cubicBezTo>
                      <a:pt x="64" y="489"/>
                      <a:pt x="66" y="222"/>
                      <a:pt x="396" y="128"/>
                    </a:cubicBezTo>
                    <a:cubicBezTo>
                      <a:pt x="726" y="34"/>
                      <a:pt x="1652" y="27"/>
                      <a:pt x="198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34160" y="2743200"/>
                <a:ext cx="210492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4343400" y="3657600"/>
            <a:ext cx="4568760" cy="838080"/>
            <a:chOff x="4343400" y="3657600"/>
            <a:chExt cx="4568760" cy="838080"/>
          </a:xfrm>
        </p:grpSpPr>
        <p:sp>
          <p:nvSpPr>
            <p:cNvPr id="344" name=""/>
            <p:cNvSpPr/>
            <p:nvPr/>
          </p:nvSpPr>
          <p:spPr>
            <a:xfrm>
              <a:off x="6781320" y="3733920"/>
              <a:ext cx="21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(misconnect)=0.2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disrupted pax) =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1680" y="3657600"/>
              <a:ext cx="21304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3400" y="4094280"/>
              <a:ext cx="2395440" cy="133200"/>
            </a:xfrm>
            <a:custGeom>
              <a:avLst/>
              <a:gdLst/>
              <a:ahLst/>
              <a:rect l="l" t="t" r="r" b="b"/>
              <a:pathLst>
                <a:path w="1592" h="84">
                  <a:moveTo>
                    <a:pt x="0" y="84"/>
                  </a:moveTo>
                  <a:cubicBezTo>
                    <a:pt x="49" y="74"/>
                    <a:pt x="31" y="24"/>
                    <a:pt x="296" y="12"/>
                  </a:cubicBezTo>
                  <a:cubicBezTo>
                    <a:pt x="561" y="0"/>
                    <a:pt x="1376" y="12"/>
                    <a:pt x="159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33160" y="525780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disrupted passengers reduced: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000F-2B1E-431B-BFDE-44122CBF21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 to Appl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66880" y="15235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ther a passenger will be disrupted depends on flight delays, a function of fleeting and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fore solving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mpact of the propagation of flight delays won’t be conside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 fleeting and routing solution may cause delay propagate in a different way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may eventually change the number of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fter solving fleeting and routing proble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propagation has been conside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ed to maintain the current fleeting and routing solutio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1880" y="155412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880" y="570240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97180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33692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444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11200" y="380376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13000" y="5168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3544-644A-4566-968E-BA2458BD89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nection-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ize the expected total number of passengers missing connec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traint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each flight, exactly one copy will be select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each connection, exactly one copy will be selected and this selected copy must connect the selected flight-leg copi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current fleeting and routing solution cannot be alter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880" y="3917880"/>
            <a:ext cx="5791320" cy="2942640"/>
            <a:chOff x="1523880" y="3917880"/>
            <a:chExt cx="5791320" cy="2942640"/>
          </a:xfrm>
        </p:grpSpPr>
        <p:sp>
          <p:nvSpPr>
            <p:cNvPr id="360" name=""/>
            <p:cNvSpPr/>
            <p:nvPr/>
          </p:nvSpPr>
          <p:spPr>
            <a:xfrm flipV="1">
              <a:off x="1523880" y="5239080"/>
              <a:ext cx="579132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529280" y="5956560"/>
              <a:ext cx="5769720" cy="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3880" y="4551840"/>
              <a:ext cx="57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38720" y="4551840"/>
              <a:ext cx="6919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96680" y="5239080"/>
              <a:ext cx="830880" cy="71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02840" y="523908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5320" y="391788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82280" y="640080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8840" y="523908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76560" y="4551840"/>
              <a:ext cx="691920" cy="69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0160" y="4551840"/>
              <a:ext cx="692280" cy="69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1780200" y="4234680"/>
                  <a:ext cx="3168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2" name=""/>
            <p:cNvSpPr/>
            <p:nvPr/>
          </p:nvSpPr>
          <p:spPr>
            <a:xfrm>
              <a:off x="2673000" y="4924080"/>
              <a:ext cx="2085480" cy="633960"/>
            </a:xfrm>
            <a:custGeom>
              <a:avLst/>
              <a:gdLst/>
              <a:ahLst/>
              <a:rect l="l" t="t" r="r" b="b"/>
              <a:pathLst>
                <a:path w="1488" h="576">
                  <a:moveTo>
                    <a:pt x="0" y="286"/>
                  </a:moveTo>
                  <a:cubicBezTo>
                    <a:pt x="69" y="327"/>
                    <a:pt x="232" y="576"/>
                    <a:pt x="414" y="535"/>
                  </a:cubicBezTo>
                  <a:cubicBezTo>
                    <a:pt x="596" y="494"/>
                    <a:pt x="911" y="82"/>
                    <a:pt x="1090" y="41"/>
                  </a:cubicBezTo>
                  <a:cubicBezTo>
                    <a:pt x="1269" y="0"/>
                    <a:pt x="1405" y="235"/>
                    <a:pt x="1488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327040" y="423468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883240" y="423468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5412960" y="603180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5969520" y="6031800"/>
                  <a:ext cx="374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6450120" y="603180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3009240" y="5503320"/>
                  <a:ext cx="4500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379" name=""/>
            <p:cNvSpPr/>
            <p:nvPr/>
          </p:nvSpPr>
          <p:spPr>
            <a:xfrm>
              <a:off x="3211200" y="4902120"/>
              <a:ext cx="2578680" cy="659160"/>
            </a:xfrm>
            <a:custGeom>
              <a:avLst/>
              <a:gdLst/>
              <a:ahLst/>
              <a:rect l="l" t="t" r="r" b="b"/>
              <a:pathLst>
                <a:path w="1840" h="599">
                  <a:moveTo>
                    <a:pt x="0" y="306"/>
                  </a:moveTo>
                  <a:cubicBezTo>
                    <a:pt x="98" y="347"/>
                    <a:pt x="363" y="599"/>
                    <a:pt x="587" y="555"/>
                  </a:cubicBezTo>
                  <a:cubicBezTo>
                    <a:pt x="811" y="511"/>
                    <a:pt x="1137" y="86"/>
                    <a:pt x="1346" y="43"/>
                  </a:cubicBezTo>
                  <a:cubicBezTo>
                    <a:pt x="1555" y="0"/>
                    <a:pt x="1737" y="246"/>
                    <a:pt x="1840" y="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5027400" y="4604760"/>
                  <a:ext cx="47376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CEC8-3DF1-4583-9085-0FE8B0453C5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nection-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14800" y="1676160"/>
            <a:ext cx="4579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1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econd set of constraints are redundant and can be relax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2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integrality of the connection variables can be relax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09480" y="1600200"/>
                <a:ext cx="3157560" cy="39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7519-2033-4CAE-92B3-FE8E2FEBEE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lternative Connection-based Formu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5760" y="1596960"/>
            <a:ext cx="23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876920" y="2209680"/>
                <a:ext cx="388620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4569840" y="1600200"/>
            <a:ext cx="24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209680"/>
                <a:ext cx="3260880" cy="407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79F4-4C96-4657-878E-52585A21B1F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 Propert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s on constraint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econd set of constraints are redundant and can be relaxed in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integrality constraints of the connection variables can be relaxed in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on LP relax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LP relaxation of formulation one is at least as strong as those of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A9DE-5ED2-49B8-A000-445601E0FD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blem Siz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network from a major US airline used by Barnhart et al. (2001)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,044 flights and 76,641 itineraries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pose 7 copies will be generated for each flight (if 5 minutes interval is used, 7 copies correspond to a 30 minute time window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on average every flight connects to 12 flights with connecting passenger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676520" y="4267080"/>
          <a:ext cx="6629400" cy="2286000"/>
        </p:xfrm>
        <a:graphic>
          <a:graphicData uri="http://schemas.openxmlformats.org/drawingml/2006/table">
            <a:tbl>
              <a:tblPr/>
              <a:tblGrid>
                <a:gridCol w="557280"/>
                <a:gridCol w="1734840"/>
                <a:gridCol w="2679840"/>
                <a:gridCol w="1657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Integer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R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5,4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,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03,9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79B7-B08E-4501-AEB8-4EAF3DBC6E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irline Oper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any reasons can cause dela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re weather conditions, unexpected aircraft and personnel failures, congested traffic, etc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lays may propagate through th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ng delays and cancellations cause schedule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Airlines must reschedule aircraft/crew and re-accommodate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Huge revenue los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elays cost consumers and airlines about $6.5 billion in 2000 (Air Transport Association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654A-3D80-444C-9451-59A7A57414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Maintain Current Fleeting and Routing Sol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an aircraft maintenance route: the planned turn time &gt;= minimum turn tim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ce               , if the time between the arrival of flight copy        and the departure of flight copy        is less than the minimum turn time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upper bounds will be set to zero for these x variabl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828800" y="2286000"/>
                <a:ext cx="1185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676520" y="2666880"/>
                <a:ext cx="4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858000" y="2743200"/>
                <a:ext cx="533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1676520" y="4191120"/>
            <a:ext cx="5790960" cy="2942640"/>
            <a:chOff x="1676520" y="4191120"/>
            <a:chExt cx="5790960" cy="2942640"/>
          </a:xfrm>
        </p:grpSpPr>
        <p:sp>
          <p:nvSpPr>
            <p:cNvPr id="400" name=""/>
            <p:cNvSpPr/>
            <p:nvPr/>
          </p:nvSpPr>
          <p:spPr>
            <a:xfrm flipV="1">
              <a:off x="1676520" y="5511960"/>
              <a:ext cx="579096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1681920" y="6229440"/>
              <a:ext cx="5769360" cy="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76520" y="4825080"/>
              <a:ext cx="579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91000" y="4825080"/>
              <a:ext cx="691920" cy="69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49320" y="5511960"/>
              <a:ext cx="830880" cy="71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55120" y="551196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67600" y="419112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34920" y="667404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11120" y="551196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29200" y="4825080"/>
              <a:ext cx="691920" cy="69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52800" y="4825080"/>
              <a:ext cx="692280" cy="69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"/>
                <p:cNvSpPr txBox="1"/>
                <p:nvPr/>
              </p:nvSpPr>
              <p:spPr>
                <a:xfrm>
                  <a:off x="1932840" y="4507920"/>
                  <a:ext cx="3168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2" name=""/>
            <p:cNvSpPr/>
            <p:nvPr/>
          </p:nvSpPr>
          <p:spPr>
            <a:xfrm>
              <a:off x="2825640" y="5197320"/>
              <a:ext cx="2085480" cy="633960"/>
            </a:xfrm>
            <a:custGeom>
              <a:avLst/>
              <a:gdLst/>
              <a:ahLst/>
              <a:rect l="l" t="t" r="r" b="b"/>
              <a:pathLst>
                <a:path w="1488" h="576">
                  <a:moveTo>
                    <a:pt x="0" y="286"/>
                  </a:moveTo>
                  <a:cubicBezTo>
                    <a:pt x="69" y="327"/>
                    <a:pt x="232" y="576"/>
                    <a:pt x="414" y="535"/>
                  </a:cubicBezTo>
                  <a:cubicBezTo>
                    <a:pt x="596" y="494"/>
                    <a:pt x="911" y="82"/>
                    <a:pt x="1090" y="41"/>
                  </a:cubicBezTo>
                  <a:cubicBezTo>
                    <a:pt x="1269" y="0"/>
                    <a:pt x="1405" y="235"/>
                    <a:pt x="1488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479320" y="450792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3035520" y="450792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5565600" y="630468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6122160" y="6304680"/>
                  <a:ext cx="374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6602400" y="630468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3161880" y="5776560"/>
                  <a:ext cx="4500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19" name=""/>
            <p:cNvSpPr/>
            <p:nvPr/>
          </p:nvSpPr>
          <p:spPr>
            <a:xfrm>
              <a:off x="3363480" y="5175360"/>
              <a:ext cx="2578680" cy="659160"/>
            </a:xfrm>
            <a:custGeom>
              <a:avLst/>
              <a:gdLst/>
              <a:ahLst/>
              <a:rect l="l" t="t" r="r" b="b"/>
              <a:pathLst>
                <a:path w="1840" h="599">
                  <a:moveTo>
                    <a:pt x="0" y="306"/>
                  </a:moveTo>
                  <a:cubicBezTo>
                    <a:pt x="98" y="347"/>
                    <a:pt x="363" y="599"/>
                    <a:pt x="587" y="555"/>
                  </a:cubicBezTo>
                  <a:cubicBezTo>
                    <a:pt x="811" y="511"/>
                    <a:pt x="1137" y="86"/>
                    <a:pt x="1346" y="43"/>
                  </a:cubicBezTo>
                  <a:cubicBezTo>
                    <a:pt x="1555" y="0"/>
                    <a:pt x="1737" y="246"/>
                    <a:pt x="1840" y="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5180040" y="4878000"/>
                  <a:ext cx="47376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AD19-BA96-40B4-B393-7674B40238C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lution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ndom variables can be replaced by their me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terministic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tribution of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nch-and-Pr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523880" y="2133720"/>
                <a:ext cx="5639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971800" y="2895480"/>
                <a:ext cx="6094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523880" y="3200400"/>
                <a:ext cx="26672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ith prob 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ith prob  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057400" y="3962520"/>
                <a:ext cx="4495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ility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can be determined by considerin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- prob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MC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2CC7-4DB6-4DB0-AFD0-1AA1B696E46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use the same four networks, but add all flights together and form one network with total 278 flight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 divided into two sets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rst data set (Jul 2000) used to build model and generate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data set (Aug 2000) used to test the new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ength of the formu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29" name="LP%20relaxation" descr=""/>
          <p:cNvPicPr/>
          <p:nvPr/>
        </p:nvPicPr>
        <p:blipFill>
          <a:blip r:embed="rId1"/>
          <a:stretch/>
        </p:blipFill>
        <p:spPr>
          <a:xfrm>
            <a:off x="1066680" y="4876920"/>
            <a:ext cx="7086600" cy="11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BE87-7C62-43A5-94B4-6E15F5FFCD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sume 30 minute minimum connecting tim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July 2000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ugust 2000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2" name="July%20-%2030%20min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7467480" cy="1392120"/>
          </a:xfrm>
          <a:prstGeom prst="rect">
            <a:avLst/>
          </a:prstGeom>
          <a:ln w="0">
            <a:noFill/>
          </a:ln>
        </p:spPr>
      </p:pic>
      <p:pic>
        <p:nvPicPr>
          <p:cNvPr id="433" name="August%20-%2030%20min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7391520" cy="137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3E43-47A4-490D-B22C-24F5C5E6A33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5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0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6" name="August%20-%2020%20min" descr=""/>
          <p:cNvPicPr/>
          <p:nvPr/>
        </p:nvPicPr>
        <p:blipFill>
          <a:blip r:embed="rId1"/>
          <a:stretch/>
        </p:blipFill>
        <p:spPr>
          <a:xfrm>
            <a:off x="1295280" y="4800600"/>
            <a:ext cx="7086600" cy="1320840"/>
          </a:xfrm>
          <a:prstGeom prst="rect">
            <a:avLst/>
          </a:prstGeom>
          <a:ln w="0">
            <a:noFill/>
          </a:ln>
        </p:spPr>
      </p:pic>
      <p:pic>
        <p:nvPicPr>
          <p:cNvPr id="437" name="August%20-%2025%20min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7162560" cy="13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3224-83DF-4099-A7A1-503138F1997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w many copies to genera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0" name="Prob%20size%201%20min%20interval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638680" cy="2111400"/>
          </a:xfrm>
          <a:prstGeom prst="rect">
            <a:avLst/>
          </a:prstGeom>
          <a:ln w="0">
            <a:noFill/>
          </a:ln>
        </p:spPr>
      </p:pic>
      <p:pic>
        <p:nvPicPr>
          <p:cNvPr id="441" name="Solution%201%20min%20interval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6386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D228-8F59-42BA-A11C-58D3E465455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Flight Schedule Retim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ummary of Contribu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uture Research Dire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00F9-2A63-42D0-909F-14D56F62267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ummary of Contribu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vide alternative definitions for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an optimization model and solution approach that can generate aircraft maintenance routes to minimiz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optimization models and solution approach to minimize the expected total number of passengers missing connections, and analyze the model proper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of-of-concept results show that these approaches are promi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integrated models for more robustn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EABC-51D2-4CE3-8B7C-F7D1651E485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ture Research Direc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ted Mode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grated robust aircraft maintenance routing with fleet assign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obust aircraft maintenance routing with time window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grated flight schedule re-timing with FAMTW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ther approach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eet assignment with minimal expected co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eet assignment under demand uncertain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routes with swap opportun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routes with short cyc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FCD0-FD2F-43B2-9FEF-F4C00A7E485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uly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5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0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0" name="July%20-%2025%20min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7086600" cy="1320840"/>
          </a:xfrm>
          <a:prstGeom prst="rect">
            <a:avLst/>
          </a:prstGeom>
          <a:ln w="0">
            <a:noFill/>
          </a:ln>
        </p:spPr>
      </p:pic>
      <p:pic>
        <p:nvPicPr>
          <p:cNvPr id="451" name="July%20-%2020%20min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7086600" cy="13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8907-960D-40EF-AB6A-F4FC50D006F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ight Delays &amp; Cancel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nd (1995-1999)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increase (80%) in flights delayed more than 45 mi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increase (500%) in the number of cancelled fligh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Year 2000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0% of flights dela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5% of flights cancell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ture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 traffic in US is expected to double in the next 10-15 years (Schaefer et al. (2001)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ach 1% increase in air traffic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 5% increase in delays (Schaefer et al. (2001)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ad to more frequent and serious delay and schedule disruption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1427-0BDD-4DA9-B5E2-442FE86CE7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act on Passeng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ruptions calculated at the flight level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a flight was cancelled, all passengers on that flight is disrupt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actual departure time of flight B – actual arrival time of flight A &lt; minimum connecting time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all passengers connecting from A to B are disrupted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umber of disrupted passengers only calculated for connections between flights that both have ASQP record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QP has records only for domestic flights flown by jet airplanes and major airlines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ctual departure and arrival times for flights without ASQP records are unknown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Assume no disruptions for these flight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ssengers only counted as disrupted onc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passenger is disrupted on any flight leg of itinerary, passenger not counted as disrupted on the following flight leg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828F-AC12-413B-8AD3-3B6EEF5D7E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elays and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ela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difference between scheduled and actual arrival time at passengers’ destin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s are disrupted if their planned itineraries are infeasib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and passenger delay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6" name="delay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51818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5B1C-583C-47BE-9009-632A4670585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isru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numbers: 4%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20-30 million in U.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perience very long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ribute to more than half of the total passenger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use huge revenue lo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troy airlines’ imag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duce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assenger delay caused by disruption is the most critical pa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rd to determine the delays for each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ize number of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5D50-31D5-4369-892C-43568CEDE78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P Sol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gorithm for LP relaxation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0: Create initial feasible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1: Solve the restricted master problem (RMP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d optimal solution to RMP with a subset of all strings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2: Solve the pricing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enerate strings with negative reduced c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no string is generated, stop: the LP is solv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3: Construct a new restricted master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 the strings generat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o to step 1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A3EB-B956-45B2-924E-06EBB797525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feasible string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fligh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ground variabl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set of strings ending (starting) wit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binary decision variable for each feasible string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integer variable to count number of aircraft on the ground at maintenance stat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number of aircraft on the ground before (after)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departs at the maintenance station from whic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depar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number of aircraft on the ground before (after)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rrives at the maintenance station from whic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rriv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838080" y="3429000"/>
                <a:ext cx="385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38080" y="2971800"/>
                <a:ext cx="91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838080" y="4800600"/>
                <a:ext cx="1086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838080" y="5638680"/>
                <a:ext cx="1062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C98B-894B-4069-9E1F-A753EF87DC9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tation (Cont.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propagated delay from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to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f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nd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re in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indicator variable, equals 1 if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s in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, and equals 0 otherwi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number of times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rosses the count time, a single point time at which to count aircraf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number of times ground arc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rosses the count tim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: number of planes available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838080" y="1447920"/>
                <a:ext cx="53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838080" y="2286000"/>
                <a:ext cx="432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838080" y="3200400"/>
                <a:ext cx="3747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826920" y="4191120"/>
                <a:ext cx="3780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FE84-2B2B-4F23-BC0C-D45100EC37D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rline Service Quality Performance (ASQP) provides good source of delay inform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QP provides flight operation information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ll domestic flights served by jet aircraft by major airlines in U.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lanned departure time and arrival time, actual departure time and arrival time (including wheels-off and wheels-on time, taxi-out and taxi-in time, airborne tim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tail number for each fligh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ncelled flights  (reasons for cancellation, and aircraft tail number are not availabl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A87C-F59B-4E2C-9F97-24D0A108C0B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 of Cancel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cancelled flights in the historical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don’t know which aircraft supposed to fly th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don’t have the delay informatio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assume the propagated delays for these flights are zer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wer cancellation rat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ss passengers disrupted because of cancel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passengers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 days in Aug 2000 with very few cancellations (cancellation rate = 0.19%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ug 2000, 65% of disrupted passengers are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7 selected days in Aug 2000, 92% of disrupted passengers are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1196-A699-4531-B707-7ECD769DAED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Low Cancellation Day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isruptions for 7 selected days in Aug 2000 with very few cancel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duction in number of disrupted passengers per non-cancelled flights is same as that for entire month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600200" y="2514600"/>
          <a:ext cx="4952880" cy="21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14600"/>
                    <a:ext cx="495288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6A08-9610-46DD-B82C-327C5CA060C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tens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e with schedul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slacks may be added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further reduce delay propag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e with fleet assign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ed to determine cost for propagated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feasible strings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better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um turn time is a function of fleet typ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te with fleet assignment and schedule gen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3BEC-8129-4352-B4CF-391768AB0FF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s are disrupted if their planned itineraries are infeasible becau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ights cancel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time to connec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% of passengers disrupted in 2000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lf of them are connecting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ery long delays for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verage delay for disrupted passengers is approx. 419 minutes (versus 14 min delay for non-disrupted passengers) (Bratu and Barnhart, 200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gnificant revenue lo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1A9C-E755-4805-B629-876DA79923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r Contribu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vide alternative definitions for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an optimization model and solution approach that can generate aircraft maintenance routes to minimiz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optimization models and solution approach to minimize the expected total number of passengers missing connection, and analyze the model proper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of-of-concept results show that these approaches are promi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integrated models for more robustn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3893-4DE6-4681-802F-EDBFF832F1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How to deal with schedule disrup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Challenges of building robust airline schedu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Definitions of robustne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Robust airline schedule planning approach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 --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432E-7D93-4356-95A9-2DF538AC00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Deal with Schedule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wo ways to deal with schedule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-optimize schedule after disruptions occur (operation st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uild robustness into the schedules (planning st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isting planning systems do not have effective methods to manage disrup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ore robust plan can reduce the effect of  disruptions on the operations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reduce operation costs and improve quality of serv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bust airline schedule planning methods are nee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76EC-9780-4808-BCD4-1EB6478981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22:04:04Z</dcterms:created>
  <dc:creator> </dc:creator>
  <dc:description/>
  <dc:language>en-US</dc:language>
  <cp:lastModifiedBy>CEE</cp:lastModifiedBy>
  <cp:lastPrinted>2002-10-17T14:54:11Z</cp:lastPrinted>
  <dcterms:modified xsi:type="dcterms:W3CDTF">2004-02-24T19:39:39Z</dcterms:modified>
  <cp:revision>475</cp:revision>
  <dc:subject/>
  <dc:title>Fleet Assignment under Demand Uncertainty</dc:title>
</cp:coreProperties>
</file>