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64AF4F-F280-49CF-B5C3-AC35232F2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employ an iterative solution algorithm.  The algorithm works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implement ou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moving to th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schedule design.  Our approach to the schedule design problem is increme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pproach similar to the state of the practice.  The only difference is that we use model to select flights while airlines use human to select fl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B80-EDFC-46E9-81C3-C0B77386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1AE-346B-4793-92FE-DD47AE3A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0A6-B2BB-4D3D-AC91-604E360A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02F-EC15-4405-932D-98919034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84E-D904-4925-B21D-9A2A3555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37A-4561-4BC5-86E5-1C130129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031-FFCC-4A95-9080-C180B827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E0A-95DF-457D-9985-37F41B2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539-24A0-4EDF-BED1-3BF4B2A6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26F-1EFE-4CBE-83BF-043EB122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04E-7C36-41D9-BDA3-2D3FB923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0FC-9EF1-4A32-95CE-8C9CA1D5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804A-EDAE-4E42-A64F-32856F918DA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9827-E7AD-453D-A846-8851D2674F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: 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98560" y="1332000"/>
            <a:ext cx="5486040" cy="1944720"/>
            <a:chOff x="898560" y="1332000"/>
            <a:chExt cx="5486040" cy="1944720"/>
          </a:xfrm>
        </p:grpSpPr>
        <p:grpSp>
          <p:nvGrpSpPr>
            <p:cNvPr id="157" name=""/>
            <p:cNvGrpSpPr/>
            <p:nvPr/>
          </p:nvGrpSpPr>
          <p:grpSpPr>
            <a:xfrm>
              <a:off x="4022640" y="1447920"/>
              <a:ext cx="2361960" cy="1828800"/>
              <a:chOff x="4022640" y="1447920"/>
              <a:chExt cx="236196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402264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40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403880" y="1752480"/>
              <a:ext cx="1600200" cy="381240"/>
              <a:chOff x="4403880" y="1752480"/>
              <a:chExt cx="1600200" cy="381240"/>
            </a:xfrm>
          </p:grpSpPr>
          <p:sp>
            <p:nvSpPr>
              <p:cNvPr id="161" name=""/>
              <p:cNvSpPr/>
              <p:nvPr/>
            </p:nvSpPr>
            <p:spPr>
              <a:xfrm>
                <a:off x="4403880" y="1752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80200" y="21337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03880" y="2514600"/>
              <a:ext cx="1600200" cy="380880"/>
              <a:chOff x="4403880" y="2514600"/>
              <a:chExt cx="1600200" cy="380880"/>
            </a:xfrm>
          </p:grpSpPr>
          <p:sp>
            <p:nvSpPr>
              <p:cNvPr id="164" name=""/>
              <p:cNvSpPr/>
              <p:nvPr/>
            </p:nvSpPr>
            <p:spPr>
              <a:xfrm>
                <a:off x="4480200" y="25146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03880" y="2895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898560" y="1905120"/>
              <a:ext cx="2186280" cy="1114560"/>
              <a:chOff x="898560" y="1905120"/>
              <a:chExt cx="2186280" cy="1114560"/>
            </a:xfrm>
          </p:grpSpPr>
          <p:sp>
            <p:nvSpPr>
              <p:cNvPr id="167" name=""/>
              <p:cNvSpPr/>
              <p:nvPr/>
            </p:nvSpPr>
            <p:spPr>
              <a:xfrm>
                <a:off x="898560" y="19051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49360" y="24382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108240" y="1332000"/>
              <a:ext cx="2352600" cy="1642320"/>
              <a:chOff x="3108240" y="1332000"/>
              <a:chExt cx="2352600" cy="1642320"/>
            </a:xfrm>
          </p:grpSpPr>
          <p:sp>
            <p:nvSpPr>
              <p:cNvPr id="170" name=""/>
              <p:cNvSpPr/>
              <p:nvPr/>
            </p:nvSpPr>
            <p:spPr>
              <a:xfrm>
                <a:off x="4848120" y="13320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48120" y="17128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63960" y="20937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63960" y="25146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08240" y="19810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838080" y="4419720"/>
            <a:ext cx="2186280" cy="1114560"/>
            <a:chOff x="838080" y="4419720"/>
            <a:chExt cx="2186280" cy="1114560"/>
          </a:xfrm>
        </p:grpSpPr>
        <p:sp>
          <p:nvSpPr>
            <p:cNvPr id="176" name=""/>
            <p:cNvSpPr/>
            <p:nvPr/>
          </p:nvSpPr>
          <p:spPr>
            <a:xfrm>
              <a:off x="838080" y="44197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5320" y="49528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124080" y="3922560"/>
            <a:ext cx="2352600" cy="2252160"/>
            <a:chOff x="3124080" y="3922560"/>
            <a:chExt cx="2352600" cy="2252160"/>
          </a:xfrm>
        </p:grpSpPr>
        <p:sp>
          <p:nvSpPr>
            <p:cNvPr id="179" name=""/>
            <p:cNvSpPr/>
            <p:nvPr/>
          </p:nvSpPr>
          <p:spPr>
            <a:xfrm>
              <a:off x="4863960" y="3922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3034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9800" y="4684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9800" y="5715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572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24280" y="4338720"/>
            <a:ext cx="1122480" cy="1756800"/>
            <a:chOff x="4724280" y="4338720"/>
            <a:chExt cx="1122480" cy="1756800"/>
          </a:xfrm>
        </p:grpSpPr>
        <p:sp>
          <p:nvSpPr>
            <p:cNvPr id="185" name=""/>
            <p:cNvSpPr/>
            <p:nvPr/>
          </p:nvSpPr>
          <p:spPr>
            <a:xfrm>
              <a:off x="4724280" y="5105160"/>
              <a:ext cx="344520" cy="647640"/>
            </a:xfrm>
            <a:custGeom>
              <a:avLst/>
              <a:gdLst/>
              <a:ahLst/>
              <a:rect l="l" t="t" r="r" b="b"/>
              <a:pathLst>
                <a:path w="217" h="408">
                  <a:moveTo>
                    <a:pt x="217" y="408"/>
                  </a:moveTo>
                  <a:cubicBezTo>
                    <a:pt x="188" y="380"/>
                    <a:pt x="62" y="308"/>
                    <a:pt x="31" y="240"/>
                  </a:cubicBezTo>
                  <a:cubicBezTo>
                    <a:pt x="0" y="172"/>
                    <a:pt x="19" y="84"/>
                    <a:pt x="3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4560" y="4738680"/>
              <a:ext cx="344520" cy="985320"/>
            </a:xfrm>
            <a:custGeom>
              <a:avLst/>
              <a:gdLst/>
              <a:ahLst/>
              <a:rect l="l" t="t" r="r" b="b"/>
              <a:pathLst>
                <a:path w="217" h="621">
                  <a:moveTo>
                    <a:pt x="0" y="621"/>
                  </a:moveTo>
                  <a:cubicBezTo>
                    <a:pt x="31" y="581"/>
                    <a:pt x="161" y="472"/>
                    <a:pt x="189" y="369"/>
                  </a:cubicBezTo>
                  <a:cubicBezTo>
                    <a:pt x="217" y="266"/>
                    <a:pt x="175" y="77"/>
                    <a:pt x="17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83080" y="4338720"/>
              <a:ext cx="463680" cy="1376280"/>
            </a:xfrm>
            <a:custGeom>
              <a:avLst/>
              <a:gdLst/>
              <a:ahLst/>
              <a:rect l="l" t="t" r="r" b="b"/>
              <a:pathLst>
                <a:path w="292" h="867">
                  <a:moveTo>
                    <a:pt x="0" y="867"/>
                  </a:moveTo>
                  <a:cubicBezTo>
                    <a:pt x="42" y="826"/>
                    <a:pt x="212" y="765"/>
                    <a:pt x="252" y="621"/>
                  </a:cubicBezTo>
                  <a:cubicBezTo>
                    <a:pt x="292" y="477"/>
                    <a:pt x="245" y="129"/>
                    <a:pt x="243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952880" y="5790960"/>
              <a:ext cx="457200" cy="30456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629400" y="3922560"/>
            <a:ext cx="2361960" cy="1944720"/>
            <a:chOff x="6629400" y="3922560"/>
            <a:chExt cx="2361960" cy="1944720"/>
          </a:xfrm>
        </p:grpSpPr>
        <p:grpSp>
          <p:nvGrpSpPr>
            <p:cNvPr id="190" name=""/>
            <p:cNvGrpSpPr/>
            <p:nvPr/>
          </p:nvGrpSpPr>
          <p:grpSpPr>
            <a:xfrm>
              <a:off x="6629400" y="4038480"/>
              <a:ext cx="2361960" cy="1828800"/>
              <a:chOff x="6629400" y="4038480"/>
              <a:chExt cx="2361960" cy="182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6629400" y="4038480"/>
                <a:ext cx="2361960" cy="1828800"/>
                <a:chOff x="6629400" y="4038480"/>
                <a:chExt cx="2361960" cy="182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62940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3416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7004160" y="4343400"/>
                <a:ext cx="1600200" cy="380880"/>
                <a:chOff x="7004160" y="4343400"/>
                <a:chExt cx="1600200" cy="3808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00416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8048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708660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027920" y="39225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429588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0000" y="46911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038480" y="4038480"/>
            <a:ext cx="2361960" cy="2210040"/>
            <a:chOff x="4038480" y="4038480"/>
            <a:chExt cx="2361960" cy="2210040"/>
          </a:xfrm>
        </p:grpSpPr>
        <p:grpSp>
          <p:nvGrpSpPr>
            <p:cNvPr id="202" name=""/>
            <p:cNvGrpSpPr/>
            <p:nvPr/>
          </p:nvGrpSpPr>
          <p:grpSpPr>
            <a:xfrm>
              <a:off x="4038480" y="4038480"/>
              <a:ext cx="2361960" cy="1828800"/>
              <a:chOff x="4038480" y="4038480"/>
              <a:chExt cx="2361960" cy="18288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4038480" y="4038480"/>
                <a:ext cx="2361960" cy="1828800"/>
                <a:chOff x="4038480" y="4038480"/>
                <a:chExt cx="2361960" cy="1828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03848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94324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413240" y="4343400"/>
                <a:ext cx="1600200" cy="380880"/>
                <a:chOff x="4413240" y="4343400"/>
                <a:chExt cx="1600200" cy="380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41324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48956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49568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419720" y="624852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A22-DA55-49F3-A606-0B5D855B95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84029-2DFC-4B70-B082-CE788D6A0A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17C-BCC9-45C9-9E8F-11070C8D3F1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A49B5-81C7-4DAA-A424-26A6C21031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17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0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9FA-A60B-411C-A7E4-2C8E4EDFFA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08B1B-D6BA-499C-8364-9AA8D3337A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26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9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1295280"/>
              <a:ext cx="6858000" cy="2819520"/>
              <a:chOff x="1447920" y="1295280"/>
              <a:chExt cx="6858000" cy="28195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1295280"/>
                <a:ext cx="6858000" cy="2819520"/>
              </a:xfrm>
              <a:custGeom>
                <a:avLst/>
                <a:gdLst/>
                <a:ahLst/>
                <a:rect l="l" t="t" r="r" b="b"/>
                <a:pathLst>
                  <a:path w="4320" h="1776">
                    <a:moveTo>
                      <a:pt x="4320" y="672"/>
                    </a:moveTo>
                    <a:lnTo>
                      <a:pt x="4320" y="384"/>
                    </a:lnTo>
                    <a:lnTo>
                      <a:pt x="2016" y="384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4320" y="1776"/>
                    </a:lnTo>
                    <a:lnTo>
                      <a:pt x="4320" y="1056"/>
                    </a:lnTo>
                    <a:lnTo>
                      <a:pt x="432" y="1056"/>
                    </a:lnTo>
                    <a:lnTo>
                      <a:pt x="429" y="669"/>
                    </a:lnTo>
                    <a:lnTo>
                      <a:pt x="4320" y="67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4800" y="3048120"/>
                <a:ext cx="538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Fleet Assignment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447920" y="1295280"/>
              <a:ext cx="7238880" cy="3962520"/>
              <a:chOff x="1447920" y="1295280"/>
              <a:chExt cx="7238880" cy="3962520"/>
            </a:xfrm>
          </p:grpSpPr>
          <p:sp>
            <p:nvSpPr>
              <p:cNvPr id="236" name=""/>
              <p:cNvSpPr/>
              <p:nvPr/>
            </p:nvSpPr>
            <p:spPr>
              <a:xfrm>
                <a:off x="1447920" y="1295280"/>
                <a:ext cx="7238880" cy="3962520"/>
              </a:xfrm>
              <a:custGeom>
                <a:avLst/>
                <a:gdLst/>
                <a:ahLst/>
                <a:rect l="l" t="t" r="r" b="b"/>
                <a:pathLst>
                  <a:path w="4560" h="2496">
                    <a:moveTo>
                      <a:pt x="2112" y="3"/>
                    </a:moveTo>
                    <a:lnTo>
                      <a:pt x="2112" y="336"/>
                    </a:lnTo>
                    <a:lnTo>
                      <a:pt x="4368" y="336"/>
                    </a:lnTo>
                    <a:lnTo>
                      <a:pt x="4368" y="1824"/>
                    </a:lnTo>
                    <a:lnTo>
                      <a:pt x="0" y="1824"/>
                    </a:lnTo>
                    <a:lnTo>
                      <a:pt x="0" y="2496"/>
                    </a:lnTo>
                    <a:lnTo>
                      <a:pt x="4560" y="2496"/>
                    </a:lnTo>
                    <a:lnTo>
                      <a:pt x="4560" y="0"/>
                    </a:lnTo>
                    <a:lnTo>
                      <a:pt x="2112" y="3"/>
                    </a:lnTo>
                    <a:close/>
                  </a:path>
                </a:pathLst>
              </a:custGeom>
              <a:solidFill>
                <a:srgbClr val="00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77720" y="4191120"/>
                <a:ext cx="52646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Spill + Recapture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2209680" y="2438280"/>
              <a:ext cx="6096240" cy="4860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99ff"/>
                  </a:solidFill>
                  <a:latin typeface="Arial Narrow"/>
                </a:rPr>
                <a:t>Schedule Desig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E6D-B497-4ED6-94F8-C065CD59A1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F2688-B40A-46AC-8A09-85522065DF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Variable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Variable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tended Schedule Design and Fleet Assignment Model (E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demand correction term to adjust demand explicit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729-4E34-4382-A4E6-11F33F659E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AB7AF-8A18-4882-B486-44B0099787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919440" y="2743200"/>
            <a:ext cx="5176440" cy="3050640"/>
            <a:chOff x="919440" y="2743200"/>
            <a:chExt cx="5176440" cy="3050640"/>
          </a:xfrm>
        </p:grpSpPr>
        <p:sp>
          <p:nvSpPr>
            <p:cNvPr id="242" name=""/>
            <p:cNvSpPr/>
            <p:nvPr/>
          </p:nvSpPr>
          <p:spPr>
            <a:xfrm>
              <a:off x="5562720" y="2743200"/>
              <a:ext cx="533160" cy="1676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95480" y="4190760"/>
              <a:ext cx="2743200" cy="11430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9440" y="5334120"/>
              <a:ext cx="31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Demand Correction Ter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SD-FAM: Demand Correc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27160" y="874800"/>
            <a:ext cx="5486040" cy="1944720"/>
            <a:chOff x="1127160" y="874800"/>
            <a:chExt cx="5486040" cy="1944720"/>
          </a:xfrm>
        </p:grpSpPr>
        <p:grpSp>
          <p:nvGrpSpPr>
            <p:cNvPr id="247" name=""/>
            <p:cNvGrpSpPr/>
            <p:nvPr/>
          </p:nvGrpSpPr>
          <p:grpSpPr>
            <a:xfrm>
              <a:off x="4251240" y="990720"/>
              <a:ext cx="2361960" cy="1828800"/>
              <a:chOff x="4251240" y="990720"/>
              <a:chExt cx="2361960" cy="1828800"/>
            </a:xfrm>
          </p:grpSpPr>
          <p:sp>
            <p:nvSpPr>
              <p:cNvPr id="248" name=""/>
              <p:cNvSpPr/>
              <p:nvPr/>
            </p:nvSpPr>
            <p:spPr>
              <a:xfrm>
                <a:off x="425124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5600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632480" y="1295280"/>
              <a:ext cx="1600200" cy="381240"/>
              <a:chOff x="4632480" y="1295280"/>
              <a:chExt cx="1600200" cy="381240"/>
            </a:xfrm>
          </p:grpSpPr>
          <p:sp>
            <p:nvSpPr>
              <p:cNvPr id="251" name=""/>
              <p:cNvSpPr/>
              <p:nvPr/>
            </p:nvSpPr>
            <p:spPr>
              <a:xfrm>
                <a:off x="4632480" y="1295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08800" y="16765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632480" y="2057400"/>
              <a:ext cx="1600200" cy="380880"/>
              <a:chOff x="4632480" y="2057400"/>
              <a:chExt cx="1600200" cy="380880"/>
            </a:xfrm>
          </p:grpSpPr>
          <p:sp>
            <p:nvSpPr>
              <p:cNvPr id="254" name=""/>
              <p:cNvSpPr/>
              <p:nvPr/>
            </p:nvSpPr>
            <p:spPr>
              <a:xfrm>
                <a:off x="4708800" y="20574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32480" y="2438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127160" y="1447920"/>
              <a:ext cx="2186280" cy="1114560"/>
              <a:chOff x="1127160" y="1447920"/>
              <a:chExt cx="2186280" cy="111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1127160" y="14479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677960" y="19810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336840" y="874800"/>
              <a:ext cx="2352600" cy="1642320"/>
              <a:chOff x="3336840" y="874800"/>
              <a:chExt cx="2352600" cy="1642320"/>
            </a:xfrm>
          </p:grpSpPr>
          <p:sp>
            <p:nvSpPr>
              <p:cNvPr id="260" name=""/>
              <p:cNvSpPr/>
              <p:nvPr/>
            </p:nvSpPr>
            <p:spPr>
              <a:xfrm>
                <a:off x="5076720" y="8748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76720" y="12556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92560" y="16365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92560" y="20574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36840" y="15238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266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723200" y="4761000"/>
            <a:ext cx="1443960" cy="840600"/>
            <a:chOff x="4723200" y="4761000"/>
            <a:chExt cx="1443960" cy="840600"/>
          </a:xfrm>
        </p:grpSpPr>
        <p:sp>
          <p:nvSpPr>
            <p:cNvPr id="271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3200" y="5141880"/>
              <a:ext cx="14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+40+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066680" y="1828800"/>
            <a:ext cx="6705360" cy="2935440"/>
            <a:chOff x="1066680" y="1828800"/>
            <a:chExt cx="6705360" cy="2935440"/>
          </a:xfrm>
        </p:grpSpPr>
        <p:grpSp>
          <p:nvGrpSpPr>
            <p:cNvPr id="274" name=""/>
            <p:cNvGrpSpPr/>
            <p:nvPr/>
          </p:nvGrpSpPr>
          <p:grpSpPr>
            <a:xfrm>
              <a:off x="1066680" y="2935440"/>
              <a:ext cx="5546520" cy="1828800"/>
              <a:chOff x="1066680" y="2935440"/>
              <a:chExt cx="5546520" cy="18288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4251240" y="2935440"/>
                <a:ext cx="2361960" cy="1828800"/>
                <a:chOff x="4251240" y="2935440"/>
                <a:chExt cx="2361960" cy="182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25124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5600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2120" y="32400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08440" y="362124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08440" y="423072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066680" y="3352680"/>
                <a:ext cx="2186280" cy="1114920"/>
                <a:chOff x="1066680" y="3352680"/>
                <a:chExt cx="2186280" cy="11149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066680" y="3352680"/>
                  <a:ext cx="218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Market Shar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753920" y="3886200"/>
                  <a:ext cx="738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410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6781680" y="1828800"/>
              <a:ext cx="990360" cy="1981080"/>
              <a:chOff x="6781680" y="1828800"/>
              <a:chExt cx="990360" cy="1981080"/>
            </a:xfrm>
          </p:grpSpPr>
          <p:sp>
            <p:nvSpPr>
              <p:cNvPr id="285" name=""/>
              <p:cNvSpPr/>
              <p:nvPr/>
            </p:nvSpPr>
            <p:spPr>
              <a:xfrm>
                <a:off x="6781680" y="182880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81680" y="380988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1680" y="1828800"/>
                <a:ext cx="914400" cy="1981080"/>
              </a:xfrm>
              <a:prstGeom prst="downArrow">
                <a:avLst>
                  <a:gd name="adj1" fmla="val 50000"/>
                  <a:gd name="adj2" fmla="val 54163"/>
                </a:avLst>
              </a:prstGeom>
              <a:gradFill rotWithShape="0">
                <a:gsLst>
                  <a:gs pos="0">
                    <a:srgbClr val="5e7575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4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289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282840" y="2819520"/>
            <a:ext cx="2774160" cy="1413720"/>
            <a:chOff x="3282840" y="2819520"/>
            <a:chExt cx="2774160" cy="1413720"/>
          </a:xfrm>
        </p:grpSpPr>
        <p:sp>
          <p:nvSpPr>
            <p:cNvPr id="294" name=""/>
            <p:cNvSpPr/>
            <p:nvPr/>
          </p:nvSpPr>
          <p:spPr>
            <a:xfrm>
              <a:off x="4880160" y="281952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0520" y="320040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96360" y="377352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81680" y="3809880"/>
            <a:ext cx="990360" cy="1981080"/>
            <a:chOff x="6781680" y="3809880"/>
            <a:chExt cx="990360" cy="1981080"/>
          </a:xfrm>
        </p:grpSpPr>
        <p:sp>
          <p:nvSpPr>
            <p:cNvPr id="299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57909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1680" y="380988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118280" y="1828800"/>
            <a:ext cx="1873440" cy="4525920"/>
            <a:chOff x="7118280" y="1828800"/>
            <a:chExt cx="1873440" cy="4525920"/>
          </a:xfrm>
        </p:grpSpPr>
        <p:grpSp>
          <p:nvGrpSpPr>
            <p:cNvPr id="303" name=""/>
            <p:cNvGrpSpPr/>
            <p:nvPr/>
          </p:nvGrpSpPr>
          <p:grpSpPr>
            <a:xfrm>
              <a:off x="7118280" y="1828800"/>
              <a:ext cx="1873440" cy="4525920"/>
              <a:chOff x="7118280" y="1828800"/>
              <a:chExt cx="1873440" cy="4525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8001000" y="1828800"/>
                <a:ext cx="990720" cy="3962520"/>
                <a:chOff x="8001000" y="1828800"/>
                <a:chExt cx="990720" cy="3962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001000" y="579132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077320" y="1828800"/>
                  <a:ext cx="914400" cy="3962520"/>
                </a:xfrm>
                <a:prstGeom prst="downArrow">
                  <a:avLst>
                    <a:gd name="adj1" fmla="val 50000"/>
                    <a:gd name="adj2" fmla="val 108337"/>
                  </a:avLst>
                </a:prstGeom>
                <a:gradFill rotWithShape="0">
                  <a:gsLst>
                    <a:gs pos="0">
                      <a:srgbClr val="755e46"/>
                    </a:gs>
                    <a:gs pos="100000">
                      <a:srgbClr val="ffcc99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15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001000" y="182880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7118280" y="58356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924680" y="373392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24680" y="380988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001000" y="3657600"/>
              <a:ext cx="7632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815720" y="5522760"/>
            <a:ext cx="13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-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2</a:t>
            </a:r>
            <a:r>
              <a:rPr b="0" lang="en-US" sz="2400" spc="-1" strike="noStrike" baseline="30000">
                <a:solidFill>
                  <a:srgbClr val="cc99ff"/>
                </a:solidFill>
                <a:latin typeface="Arial Narrow"/>
              </a:rPr>
              <a:t>nd</a:t>
            </a: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 deg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corr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11240" y="6248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ff"/>
                </a:solidFill>
                <a:latin typeface="Arial Narrow"/>
              </a:rPr>
              <a:t>Data Quality 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4F8-0563-489B-A13D-AA224364C7F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AE440-D734-4187-9917-84CF18C7C2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F42-A97E-420D-8B2B-3556195C1F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76C0B-9283-4C8F-8505-DFAA86D521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19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22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A59-D4DF-42FF-9AAA-7F905F7B1A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BD637-EC68-4EE4-9382-726A0268C0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27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30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143000" y="1219320"/>
            <a:ext cx="8001000" cy="5104440"/>
            <a:chOff x="1143000" y="1219320"/>
            <a:chExt cx="8001000" cy="5104440"/>
          </a:xfrm>
        </p:grpSpPr>
        <p:grpSp>
          <p:nvGrpSpPr>
            <p:cNvPr id="333" name=""/>
            <p:cNvGrpSpPr/>
            <p:nvPr/>
          </p:nvGrpSpPr>
          <p:grpSpPr>
            <a:xfrm>
              <a:off x="1143000" y="1219320"/>
              <a:ext cx="7619760" cy="4047480"/>
              <a:chOff x="1143000" y="1219320"/>
              <a:chExt cx="7619760" cy="4047480"/>
            </a:xfrm>
          </p:grpSpPr>
          <p:sp>
            <p:nvSpPr>
              <p:cNvPr id="334" name=""/>
              <p:cNvSpPr/>
              <p:nvPr/>
            </p:nvSpPr>
            <p:spPr>
              <a:xfrm>
                <a:off x="1143000" y="1283400"/>
                <a:ext cx="7619760" cy="3983400"/>
              </a:xfrm>
              <a:custGeom>
                <a:avLst/>
                <a:gdLst/>
                <a:ahLst/>
                <a:rect l="l" t="t" r="r" b="b"/>
                <a:pathLst>
                  <a:path w="4800" h="2352">
                    <a:moveTo>
                      <a:pt x="3504" y="2352"/>
                    </a:moveTo>
                    <a:lnTo>
                      <a:pt x="4800" y="2352"/>
                    </a:lnTo>
                    <a:lnTo>
                      <a:pt x="4800" y="432"/>
                    </a:lnTo>
                    <a:lnTo>
                      <a:pt x="2640" y="432"/>
                    </a:lnTo>
                    <a:lnTo>
                      <a:pt x="2640" y="0"/>
                    </a:lnTo>
                    <a:lnTo>
                      <a:pt x="0" y="0"/>
                    </a:lnTo>
                    <a:lnTo>
                      <a:pt x="0" y="1632"/>
                    </a:lnTo>
                    <a:lnTo>
                      <a:pt x="1488" y="1632"/>
                    </a:lnTo>
                    <a:lnTo>
                      <a:pt x="1488" y="2064"/>
                    </a:lnTo>
                    <a:lnTo>
                      <a:pt x="3504" y="2064"/>
                    </a:lnTo>
                    <a:lnTo>
                      <a:pt x="3504" y="235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20040" y="1219320"/>
                <a:ext cx="7470000" cy="32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Constant 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Market Share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Schedule Design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  </a:t>
                </a:r>
                <a:r>
                  <a:rPr b="1" lang="en-US" sz="4000" spc="-1" strike="noStrike">
                    <a:solidFill>
                      <a:srgbClr val="cc99ff"/>
                    </a:solidFill>
                    <a:latin typeface="Arial"/>
                  </a:rPr>
                  <a:t>&amp; 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Fleet Assgn.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143000" y="1283400"/>
              <a:ext cx="8001000" cy="5040360"/>
              <a:chOff x="1143000" y="1283400"/>
              <a:chExt cx="8001000" cy="5040360"/>
            </a:xfrm>
          </p:grpSpPr>
          <p:sp>
            <p:nvSpPr>
              <p:cNvPr id="337" name=""/>
              <p:cNvSpPr/>
              <p:nvPr/>
            </p:nvSpPr>
            <p:spPr>
              <a:xfrm>
                <a:off x="1143000" y="1283400"/>
                <a:ext cx="8001000" cy="5040360"/>
              </a:xfrm>
              <a:custGeom>
                <a:avLst/>
                <a:gdLst/>
                <a:ahLst/>
                <a:rect l="l" t="t" r="r" b="b"/>
                <a:pathLst>
                  <a:path w="5040" h="2976">
                    <a:moveTo>
                      <a:pt x="2688" y="0"/>
                    </a:moveTo>
                    <a:lnTo>
                      <a:pt x="2688" y="384"/>
                    </a:lnTo>
                    <a:lnTo>
                      <a:pt x="4848" y="384"/>
                    </a:lnTo>
                    <a:lnTo>
                      <a:pt x="4848" y="2400"/>
                    </a:lnTo>
                    <a:lnTo>
                      <a:pt x="3456" y="2400"/>
                    </a:lnTo>
                    <a:lnTo>
                      <a:pt x="3456" y="2112"/>
                    </a:lnTo>
                    <a:lnTo>
                      <a:pt x="1440" y="2112"/>
                    </a:lnTo>
                    <a:lnTo>
                      <a:pt x="1440" y="1680"/>
                    </a:lnTo>
                    <a:lnTo>
                      <a:pt x="0" y="1680"/>
                    </a:lnTo>
                    <a:lnTo>
                      <a:pt x="0" y="2976"/>
                    </a:lnTo>
                    <a:lnTo>
                      <a:pt x="5040" y="2976"/>
                    </a:lnTo>
                    <a:lnTo>
                      <a:pt x="5040" y="0"/>
                    </a:lnTo>
                    <a:lnTo>
                      <a:pt x="2688" y="0"/>
                    </a:lnTo>
                    <a:close/>
                  </a:path>
                </a:pathLst>
              </a:custGeom>
              <a:solidFill>
                <a:srgbClr val="ccffcc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80240" y="5348520"/>
                <a:ext cx="7524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99ff"/>
                    </a:solidFill>
                    <a:latin typeface="Arial"/>
                  </a:rPr>
                  <a:t>Market Share Adjustment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083-FC0B-47BD-B57D-2C34A2DE57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A9B62-099B-40CE-93CB-F99D316A1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1219320"/>
            <a:ext cx="1219320" cy="4572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43000" y="2895480"/>
            <a:ext cx="3124080" cy="1447560"/>
            <a:chOff x="1143000" y="2895480"/>
            <a:chExt cx="3124080" cy="1447560"/>
          </a:xfrm>
        </p:grpSpPr>
        <p:sp>
          <p:nvSpPr>
            <p:cNvPr id="342" name=""/>
            <p:cNvSpPr/>
            <p:nvPr/>
          </p:nvSpPr>
          <p:spPr>
            <a:xfrm>
              <a:off x="1143000" y="3504960"/>
              <a:ext cx="312408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Calculate new deman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for the resulting schedu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289548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733920" y="1371600"/>
            <a:ext cx="1752480" cy="1219320"/>
            <a:chOff x="3733920" y="1371600"/>
            <a:chExt cx="1752480" cy="1219320"/>
          </a:xfrm>
        </p:grpSpPr>
        <p:sp>
          <p:nvSpPr>
            <p:cNvPr id="345" name=""/>
            <p:cNvSpPr/>
            <p:nvPr/>
          </p:nvSpPr>
          <p:spPr>
            <a:xfrm>
              <a:off x="3733920" y="2590920"/>
              <a:ext cx="106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13716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00600" y="1371600"/>
              <a:ext cx="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10080" y="1066680"/>
            <a:ext cx="3124440" cy="1447560"/>
            <a:chOff x="5410080" y="1066680"/>
            <a:chExt cx="3124440" cy="1447560"/>
          </a:xfrm>
        </p:grpSpPr>
        <p:sp>
          <p:nvSpPr>
            <p:cNvPr id="349" name=""/>
            <p:cNvSpPr/>
            <p:nvPr/>
          </p:nvSpPr>
          <p:spPr>
            <a:xfrm>
              <a:off x="6934320" y="190476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0080" y="1066680"/>
              <a:ext cx="312444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Update modifi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324480" y="5486400"/>
            <a:ext cx="1427760" cy="1066320"/>
            <a:chOff x="6324480" y="5486400"/>
            <a:chExt cx="1427760" cy="1066320"/>
          </a:xfrm>
        </p:grpSpPr>
        <p:grpSp>
          <p:nvGrpSpPr>
            <p:cNvPr id="352" name=""/>
            <p:cNvGrpSpPr/>
            <p:nvPr/>
          </p:nvGrpSpPr>
          <p:grpSpPr>
            <a:xfrm>
              <a:off x="6324480" y="5486400"/>
              <a:ext cx="1219320" cy="1066320"/>
              <a:chOff x="6324480" y="5486400"/>
              <a:chExt cx="1219320" cy="1066320"/>
            </a:xfrm>
          </p:grpSpPr>
          <p:sp>
            <p:nvSpPr>
              <p:cNvPr id="353" name=""/>
              <p:cNvSpPr/>
              <p:nvPr/>
            </p:nvSpPr>
            <p:spPr>
              <a:xfrm>
                <a:off x="6324480" y="6095880"/>
                <a:ext cx="1219320" cy="456840"/>
              </a:xfrm>
              <a:prstGeom prst="flowChartAlternate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TO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34320" y="548640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073280" y="5675040"/>
              <a:ext cx="6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410080" y="2286000"/>
            <a:ext cx="3124440" cy="1447920"/>
            <a:chOff x="5410080" y="2286000"/>
            <a:chExt cx="3124440" cy="1447920"/>
          </a:xfrm>
        </p:grpSpPr>
        <p:grpSp>
          <p:nvGrpSpPr>
            <p:cNvPr id="357" name=""/>
            <p:cNvGrpSpPr/>
            <p:nvPr/>
          </p:nvGrpSpPr>
          <p:grpSpPr>
            <a:xfrm>
              <a:off x="5410080" y="2286000"/>
              <a:ext cx="3124440" cy="1447920"/>
              <a:chOff x="5410080" y="2286000"/>
              <a:chExt cx="3124440" cy="1447920"/>
            </a:xfrm>
          </p:grpSpPr>
          <p:sp>
            <p:nvSpPr>
              <p:cNvPr id="358" name=""/>
              <p:cNvSpPr/>
              <p:nvPr/>
            </p:nvSpPr>
            <p:spPr>
              <a:xfrm>
                <a:off x="5410080" y="2286000"/>
                <a:ext cx="3124440" cy="83844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Identify itineraries tha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cause discrepanci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34320" y="312444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996960" y="31244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267080" y="3505320"/>
            <a:ext cx="4038840" cy="2286000"/>
            <a:chOff x="4267080" y="3505320"/>
            <a:chExt cx="4038840" cy="2286000"/>
          </a:xfrm>
        </p:grpSpPr>
        <p:sp>
          <p:nvSpPr>
            <p:cNvPr id="362" name=""/>
            <p:cNvSpPr/>
            <p:nvPr/>
          </p:nvSpPr>
          <p:spPr>
            <a:xfrm>
              <a:off x="4952880" y="464832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080" y="54104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464832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720" y="3505320"/>
              <a:ext cx="2743200" cy="2286000"/>
            </a:xfrm>
            <a:prstGeom prst="flowChartDecision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Has t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stopping crite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been me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676520" y="1676520"/>
            <a:ext cx="2737440" cy="1678680"/>
            <a:chOff x="1676520" y="1676520"/>
            <a:chExt cx="2737440" cy="1678680"/>
          </a:xfrm>
        </p:grpSpPr>
        <p:grpSp>
          <p:nvGrpSpPr>
            <p:cNvPr id="367" name=""/>
            <p:cNvGrpSpPr/>
            <p:nvPr/>
          </p:nvGrpSpPr>
          <p:grpSpPr>
            <a:xfrm>
              <a:off x="1676520" y="1676520"/>
              <a:ext cx="2057400" cy="1218600"/>
              <a:chOff x="1676520" y="1676520"/>
              <a:chExt cx="2057400" cy="1218600"/>
            </a:xfrm>
          </p:grpSpPr>
          <p:sp>
            <p:nvSpPr>
              <p:cNvPr id="368" name=""/>
              <p:cNvSpPr/>
              <p:nvPr/>
            </p:nvSpPr>
            <p:spPr>
              <a:xfrm>
                <a:off x="1676520" y="2285640"/>
                <a:ext cx="2057400" cy="6094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olve I/ESD-FA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66880" y="1676520"/>
                <a:ext cx="0" cy="609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678760" y="289548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43000" y="4343400"/>
            <a:ext cx="3270960" cy="1907640"/>
            <a:chOff x="1143000" y="4343400"/>
            <a:chExt cx="3270960" cy="1907640"/>
          </a:xfrm>
        </p:grpSpPr>
        <p:grpSp>
          <p:nvGrpSpPr>
            <p:cNvPr id="372" name=""/>
            <p:cNvGrpSpPr/>
            <p:nvPr/>
          </p:nvGrpSpPr>
          <p:grpSpPr>
            <a:xfrm>
              <a:off x="1143000" y="4343400"/>
              <a:ext cx="3124080" cy="1447920"/>
              <a:chOff x="1143000" y="4343400"/>
              <a:chExt cx="3124080" cy="144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1143000" y="4953240"/>
                <a:ext cx="3124080" cy="8380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Obtain revenue estimate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from PM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66880" y="4343400"/>
                <a:ext cx="0" cy="60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678760" y="57913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613-610E-401B-B01C-7C5CC20BE5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A428C-ACB0-4AF6-B49A-932EB51661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963/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Schedule Design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 and Objec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Constant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Variable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Solution Algorith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ook to the Future in Airline Schedule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AC3-6C0A-4942-B891-A0F00D8C24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4046D-BFDA-48D5-B9B9-CFF59E6922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tate Of The Practice/ Theor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schedule decisions made without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least one major airline uses Fleet Assignment with Time Wind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ementation of Incremental Schedule Design approach underway at a major air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ory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s and algorithms for incremental schedule design have been developed and prototyp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idation in progr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E48-7B12-4500-9EA4-21DFD3898280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94897-8D5B-4729-A409-CD4FC39286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D-FAM requires long runtimes and large amounts of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40 minutes on a workstation class computer for medium size (800 legs) schedu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20 hours on a 6-processor workstation, running parallel CPLEX for full size (2,000 legs)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D-FAM takes even longer runtimes and exhausts the memory in some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 mins (ISD-FAM) vs. 12 hrs (ESD-FAM) on same medium size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88B-4D58-4C6E-9946-6D60B137A5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CE316-0AA4-49D9-A3B0-5CAF1E6DC9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D-FAM captures interactions more accur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ing schedules operate fewer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r operating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aircraft requi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~$100 - $350 million improvement annu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ed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lanners’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de benefits from saved airc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94C-E385-471E-8E3C-6569574D3B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C5525-31FC-4FAC-BDB0-F14B203D88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 are subject to several cave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s are often disrup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itors’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lying assum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dem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control of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and foreca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apture rates/Demand correction ter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etheless, significant improvements are 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0B7-4276-4012-9491-61050EB64C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1D7D7-FEC5-45C4-BB38-5134306870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otential for Improved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lace IFAM with SF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229600" cy="4225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391520" y="3124080"/>
            <a:ext cx="457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33cc"/>
                </a:solidFill>
                <a:latin typeface="Garamond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67F-0303-439A-BB1A-080B2F063E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A600F-EAF4-48CD-8A28-05AC6DC26C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FAM Basic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olate network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occurs only on </a:t>
            </a:r>
            <a:r>
              <a:rPr b="0" i="1" lang="en-US" sz="2800" spc="-1" strike="noStrike">
                <a:solidFill>
                  <a:srgbClr val="ffff00"/>
                </a:solidFill>
                <a:latin typeface="Garamond"/>
              </a:rPr>
              <a:t>constrained le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112760" y="2317680"/>
            <a:ext cx="2656080" cy="3355920"/>
            <a:chOff x="1112760" y="2317680"/>
            <a:chExt cx="2656080" cy="3355920"/>
          </a:xfrm>
        </p:grpSpPr>
        <p:sp>
          <p:nvSpPr>
            <p:cNvPr id="392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527120" y="2571840"/>
              <a:ext cx="552600" cy="768240"/>
              <a:chOff x="1527120" y="2571840"/>
              <a:chExt cx="552600" cy="768240"/>
            </a:xfrm>
          </p:grpSpPr>
          <p:sp>
            <p:nvSpPr>
              <p:cNvPr id="394" name=""/>
              <p:cNvSpPr/>
              <p:nvPr/>
            </p:nvSpPr>
            <p:spPr>
              <a:xfrm>
                <a:off x="1547640" y="2577960"/>
                <a:ext cx="508320" cy="739800"/>
              </a:xfrm>
              <a:custGeom>
                <a:avLst/>
                <a:gdLst/>
                <a:ahLst/>
                <a:rect l="l" t="t" r="r" b="b"/>
                <a:pathLst>
                  <a:path w="1918" h="2330">
                    <a:moveTo>
                      <a:pt x="0" y="467"/>
                    </a:moveTo>
                    <a:lnTo>
                      <a:pt x="173" y="423"/>
                    </a:lnTo>
                    <a:lnTo>
                      <a:pt x="291" y="500"/>
                    </a:lnTo>
                    <a:lnTo>
                      <a:pt x="335" y="657"/>
                    </a:lnTo>
                    <a:lnTo>
                      <a:pt x="321" y="857"/>
                    </a:lnTo>
                    <a:lnTo>
                      <a:pt x="847" y="911"/>
                    </a:lnTo>
                    <a:lnTo>
                      <a:pt x="1134" y="34"/>
                    </a:lnTo>
                    <a:lnTo>
                      <a:pt x="1209" y="0"/>
                    </a:lnTo>
                    <a:lnTo>
                      <a:pt x="1302" y="11"/>
                    </a:lnTo>
                    <a:lnTo>
                      <a:pt x="1365" y="74"/>
                    </a:lnTo>
                    <a:lnTo>
                      <a:pt x="1393" y="230"/>
                    </a:lnTo>
                    <a:lnTo>
                      <a:pt x="1344" y="705"/>
                    </a:lnTo>
                    <a:lnTo>
                      <a:pt x="1312" y="984"/>
                    </a:lnTo>
                    <a:lnTo>
                      <a:pt x="1658" y="1064"/>
                    </a:lnTo>
                    <a:lnTo>
                      <a:pt x="1827" y="1139"/>
                    </a:lnTo>
                    <a:lnTo>
                      <a:pt x="1918" y="1253"/>
                    </a:lnTo>
                    <a:lnTo>
                      <a:pt x="1900" y="1342"/>
                    </a:lnTo>
                    <a:lnTo>
                      <a:pt x="1795" y="1406"/>
                    </a:lnTo>
                    <a:lnTo>
                      <a:pt x="1228" y="1334"/>
                    </a:lnTo>
                    <a:lnTo>
                      <a:pt x="1029" y="1953"/>
                    </a:lnTo>
                    <a:lnTo>
                      <a:pt x="929" y="2203"/>
                    </a:lnTo>
                    <a:lnTo>
                      <a:pt x="824" y="2330"/>
                    </a:lnTo>
                    <a:lnTo>
                      <a:pt x="636" y="2305"/>
                    </a:lnTo>
                    <a:lnTo>
                      <a:pt x="591" y="2162"/>
                    </a:lnTo>
                    <a:lnTo>
                      <a:pt x="749" y="1284"/>
                    </a:lnTo>
                    <a:lnTo>
                      <a:pt x="65" y="993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4760" y="2736720"/>
                <a:ext cx="501480" cy="276480"/>
              </a:xfrm>
              <a:custGeom>
                <a:avLst/>
                <a:gdLst/>
                <a:ahLst/>
                <a:rect l="l" t="t" r="r" b="b"/>
                <a:pathLst>
                  <a:path w="1898" h="871">
                    <a:moveTo>
                      <a:pt x="1898" y="806"/>
                    </a:moveTo>
                    <a:lnTo>
                      <a:pt x="290" y="457"/>
                    </a:lnTo>
                    <a:lnTo>
                      <a:pt x="230" y="122"/>
                    </a:lnTo>
                    <a:lnTo>
                      <a:pt x="0" y="0"/>
                    </a:lnTo>
                    <a:lnTo>
                      <a:pt x="40" y="444"/>
                    </a:lnTo>
                    <a:lnTo>
                      <a:pt x="383" y="643"/>
                    </a:lnTo>
                    <a:lnTo>
                      <a:pt x="1658" y="871"/>
                    </a:lnTo>
                    <a:lnTo>
                      <a:pt x="1857" y="855"/>
                    </a:lnTo>
                    <a:lnTo>
                      <a:pt x="1898" y="806"/>
                    </a:lnTo>
                    <a:lnTo>
                      <a:pt x="1898" y="806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46160" y="2941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38" y="96"/>
                    </a:moveTo>
                    <a:lnTo>
                      <a:pt x="19" y="87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0" y="35"/>
                    </a:lnTo>
                    <a:lnTo>
                      <a:pt x="10" y="17"/>
                    </a:lnTo>
                    <a:lnTo>
                      <a:pt x="18" y="13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5" y="3"/>
                    </a:lnTo>
                    <a:lnTo>
                      <a:pt x="83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1"/>
                    </a:lnTo>
                    <a:lnTo>
                      <a:pt x="68" y="95"/>
                    </a:lnTo>
                    <a:lnTo>
                      <a:pt x="57" y="96"/>
                    </a:lnTo>
                    <a:lnTo>
                      <a:pt x="48" y="97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93960" y="293040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8" y="96"/>
                    </a:moveTo>
                    <a:lnTo>
                      <a:pt x="20" y="88"/>
                    </a:lnTo>
                    <a:lnTo>
                      <a:pt x="7" y="73"/>
                    </a:lnTo>
                    <a:lnTo>
                      <a:pt x="0" y="56"/>
                    </a:lnTo>
                    <a:lnTo>
                      <a:pt x="2" y="35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3" y="0"/>
                    </a:lnTo>
                    <a:lnTo>
                      <a:pt x="54" y="1"/>
                    </a:lnTo>
                    <a:lnTo>
                      <a:pt x="65" y="1"/>
                    </a:lnTo>
                    <a:lnTo>
                      <a:pt x="82" y="10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1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2"/>
                    </a:lnTo>
                    <a:lnTo>
                      <a:pt x="67" y="95"/>
                    </a:lnTo>
                    <a:lnTo>
                      <a:pt x="57" y="96"/>
                    </a:lnTo>
                    <a:lnTo>
                      <a:pt x="49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9960" y="291924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3" h="98">
                    <a:moveTo>
                      <a:pt x="38" y="95"/>
                    </a:moveTo>
                    <a:lnTo>
                      <a:pt x="18" y="87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3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5" y="26"/>
                    </a:lnTo>
                    <a:lnTo>
                      <a:pt x="103" y="43"/>
                    </a:lnTo>
                    <a:lnTo>
                      <a:pt x="100" y="62"/>
                    </a:lnTo>
                    <a:lnTo>
                      <a:pt x="92" y="80"/>
                    </a:lnTo>
                    <a:lnTo>
                      <a:pt x="85" y="86"/>
                    </a:lnTo>
                    <a:lnTo>
                      <a:pt x="77" y="92"/>
                    </a:lnTo>
                    <a:lnTo>
                      <a:pt x="67" y="95"/>
                    </a:lnTo>
                    <a:lnTo>
                      <a:pt x="58" y="98"/>
                    </a:lnTo>
                    <a:lnTo>
                      <a:pt x="47" y="98"/>
                    </a:lnTo>
                    <a:lnTo>
                      <a:pt x="38" y="95"/>
                    </a:lnTo>
                    <a:lnTo>
                      <a:pt x="3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87400" y="29098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7">
                    <a:moveTo>
                      <a:pt x="37" y="94"/>
                    </a:moveTo>
                    <a:lnTo>
                      <a:pt x="19" y="86"/>
                    </a:lnTo>
                    <a:lnTo>
                      <a:pt x="7" y="73"/>
                    </a:lnTo>
                    <a:lnTo>
                      <a:pt x="0" y="55"/>
                    </a:lnTo>
                    <a:lnTo>
                      <a:pt x="1" y="35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7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82" y="11"/>
                    </a:lnTo>
                    <a:lnTo>
                      <a:pt x="96" y="25"/>
                    </a:lnTo>
                    <a:lnTo>
                      <a:pt x="102" y="43"/>
                    </a:lnTo>
                    <a:lnTo>
                      <a:pt x="100" y="61"/>
                    </a:lnTo>
                    <a:lnTo>
                      <a:pt x="92" y="79"/>
                    </a:lnTo>
                    <a:lnTo>
                      <a:pt x="84" y="85"/>
                    </a:lnTo>
                    <a:lnTo>
                      <a:pt x="78" y="90"/>
                    </a:lnTo>
                    <a:lnTo>
                      <a:pt x="67" y="94"/>
                    </a:lnTo>
                    <a:lnTo>
                      <a:pt x="59" y="97"/>
                    </a:lnTo>
                    <a:lnTo>
                      <a:pt x="49" y="96"/>
                    </a:lnTo>
                    <a:lnTo>
                      <a:pt x="37" y="94"/>
                    </a:lnTo>
                    <a:lnTo>
                      <a:pt x="3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33400" y="28987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37" y="95"/>
                    </a:moveTo>
                    <a:lnTo>
                      <a:pt x="20" y="85"/>
                    </a:lnTo>
                    <a:lnTo>
                      <a:pt x="6" y="72"/>
                    </a:lnTo>
                    <a:lnTo>
                      <a:pt x="0" y="53"/>
                    </a:lnTo>
                    <a:lnTo>
                      <a:pt x="2" y="35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6" y="23"/>
                    </a:lnTo>
                    <a:lnTo>
                      <a:pt x="102" y="41"/>
                    </a:lnTo>
                    <a:lnTo>
                      <a:pt x="101" y="61"/>
                    </a:lnTo>
                    <a:lnTo>
                      <a:pt x="92" y="78"/>
                    </a:lnTo>
                    <a:lnTo>
                      <a:pt x="84" y="84"/>
                    </a:lnTo>
                    <a:lnTo>
                      <a:pt x="77" y="90"/>
                    </a:lnTo>
                    <a:lnTo>
                      <a:pt x="67" y="94"/>
                    </a:lnTo>
                    <a:lnTo>
                      <a:pt x="58" y="96"/>
                    </a:lnTo>
                    <a:lnTo>
                      <a:pt x="48" y="96"/>
                    </a:lnTo>
                    <a:lnTo>
                      <a:pt x="37" y="95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1200" y="2887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7" y="96"/>
                    </a:moveTo>
                    <a:lnTo>
                      <a:pt x="19" y="87"/>
                    </a:lnTo>
                    <a:lnTo>
                      <a:pt x="6" y="72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10" y="18"/>
                    </a:lnTo>
                    <a:lnTo>
                      <a:pt x="16" y="12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3" y="3"/>
                    </a:lnTo>
                    <a:lnTo>
                      <a:pt x="82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2"/>
                    </a:lnTo>
                    <a:lnTo>
                      <a:pt x="90" y="79"/>
                    </a:lnTo>
                    <a:lnTo>
                      <a:pt x="84" y="85"/>
                    </a:lnTo>
                    <a:lnTo>
                      <a:pt x="76" y="92"/>
                    </a:lnTo>
                    <a:lnTo>
                      <a:pt x="68" y="95"/>
                    </a:lnTo>
                    <a:lnTo>
                      <a:pt x="57" y="97"/>
                    </a:lnTo>
                    <a:lnTo>
                      <a:pt x="48" y="98"/>
                    </a:lnTo>
                    <a:lnTo>
                      <a:pt x="37" y="96"/>
                    </a:lnTo>
                    <a:lnTo>
                      <a:pt x="37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27200" y="2876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1" h="99">
                    <a:moveTo>
                      <a:pt x="38" y="96"/>
                    </a:moveTo>
                    <a:lnTo>
                      <a:pt x="20" y="88"/>
                    </a:lnTo>
                    <a:lnTo>
                      <a:pt x="6" y="73"/>
                    </a:lnTo>
                    <a:lnTo>
                      <a:pt x="0" y="56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3"/>
                    </a:lnTo>
                    <a:lnTo>
                      <a:pt x="25" y="8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82" y="11"/>
                    </a:lnTo>
                    <a:lnTo>
                      <a:pt x="94" y="26"/>
                    </a:lnTo>
                    <a:lnTo>
                      <a:pt x="101" y="43"/>
                    </a:lnTo>
                    <a:lnTo>
                      <a:pt x="100" y="63"/>
                    </a:lnTo>
                    <a:lnTo>
                      <a:pt x="91" y="80"/>
                    </a:lnTo>
                    <a:lnTo>
                      <a:pt x="85" y="86"/>
                    </a:lnTo>
                    <a:lnTo>
                      <a:pt x="75" y="92"/>
                    </a:lnTo>
                    <a:lnTo>
                      <a:pt x="67" y="96"/>
                    </a:lnTo>
                    <a:lnTo>
                      <a:pt x="57" y="98"/>
                    </a:lnTo>
                    <a:lnTo>
                      <a:pt x="47" y="99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54280" y="2571840"/>
                <a:ext cx="168120" cy="326880"/>
              </a:xfrm>
              <a:custGeom>
                <a:avLst/>
                <a:gdLst/>
                <a:ahLst/>
                <a:rect l="l" t="t" r="r" b="b"/>
                <a:pathLst>
                  <a:path w="636" h="1031">
                    <a:moveTo>
                      <a:pt x="0" y="944"/>
                    </a:moveTo>
                    <a:lnTo>
                      <a:pt x="23" y="804"/>
                    </a:lnTo>
                    <a:lnTo>
                      <a:pt x="52" y="661"/>
                    </a:lnTo>
                    <a:lnTo>
                      <a:pt x="72" y="579"/>
                    </a:lnTo>
                    <a:lnTo>
                      <a:pt x="94" y="494"/>
                    </a:lnTo>
                    <a:lnTo>
                      <a:pt x="121" y="409"/>
                    </a:lnTo>
                    <a:lnTo>
                      <a:pt x="150" y="326"/>
                    </a:lnTo>
                    <a:lnTo>
                      <a:pt x="166" y="285"/>
                    </a:lnTo>
                    <a:lnTo>
                      <a:pt x="183" y="247"/>
                    </a:lnTo>
                    <a:lnTo>
                      <a:pt x="201" y="209"/>
                    </a:lnTo>
                    <a:lnTo>
                      <a:pt x="219" y="174"/>
                    </a:lnTo>
                    <a:lnTo>
                      <a:pt x="239" y="142"/>
                    </a:lnTo>
                    <a:lnTo>
                      <a:pt x="258" y="113"/>
                    </a:lnTo>
                    <a:lnTo>
                      <a:pt x="303" y="60"/>
                    </a:lnTo>
                    <a:lnTo>
                      <a:pt x="314" y="50"/>
                    </a:lnTo>
                    <a:lnTo>
                      <a:pt x="325" y="40"/>
                    </a:lnTo>
                    <a:lnTo>
                      <a:pt x="350" y="24"/>
                    </a:lnTo>
                    <a:lnTo>
                      <a:pt x="374" y="13"/>
                    </a:lnTo>
                    <a:lnTo>
                      <a:pt x="401" y="5"/>
                    </a:lnTo>
                    <a:lnTo>
                      <a:pt x="474" y="0"/>
                    </a:lnTo>
                    <a:lnTo>
                      <a:pt x="544" y="19"/>
                    </a:lnTo>
                    <a:lnTo>
                      <a:pt x="573" y="43"/>
                    </a:lnTo>
                    <a:lnTo>
                      <a:pt x="588" y="60"/>
                    </a:lnTo>
                    <a:lnTo>
                      <a:pt x="599" y="81"/>
                    </a:lnTo>
                    <a:lnTo>
                      <a:pt x="636" y="199"/>
                    </a:lnTo>
                    <a:lnTo>
                      <a:pt x="634" y="412"/>
                    </a:lnTo>
                    <a:lnTo>
                      <a:pt x="600" y="690"/>
                    </a:lnTo>
                    <a:lnTo>
                      <a:pt x="561" y="929"/>
                    </a:lnTo>
                    <a:lnTo>
                      <a:pt x="542" y="1031"/>
                    </a:lnTo>
                    <a:lnTo>
                      <a:pt x="488" y="1030"/>
                    </a:lnTo>
                    <a:lnTo>
                      <a:pt x="511" y="910"/>
                    </a:lnTo>
                    <a:lnTo>
                      <a:pt x="554" y="638"/>
                    </a:lnTo>
                    <a:lnTo>
                      <a:pt x="585" y="338"/>
                    </a:lnTo>
                    <a:lnTo>
                      <a:pt x="585" y="218"/>
                    </a:lnTo>
                    <a:lnTo>
                      <a:pt x="580" y="172"/>
                    </a:lnTo>
                    <a:lnTo>
                      <a:pt x="570" y="139"/>
                    </a:lnTo>
                    <a:lnTo>
                      <a:pt x="544" y="94"/>
                    </a:lnTo>
                    <a:lnTo>
                      <a:pt x="530" y="78"/>
                    </a:lnTo>
                    <a:lnTo>
                      <a:pt x="516" y="65"/>
                    </a:lnTo>
                    <a:lnTo>
                      <a:pt x="488" y="47"/>
                    </a:lnTo>
                    <a:lnTo>
                      <a:pt x="464" y="39"/>
                    </a:lnTo>
                    <a:lnTo>
                      <a:pt x="424" y="40"/>
                    </a:lnTo>
                    <a:lnTo>
                      <a:pt x="408" y="46"/>
                    </a:lnTo>
                    <a:lnTo>
                      <a:pt x="461" y="166"/>
                    </a:lnTo>
                    <a:lnTo>
                      <a:pt x="362" y="209"/>
                    </a:lnTo>
                    <a:lnTo>
                      <a:pt x="439" y="293"/>
                    </a:lnTo>
                    <a:lnTo>
                      <a:pt x="334" y="359"/>
                    </a:lnTo>
                    <a:lnTo>
                      <a:pt x="430" y="472"/>
                    </a:lnTo>
                    <a:lnTo>
                      <a:pt x="307" y="552"/>
                    </a:lnTo>
                    <a:lnTo>
                      <a:pt x="381" y="671"/>
                    </a:lnTo>
                    <a:lnTo>
                      <a:pt x="272" y="748"/>
                    </a:lnTo>
                    <a:lnTo>
                      <a:pt x="343" y="1010"/>
                    </a:lnTo>
                    <a:lnTo>
                      <a:pt x="0" y="944"/>
                    </a:lnTo>
                    <a:lnTo>
                      <a:pt x="0" y="9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87680" y="2952720"/>
                <a:ext cx="191880" cy="387360"/>
              </a:xfrm>
              <a:custGeom>
                <a:avLst/>
                <a:gdLst/>
                <a:ahLst/>
                <a:rect l="l" t="t" r="r" b="b"/>
                <a:pathLst>
                  <a:path w="724" h="1220">
                    <a:moveTo>
                      <a:pt x="178" y="0"/>
                    </a:moveTo>
                    <a:lnTo>
                      <a:pt x="164" y="45"/>
                    </a:lnTo>
                    <a:lnTo>
                      <a:pt x="132" y="166"/>
                    </a:lnTo>
                    <a:lnTo>
                      <a:pt x="110" y="247"/>
                    </a:lnTo>
                    <a:lnTo>
                      <a:pt x="89" y="338"/>
                    </a:lnTo>
                    <a:lnTo>
                      <a:pt x="46" y="541"/>
                    </a:lnTo>
                    <a:lnTo>
                      <a:pt x="14" y="748"/>
                    </a:lnTo>
                    <a:lnTo>
                      <a:pt x="4" y="846"/>
                    </a:lnTo>
                    <a:lnTo>
                      <a:pt x="0" y="938"/>
                    </a:lnTo>
                    <a:lnTo>
                      <a:pt x="5" y="1020"/>
                    </a:lnTo>
                    <a:lnTo>
                      <a:pt x="17" y="1089"/>
                    </a:lnTo>
                    <a:lnTo>
                      <a:pt x="40" y="1143"/>
                    </a:lnTo>
                    <a:lnTo>
                      <a:pt x="56" y="1162"/>
                    </a:lnTo>
                    <a:lnTo>
                      <a:pt x="74" y="1177"/>
                    </a:lnTo>
                    <a:lnTo>
                      <a:pt x="98" y="1190"/>
                    </a:lnTo>
                    <a:lnTo>
                      <a:pt x="121" y="1202"/>
                    </a:lnTo>
                    <a:lnTo>
                      <a:pt x="165" y="1219"/>
                    </a:lnTo>
                    <a:lnTo>
                      <a:pt x="252" y="1220"/>
                    </a:lnTo>
                    <a:lnTo>
                      <a:pt x="294" y="1202"/>
                    </a:lnTo>
                    <a:lnTo>
                      <a:pt x="318" y="1187"/>
                    </a:lnTo>
                    <a:lnTo>
                      <a:pt x="339" y="1169"/>
                    </a:lnTo>
                    <a:lnTo>
                      <a:pt x="364" y="1147"/>
                    </a:lnTo>
                    <a:lnTo>
                      <a:pt x="375" y="1135"/>
                    </a:lnTo>
                    <a:lnTo>
                      <a:pt x="388" y="1121"/>
                    </a:lnTo>
                    <a:lnTo>
                      <a:pt x="439" y="1054"/>
                    </a:lnTo>
                    <a:lnTo>
                      <a:pt x="467" y="1011"/>
                    </a:lnTo>
                    <a:lnTo>
                      <a:pt x="492" y="954"/>
                    </a:lnTo>
                    <a:lnTo>
                      <a:pt x="519" y="890"/>
                    </a:lnTo>
                    <a:lnTo>
                      <a:pt x="545" y="817"/>
                    </a:lnTo>
                    <a:lnTo>
                      <a:pt x="569" y="738"/>
                    </a:lnTo>
                    <a:lnTo>
                      <a:pt x="592" y="658"/>
                    </a:lnTo>
                    <a:lnTo>
                      <a:pt x="636" y="490"/>
                    </a:lnTo>
                    <a:lnTo>
                      <a:pt x="672" y="332"/>
                    </a:lnTo>
                    <a:lnTo>
                      <a:pt x="700" y="200"/>
                    </a:lnTo>
                    <a:lnTo>
                      <a:pt x="724" y="76"/>
                    </a:lnTo>
                    <a:lnTo>
                      <a:pt x="669" y="55"/>
                    </a:lnTo>
                    <a:lnTo>
                      <a:pt x="648" y="150"/>
                    </a:lnTo>
                    <a:lnTo>
                      <a:pt x="624" y="251"/>
                    </a:lnTo>
                    <a:lnTo>
                      <a:pt x="593" y="376"/>
                    </a:lnTo>
                    <a:lnTo>
                      <a:pt x="557" y="514"/>
                    </a:lnTo>
                    <a:lnTo>
                      <a:pt x="519" y="652"/>
                    </a:lnTo>
                    <a:lnTo>
                      <a:pt x="498" y="720"/>
                    </a:lnTo>
                    <a:lnTo>
                      <a:pt x="476" y="783"/>
                    </a:lnTo>
                    <a:lnTo>
                      <a:pt x="455" y="842"/>
                    </a:lnTo>
                    <a:lnTo>
                      <a:pt x="435" y="895"/>
                    </a:lnTo>
                    <a:lnTo>
                      <a:pt x="412" y="939"/>
                    </a:lnTo>
                    <a:lnTo>
                      <a:pt x="391" y="977"/>
                    </a:lnTo>
                    <a:lnTo>
                      <a:pt x="369" y="1009"/>
                    </a:lnTo>
                    <a:lnTo>
                      <a:pt x="346" y="1034"/>
                    </a:lnTo>
                    <a:lnTo>
                      <a:pt x="335" y="1045"/>
                    </a:lnTo>
                    <a:lnTo>
                      <a:pt x="323" y="1053"/>
                    </a:lnTo>
                    <a:lnTo>
                      <a:pt x="303" y="1069"/>
                    </a:lnTo>
                    <a:lnTo>
                      <a:pt x="280" y="1080"/>
                    </a:lnTo>
                    <a:lnTo>
                      <a:pt x="262" y="1087"/>
                    </a:lnTo>
                    <a:lnTo>
                      <a:pt x="198" y="1089"/>
                    </a:lnTo>
                    <a:lnTo>
                      <a:pt x="173" y="1083"/>
                    </a:lnTo>
                    <a:lnTo>
                      <a:pt x="309" y="877"/>
                    </a:lnTo>
                    <a:lnTo>
                      <a:pt x="178" y="729"/>
                    </a:lnTo>
                    <a:lnTo>
                      <a:pt x="353" y="656"/>
                    </a:lnTo>
                    <a:lnTo>
                      <a:pt x="213" y="466"/>
                    </a:lnTo>
                    <a:lnTo>
                      <a:pt x="416" y="383"/>
                    </a:lnTo>
                    <a:lnTo>
                      <a:pt x="278" y="191"/>
                    </a:lnTo>
                    <a:lnTo>
                      <a:pt x="500" y="58"/>
                    </a:lnTo>
                    <a:lnTo>
                      <a:pt x="178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7120" y="2705040"/>
                <a:ext cx="552600" cy="354240"/>
              </a:xfrm>
              <a:custGeom>
                <a:avLst/>
                <a:gdLst/>
                <a:ahLst/>
                <a:rect l="l" t="t" r="r" b="b"/>
                <a:pathLst>
                  <a:path w="2084" h="1113">
                    <a:moveTo>
                      <a:pt x="401" y="440"/>
                    </a:moveTo>
                    <a:lnTo>
                      <a:pt x="368" y="477"/>
                    </a:lnTo>
                    <a:lnTo>
                      <a:pt x="588" y="504"/>
                    </a:lnTo>
                    <a:lnTo>
                      <a:pt x="814" y="534"/>
                    </a:lnTo>
                    <a:lnTo>
                      <a:pt x="1077" y="570"/>
                    </a:lnTo>
                    <a:lnTo>
                      <a:pt x="1344" y="613"/>
                    </a:lnTo>
                    <a:lnTo>
                      <a:pt x="1471" y="636"/>
                    </a:lnTo>
                    <a:lnTo>
                      <a:pt x="1586" y="660"/>
                    </a:lnTo>
                    <a:lnTo>
                      <a:pt x="1685" y="684"/>
                    </a:lnTo>
                    <a:lnTo>
                      <a:pt x="1767" y="707"/>
                    </a:lnTo>
                    <a:lnTo>
                      <a:pt x="1839" y="740"/>
                    </a:lnTo>
                    <a:lnTo>
                      <a:pt x="1880" y="768"/>
                    </a:lnTo>
                    <a:lnTo>
                      <a:pt x="1900" y="790"/>
                    </a:lnTo>
                    <a:lnTo>
                      <a:pt x="1915" y="810"/>
                    </a:lnTo>
                    <a:lnTo>
                      <a:pt x="1933" y="840"/>
                    </a:lnTo>
                    <a:lnTo>
                      <a:pt x="1945" y="867"/>
                    </a:lnTo>
                    <a:lnTo>
                      <a:pt x="1945" y="904"/>
                    </a:lnTo>
                    <a:lnTo>
                      <a:pt x="1930" y="923"/>
                    </a:lnTo>
                    <a:lnTo>
                      <a:pt x="1916" y="935"/>
                    </a:lnTo>
                    <a:lnTo>
                      <a:pt x="1898" y="941"/>
                    </a:lnTo>
                    <a:lnTo>
                      <a:pt x="1863" y="941"/>
                    </a:lnTo>
                    <a:lnTo>
                      <a:pt x="1810" y="940"/>
                    </a:lnTo>
                    <a:lnTo>
                      <a:pt x="1732" y="927"/>
                    </a:lnTo>
                    <a:lnTo>
                      <a:pt x="1630" y="908"/>
                    </a:lnTo>
                    <a:lnTo>
                      <a:pt x="1509" y="887"/>
                    </a:lnTo>
                    <a:lnTo>
                      <a:pt x="1376" y="860"/>
                    </a:lnTo>
                    <a:lnTo>
                      <a:pt x="1236" y="833"/>
                    </a:lnTo>
                    <a:lnTo>
                      <a:pt x="1093" y="804"/>
                    </a:lnTo>
                    <a:lnTo>
                      <a:pt x="949" y="773"/>
                    </a:lnTo>
                    <a:lnTo>
                      <a:pt x="812" y="743"/>
                    </a:lnTo>
                    <a:lnTo>
                      <a:pt x="684" y="717"/>
                    </a:lnTo>
                    <a:lnTo>
                      <a:pt x="569" y="690"/>
                    </a:lnTo>
                    <a:lnTo>
                      <a:pt x="472" y="671"/>
                    </a:lnTo>
                    <a:lnTo>
                      <a:pt x="398" y="653"/>
                    </a:lnTo>
                    <a:lnTo>
                      <a:pt x="334" y="639"/>
                    </a:lnTo>
                    <a:lnTo>
                      <a:pt x="154" y="400"/>
                    </a:lnTo>
                    <a:lnTo>
                      <a:pt x="255" y="396"/>
                    </a:lnTo>
                    <a:lnTo>
                      <a:pt x="173" y="232"/>
                    </a:lnTo>
                    <a:lnTo>
                      <a:pt x="298" y="224"/>
                    </a:lnTo>
                    <a:lnTo>
                      <a:pt x="106" y="0"/>
                    </a:lnTo>
                    <a:lnTo>
                      <a:pt x="36" y="66"/>
                    </a:lnTo>
                    <a:lnTo>
                      <a:pt x="0" y="174"/>
                    </a:lnTo>
                    <a:lnTo>
                      <a:pt x="3" y="288"/>
                    </a:lnTo>
                    <a:lnTo>
                      <a:pt x="13" y="369"/>
                    </a:lnTo>
                    <a:lnTo>
                      <a:pt x="29" y="449"/>
                    </a:lnTo>
                    <a:lnTo>
                      <a:pt x="46" y="521"/>
                    </a:lnTo>
                    <a:lnTo>
                      <a:pt x="61" y="583"/>
                    </a:lnTo>
                    <a:lnTo>
                      <a:pt x="77" y="638"/>
                    </a:lnTo>
                    <a:lnTo>
                      <a:pt x="119" y="656"/>
                    </a:lnTo>
                    <a:lnTo>
                      <a:pt x="166" y="675"/>
                    </a:lnTo>
                    <a:lnTo>
                      <a:pt x="225" y="701"/>
                    </a:lnTo>
                    <a:lnTo>
                      <a:pt x="258" y="716"/>
                    </a:lnTo>
                    <a:lnTo>
                      <a:pt x="292" y="729"/>
                    </a:lnTo>
                    <a:lnTo>
                      <a:pt x="329" y="744"/>
                    </a:lnTo>
                    <a:lnTo>
                      <a:pt x="365" y="761"/>
                    </a:lnTo>
                    <a:lnTo>
                      <a:pt x="402" y="776"/>
                    </a:lnTo>
                    <a:lnTo>
                      <a:pt x="440" y="791"/>
                    </a:lnTo>
                    <a:lnTo>
                      <a:pt x="477" y="806"/>
                    </a:lnTo>
                    <a:lnTo>
                      <a:pt x="512" y="821"/>
                    </a:lnTo>
                    <a:lnTo>
                      <a:pt x="578" y="847"/>
                    </a:lnTo>
                    <a:lnTo>
                      <a:pt x="638" y="869"/>
                    </a:lnTo>
                    <a:lnTo>
                      <a:pt x="694" y="888"/>
                    </a:lnTo>
                    <a:lnTo>
                      <a:pt x="740" y="904"/>
                    </a:lnTo>
                    <a:lnTo>
                      <a:pt x="830" y="929"/>
                    </a:lnTo>
                    <a:lnTo>
                      <a:pt x="867" y="829"/>
                    </a:lnTo>
                    <a:lnTo>
                      <a:pt x="1285" y="905"/>
                    </a:lnTo>
                    <a:lnTo>
                      <a:pt x="1257" y="1049"/>
                    </a:lnTo>
                    <a:lnTo>
                      <a:pt x="1332" y="1065"/>
                    </a:lnTo>
                    <a:lnTo>
                      <a:pt x="1412" y="1080"/>
                    </a:lnTo>
                    <a:lnTo>
                      <a:pt x="1513" y="1096"/>
                    </a:lnTo>
                    <a:lnTo>
                      <a:pt x="1628" y="1110"/>
                    </a:lnTo>
                    <a:lnTo>
                      <a:pt x="1737" y="1113"/>
                    </a:lnTo>
                    <a:lnTo>
                      <a:pt x="1836" y="1112"/>
                    </a:lnTo>
                    <a:lnTo>
                      <a:pt x="1925" y="1096"/>
                    </a:lnTo>
                    <a:lnTo>
                      <a:pt x="1992" y="1074"/>
                    </a:lnTo>
                    <a:lnTo>
                      <a:pt x="2038" y="1047"/>
                    </a:lnTo>
                    <a:lnTo>
                      <a:pt x="2062" y="1024"/>
                    </a:lnTo>
                    <a:lnTo>
                      <a:pt x="2078" y="992"/>
                    </a:lnTo>
                    <a:lnTo>
                      <a:pt x="2084" y="958"/>
                    </a:lnTo>
                    <a:lnTo>
                      <a:pt x="2082" y="928"/>
                    </a:lnTo>
                    <a:lnTo>
                      <a:pt x="2073" y="896"/>
                    </a:lnTo>
                    <a:lnTo>
                      <a:pt x="2053" y="857"/>
                    </a:lnTo>
                    <a:lnTo>
                      <a:pt x="2026" y="819"/>
                    </a:lnTo>
                    <a:lnTo>
                      <a:pt x="1997" y="788"/>
                    </a:lnTo>
                    <a:lnTo>
                      <a:pt x="1983" y="775"/>
                    </a:lnTo>
                    <a:lnTo>
                      <a:pt x="1969" y="762"/>
                    </a:lnTo>
                    <a:lnTo>
                      <a:pt x="1951" y="749"/>
                    </a:lnTo>
                    <a:lnTo>
                      <a:pt x="1931" y="736"/>
                    </a:lnTo>
                    <a:lnTo>
                      <a:pt x="1908" y="723"/>
                    </a:lnTo>
                    <a:lnTo>
                      <a:pt x="1882" y="708"/>
                    </a:lnTo>
                    <a:lnTo>
                      <a:pt x="1852" y="694"/>
                    </a:lnTo>
                    <a:lnTo>
                      <a:pt x="1818" y="679"/>
                    </a:lnTo>
                    <a:lnTo>
                      <a:pt x="1780" y="665"/>
                    </a:lnTo>
                    <a:lnTo>
                      <a:pt x="1736" y="649"/>
                    </a:lnTo>
                    <a:lnTo>
                      <a:pt x="1681" y="632"/>
                    </a:lnTo>
                    <a:lnTo>
                      <a:pt x="1608" y="616"/>
                    </a:lnTo>
                    <a:lnTo>
                      <a:pt x="1523" y="598"/>
                    </a:lnTo>
                    <a:lnTo>
                      <a:pt x="1425" y="580"/>
                    </a:lnTo>
                    <a:lnTo>
                      <a:pt x="1207" y="544"/>
                    </a:lnTo>
                    <a:lnTo>
                      <a:pt x="978" y="512"/>
                    </a:lnTo>
                    <a:lnTo>
                      <a:pt x="760" y="484"/>
                    </a:lnTo>
                    <a:lnTo>
                      <a:pt x="576" y="461"/>
                    </a:lnTo>
                    <a:lnTo>
                      <a:pt x="401" y="440"/>
                    </a:lnTo>
                    <a:lnTo>
                      <a:pt x="40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47640" y="269892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366" h="496">
                    <a:moveTo>
                      <a:pt x="0" y="44"/>
                    </a:moveTo>
                    <a:lnTo>
                      <a:pt x="60" y="6"/>
                    </a:lnTo>
                    <a:lnTo>
                      <a:pt x="112" y="0"/>
                    </a:lnTo>
                    <a:lnTo>
                      <a:pt x="177" y="12"/>
                    </a:lnTo>
                    <a:lnTo>
                      <a:pt x="243" y="44"/>
                    </a:lnTo>
                    <a:lnTo>
                      <a:pt x="275" y="67"/>
                    </a:lnTo>
                    <a:lnTo>
                      <a:pt x="301" y="97"/>
                    </a:lnTo>
                    <a:lnTo>
                      <a:pt x="341" y="164"/>
                    </a:lnTo>
                    <a:lnTo>
                      <a:pt x="360" y="229"/>
                    </a:lnTo>
                    <a:lnTo>
                      <a:pt x="366" y="332"/>
                    </a:lnTo>
                    <a:lnTo>
                      <a:pt x="350" y="413"/>
                    </a:lnTo>
                    <a:lnTo>
                      <a:pt x="336" y="464"/>
                    </a:lnTo>
                    <a:lnTo>
                      <a:pt x="298" y="496"/>
                    </a:lnTo>
                    <a:lnTo>
                      <a:pt x="310" y="219"/>
                    </a:lnTo>
                    <a:lnTo>
                      <a:pt x="282" y="170"/>
                    </a:lnTo>
                    <a:lnTo>
                      <a:pt x="268" y="152"/>
                    </a:lnTo>
                    <a:lnTo>
                      <a:pt x="256" y="136"/>
                    </a:lnTo>
                    <a:lnTo>
                      <a:pt x="241" y="123"/>
                    </a:lnTo>
                    <a:lnTo>
                      <a:pt x="226" y="115"/>
                    </a:lnTo>
                    <a:lnTo>
                      <a:pt x="194" y="101"/>
                    </a:lnTo>
                    <a:lnTo>
                      <a:pt x="158" y="100"/>
                    </a:lnTo>
                    <a:lnTo>
                      <a:pt x="122" y="108"/>
                    </a:lnTo>
                    <a:lnTo>
                      <a:pt x="95" y="120"/>
                    </a:lnTo>
                    <a:lnTo>
                      <a:pt x="84" y="12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38160" y="309240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228" h="207">
                    <a:moveTo>
                      <a:pt x="61" y="0"/>
                    </a:moveTo>
                    <a:lnTo>
                      <a:pt x="156" y="26"/>
                    </a:lnTo>
                    <a:lnTo>
                      <a:pt x="217" y="72"/>
                    </a:lnTo>
                    <a:lnTo>
                      <a:pt x="228" y="123"/>
                    </a:lnTo>
                    <a:lnTo>
                      <a:pt x="215" y="173"/>
                    </a:lnTo>
                    <a:lnTo>
                      <a:pt x="177" y="203"/>
                    </a:lnTo>
                    <a:lnTo>
                      <a:pt x="137" y="207"/>
                    </a:lnTo>
                    <a:lnTo>
                      <a:pt x="0" y="19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95520" y="3059280"/>
                <a:ext cx="102960" cy="45720"/>
              </a:xfrm>
              <a:custGeom>
                <a:avLst/>
                <a:gdLst/>
                <a:ahLst/>
                <a:rect l="l" t="t" r="r" b="b"/>
                <a:pathLst>
                  <a:path w="389" h="143">
                    <a:moveTo>
                      <a:pt x="389" y="30"/>
                    </a:moveTo>
                    <a:lnTo>
                      <a:pt x="357" y="143"/>
                    </a:lnTo>
                    <a:lnTo>
                      <a:pt x="0" y="0"/>
                    </a:lnTo>
                    <a:lnTo>
                      <a:pt x="389" y="30"/>
                    </a:lnTo>
                    <a:lnTo>
                      <a:pt x="38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68600" y="2692440"/>
                <a:ext cx="93600" cy="34920"/>
              </a:xfrm>
              <a:custGeom>
                <a:avLst/>
                <a:gdLst/>
                <a:ahLst/>
                <a:rect l="l" t="t" r="r" b="b"/>
                <a:pathLst>
                  <a:path w="359" h="106">
                    <a:moveTo>
                      <a:pt x="359" y="17"/>
                    </a:moveTo>
                    <a:lnTo>
                      <a:pt x="338" y="106"/>
                    </a:lnTo>
                    <a:lnTo>
                      <a:pt x="0" y="0"/>
                    </a:lnTo>
                    <a:lnTo>
                      <a:pt x="359" y="17"/>
                    </a:lnTo>
                    <a:lnTo>
                      <a:pt x="35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03320" y="272088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228" h="219">
                    <a:moveTo>
                      <a:pt x="28" y="0"/>
                    </a:moveTo>
                    <a:lnTo>
                      <a:pt x="157" y="38"/>
                    </a:lnTo>
                    <a:lnTo>
                      <a:pt x="217" y="84"/>
                    </a:lnTo>
                    <a:lnTo>
                      <a:pt x="228" y="136"/>
                    </a:lnTo>
                    <a:lnTo>
                      <a:pt x="214" y="185"/>
                    </a:lnTo>
                    <a:lnTo>
                      <a:pt x="176" y="213"/>
                    </a:lnTo>
                    <a:lnTo>
                      <a:pt x="137" y="219"/>
                    </a:lnTo>
                    <a:lnTo>
                      <a:pt x="0" y="20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436760" y="3583080"/>
              <a:ext cx="647640" cy="279360"/>
              <a:chOff x="1436760" y="3583080"/>
              <a:chExt cx="647640" cy="279360"/>
            </a:xfrm>
          </p:grpSpPr>
          <p:sp>
            <p:nvSpPr>
              <p:cNvPr id="412" name=""/>
              <p:cNvSpPr/>
              <p:nvPr/>
            </p:nvSpPr>
            <p:spPr>
              <a:xfrm>
                <a:off x="1436760" y="3583080"/>
                <a:ext cx="647640" cy="279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11440" y="3641760"/>
                <a:ext cx="68040" cy="49320"/>
              </a:xfrm>
              <a:custGeom>
                <a:avLst/>
                <a:gdLst/>
                <a:ahLst/>
                <a:rect l="l" t="t" r="r" b="b"/>
                <a:pathLst>
                  <a:path w="215" h="155">
                    <a:moveTo>
                      <a:pt x="98" y="60"/>
                    </a:moveTo>
                    <a:lnTo>
                      <a:pt x="79" y="71"/>
                    </a:lnTo>
                    <a:lnTo>
                      <a:pt x="62" y="82"/>
                    </a:lnTo>
                    <a:lnTo>
                      <a:pt x="47" y="95"/>
                    </a:lnTo>
                    <a:lnTo>
                      <a:pt x="34" y="107"/>
                    </a:lnTo>
                    <a:lnTo>
                      <a:pt x="23" y="120"/>
                    </a:lnTo>
                    <a:lnTo>
                      <a:pt x="14" y="132"/>
                    </a:lnTo>
                    <a:lnTo>
                      <a:pt x="9" y="143"/>
                    </a:lnTo>
                    <a:lnTo>
                      <a:pt x="6" y="155"/>
                    </a:lnTo>
                    <a:lnTo>
                      <a:pt x="4" y="152"/>
                    </a:lnTo>
                    <a:lnTo>
                      <a:pt x="2" y="151"/>
                    </a:lnTo>
                    <a:lnTo>
                      <a:pt x="1" y="148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4" y="120"/>
                    </a:lnTo>
                    <a:lnTo>
                      <a:pt x="13" y="104"/>
                    </a:lnTo>
                    <a:lnTo>
                      <a:pt x="27" y="85"/>
                    </a:lnTo>
                    <a:lnTo>
                      <a:pt x="42" y="67"/>
                    </a:lnTo>
                    <a:lnTo>
                      <a:pt x="61" y="49"/>
                    </a:lnTo>
                    <a:lnTo>
                      <a:pt x="82" y="33"/>
                    </a:lnTo>
                    <a:lnTo>
                      <a:pt x="104" y="19"/>
                    </a:lnTo>
                    <a:lnTo>
                      <a:pt x="126" y="9"/>
                    </a:lnTo>
                    <a:lnTo>
                      <a:pt x="145" y="3"/>
                    </a:lnTo>
                    <a:lnTo>
                      <a:pt x="162" y="0"/>
                    </a:lnTo>
                    <a:lnTo>
                      <a:pt x="178" y="1"/>
                    </a:lnTo>
                    <a:lnTo>
                      <a:pt x="191" y="5"/>
                    </a:lnTo>
                    <a:lnTo>
                      <a:pt x="202" y="10"/>
                    </a:lnTo>
                    <a:lnTo>
                      <a:pt x="209" y="19"/>
                    </a:lnTo>
                    <a:lnTo>
                      <a:pt x="214" y="28"/>
                    </a:lnTo>
                    <a:lnTo>
                      <a:pt x="215" y="30"/>
                    </a:lnTo>
                    <a:lnTo>
                      <a:pt x="215" y="33"/>
                    </a:lnTo>
                    <a:lnTo>
                      <a:pt x="215" y="36"/>
                    </a:lnTo>
                    <a:lnTo>
                      <a:pt x="214" y="39"/>
                    </a:lnTo>
                    <a:lnTo>
                      <a:pt x="207" y="34"/>
                    </a:lnTo>
                    <a:lnTo>
                      <a:pt x="197" y="31"/>
                    </a:lnTo>
                    <a:lnTo>
                      <a:pt x="184" y="31"/>
                    </a:lnTo>
                    <a:lnTo>
                      <a:pt x="170" y="33"/>
                    </a:lnTo>
                    <a:lnTo>
                      <a:pt x="153" y="36"/>
                    </a:lnTo>
                    <a:lnTo>
                      <a:pt x="135" y="43"/>
                    </a:lnTo>
                    <a:lnTo>
                      <a:pt x="117" y="50"/>
                    </a:lnTo>
                    <a:lnTo>
                      <a:pt x="9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09560" y="3629160"/>
                <a:ext cx="66960" cy="69840"/>
              </a:xfrm>
              <a:custGeom>
                <a:avLst/>
                <a:gdLst/>
                <a:ahLst/>
                <a:rect l="l" t="t" r="r" b="b"/>
                <a:pathLst>
                  <a:path w="212" h="218">
                    <a:moveTo>
                      <a:pt x="0" y="97"/>
                    </a:moveTo>
                    <a:lnTo>
                      <a:pt x="202" y="0"/>
                    </a:lnTo>
                    <a:lnTo>
                      <a:pt x="67" y="101"/>
                    </a:lnTo>
                    <a:lnTo>
                      <a:pt x="212" y="205"/>
                    </a:lnTo>
                    <a:lnTo>
                      <a:pt x="185" y="218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82840" y="3778200"/>
                <a:ext cx="317520" cy="81000"/>
              </a:xfrm>
              <a:custGeom>
                <a:avLst/>
                <a:gdLst/>
                <a:ahLst/>
                <a:rect l="l" t="t" r="r" b="b"/>
                <a:pathLst>
                  <a:path w="997" h="253">
                    <a:moveTo>
                      <a:pt x="0" y="253"/>
                    </a:moveTo>
                    <a:lnTo>
                      <a:pt x="0" y="253"/>
                    </a:lnTo>
                    <a:lnTo>
                      <a:pt x="2" y="251"/>
                    </a:lnTo>
                    <a:lnTo>
                      <a:pt x="4" y="248"/>
                    </a:lnTo>
                    <a:lnTo>
                      <a:pt x="9" y="244"/>
                    </a:lnTo>
                    <a:lnTo>
                      <a:pt x="14" y="239"/>
                    </a:lnTo>
                    <a:lnTo>
                      <a:pt x="21" y="233"/>
                    </a:lnTo>
                    <a:lnTo>
                      <a:pt x="29" y="226"/>
                    </a:lnTo>
                    <a:lnTo>
                      <a:pt x="40" y="218"/>
                    </a:lnTo>
                    <a:lnTo>
                      <a:pt x="52" y="209"/>
                    </a:lnTo>
                    <a:lnTo>
                      <a:pt x="66" y="199"/>
                    </a:lnTo>
                    <a:lnTo>
                      <a:pt x="83" y="188"/>
                    </a:lnTo>
                    <a:lnTo>
                      <a:pt x="101" y="177"/>
                    </a:lnTo>
                    <a:lnTo>
                      <a:pt x="123" y="165"/>
                    </a:lnTo>
                    <a:lnTo>
                      <a:pt x="147" y="151"/>
                    </a:lnTo>
                    <a:lnTo>
                      <a:pt x="174" y="137"/>
                    </a:lnTo>
                    <a:lnTo>
                      <a:pt x="203" y="122"/>
                    </a:lnTo>
                    <a:lnTo>
                      <a:pt x="214" y="117"/>
                    </a:lnTo>
                    <a:lnTo>
                      <a:pt x="227" y="112"/>
                    </a:lnTo>
                    <a:lnTo>
                      <a:pt x="242" y="107"/>
                    </a:lnTo>
                    <a:lnTo>
                      <a:pt x="258" y="104"/>
                    </a:lnTo>
                    <a:lnTo>
                      <a:pt x="274" y="99"/>
                    </a:lnTo>
                    <a:lnTo>
                      <a:pt x="292" y="94"/>
                    </a:lnTo>
                    <a:lnTo>
                      <a:pt x="311" y="89"/>
                    </a:lnTo>
                    <a:lnTo>
                      <a:pt x="328" y="85"/>
                    </a:lnTo>
                    <a:lnTo>
                      <a:pt x="345" y="81"/>
                    </a:lnTo>
                    <a:lnTo>
                      <a:pt x="361" y="78"/>
                    </a:lnTo>
                    <a:lnTo>
                      <a:pt x="376" y="74"/>
                    </a:lnTo>
                    <a:lnTo>
                      <a:pt x="389" y="71"/>
                    </a:lnTo>
                    <a:lnTo>
                      <a:pt x="399" y="69"/>
                    </a:lnTo>
                    <a:lnTo>
                      <a:pt x="407" y="68"/>
                    </a:lnTo>
                    <a:lnTo>
                      <a:pt x="413" y="66"/>
                    </a:lnTo>
                    <a:lnTo>
                      <a:pt x="415" y="66"/>
                    </a:lnTo>
                    <a:lnTo>
                      <a:pt x="193" y="166"/>
                    </a:lnTo>
                    <a:lnTo>
                      <a:pt x="209" y="165"/>
                    </a:lnTo>
                    <a:lnTo>
                      <a:pt x="225" y="162"/>
                    </a:lnTo>
                    <a:lnTo>
                      <a:pt x="245" y="160"/>
                    </a:lnTo>
                    <a:lnTo>
                      <a:pt x="265" y="156"/>
                    </a:lnTo>
                    <a:lnTo>
                      <a:pt x="288" y="153"/>
                    </a:lnTo>
                    <a:lnTo>
                      <a:pt x="311" y="150"/>
                    </a:lnTo>
                    <a:lnTo>
                      <a:pt x="336" y="145"/>
                    </a:lnTo>
                    <a:lnTo>
                      <a:pt x="361" y="141"/>
                    </a:lnTo>
                    <a:lnTo>
                      <a:pt x="388" y="136"/>
                    </a:lnTo>
                    <a:lnTo>
                      <a:pt x="415" y="131"/>
                    </a:lnTo>
                    <a:lnTo>
                      <a:pt x="443" y="126"/>
                    </a:lnTo>
                    <a:lnTo>
                      <a:pt x="472" y="120"/>
                    </a:lnTo>
                    <a:lnTo>
                      <a:pt x="501" y="115"/>
                    </a:lnTo>
                    <a:lnTo>
                      <a:pt x="531" y="109"/>
                    </a:lnTo>
                    <a:lnTo>
                      <a:pt x="561" y="102"/>
                    </a:lnTo>
                    <a:lnTo>
                      <a:pt x="591" y="96"/>
                    </a:lnTo>
                    <a:lnTo>
                      <a:pt x="621" y="90"/>
                    </a:lnTo>
                    <a:lnTo>
                      <a:pt x="651" y="84"/>
                    </a:lnTo>
                    <a:lnTo>
                      <a:pt x="681" y="78"/>
                    </a:lnTo>
                    <a:lnTo>
                      <a:pt x="711" y="70"/>
                    </a:lnTo>
                    <a:lnTo>
                      <a:pt x="740" y="64"/>
                    </a:lnTo>
                    <a:lnTo>
                      <a:pt x="769" y="58"/>
                    </a:lnTo>
                    <a:lnTo>
                      <a:pt x="796" y="51"/>
                    </a:lnTo>
                    <a:lnTo>
                      <a:pt x="823" y="45"/>
                    </a:lnTo>
                    <a:lnTo>
                      <a:pt x="849" y="39"/>
                    </a:lnTo>
                    <a:lnTo>
                      <a:pt x="874" y="33"/>
                    </a:lnTo>
                    <a:lnTo>
                      <a:pt x="898" y="26"/>
                    </a:lnTo>
                    <a:lnTo>
                      <a:pt x="921" y="22"/>
                    </a:lnTo>
                    <a:lnTo>
                      <a:pt x="943" y="15"/>
                    </a:lnTo>
                    <a:lnTo>
                      <a:pt x="963" y="10"/>
                    </a:lnTo>
                    <a:lnTo>
                      <a:pt x="980" y="5"/>
                    </a:lnTo>
                    <a:lnTo>
                      <a:pt x="997" y="0"/>
                    </a:lnTo>
                    <a:lnTo>
                      <a:pt x="977" y="9"/>
                    </a:lnTo>
                    <a:lnTo>
                      <a:pt x="953" y="19"/>
                    </a:lnTo>
                    <a:lnTo>
                      <a:pt x="927" y="28"/>
                    </a:lnTo>
                    <a:lnTo>
                      <a:pt x="898" y="38"/>
                    </a:lnTo>
                    <a:lnTo>
                      <a:pt x="867" y="48"/>
                    </a:lnTo>
                    <a:lnTo>
                      <a:pt x="832" y="59"/>
                    </a:lnTo>
                    <a:lnTo>
                      <a:pt x="797" y="69"/>
                    </a:lnTo>
                    <a:lnTo>
                      <a:pt x="759" y="79"/>
                    </a:lnTo>
                    <a:lnTo>
                      <a:pt x="720" y="90"/>
                    </a:lnTo>
                    <a:lnTo>
                      <a:pt x="679" y="100"/>
                    </a:lnTo>
                    <a:lnTo>
                      <a:pt x="638" y="111"/>
                    </a:lnTo>
                    <a:lnTo>
                      <a:pt x="596" y="121"/>
                    </a:lnTo>
                    <a:lnTo>
                      <a:pt x="553" y="132"/>
                    </a:lnTo>
                    <a:lnTo>
                      <a:pt x="511" y="142"/>
                    </a:lnTo>
                    <a:lnTo>
                      <a:pt x="468" y="152"/>
                    </a:lnTo>
                    <a:lnTo>
                      <a:pt x="425" y="162"/>
                    </a:lnTo>
                    <a:lnTo>
                      <a:pt x="384" y="171"/>
                    </a:lnTo>
                    <a:lnTo>
                      <a:pt x="343" y="181"/>
                    </a:lnTo>
                    <a:lnTo>
                      <a:pt x="303" y="190"/>
                    </a:lnTo>
                    <a:lnTo>
                      <a:pt x="264" y="198"/>
                    </a:lnTo>
                    <a:lnTo>
                      <a:pt x="227" y="206"/>
                    </a:lnTo>
                    <a:lnTo>
                      <a:pt x="192" y="213"/>
                    </a:lnTo>
                    <a:lnTo>
                      <a:pt x="160" y="221"/>
                    </a:lnTo>
                    <a:lnTo>
                      <a:pt x="128" y="227"/>
                    </a:lnTo>
                    <a:lnTo>
                      <a:pt x="100" y="233"/>
                    </a:lnTo>
                    <a:lnTo>
                      <a:pt x="75" y="238"/>
                    </a:lnTo>
                    <a:lnTo>
                      <a:pt x="53" y="242"/>
                    </a:lnTo>
                    <a:lnTo>
                      <a:pt x="35" y="246"/>
                    </a:lnTo>
                    <a:lnTo>
                      <a:pt x="20" y="249"/>
                    </a:lnTo>
                    <a:lnTo>
                      <a:pt x="10" y="252"/>
                    </a:lnTo>
                    <a:lnTo>
                      <a:pt x="2" y="253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36760" y="3621240"/>
                <a:ext cx="242640" cy="96840"/>
              </a:xfrm>
              <a:custGeom>
                <a:avLst/>
                <a:gdLst/>
                <a:ahLst/>
                <a:rect l="l" t="t" r="r" b="b"/>
                <a:pathLst>
                  <a:path w="762" h="307">
                    <a:moveTo>
                      <a:pt x="491" y="88"/>
                    </a:moveTo>
                    <a:lnTo>
                      <a:pt x="368" y="124"/>
                    </a:lnTo>
                    <a:lnTo>
                      <a:pt x="391" y="151"/>
                    </a:lnTo>
                    <a:lnTo>
                      <a:pt x="389" y="151"/>
                    </a:lnTo>
                    <a:lnTo>
                      <a:pt x="383" y="154"/>
                    </a:lnTo>
                    <a:lnTo>
                      <a:pt x="374" y="156"/>
                    </a:lnTo>
                    <a:lnTo>
                      <a:pt x="362" y="159"/>
                    </a:lnTo>
                    <a:lnTo>
                      <a:pt x="347" y="162"/>
                    </a:lnTo>
                    <a:lnTo>
                      <a:pt x="330" y="167"/>
                    </a:lnTo>
                    <a:lnTo>
                      <a:pt x="312" y="172"/>
                    </a:lnTo>
                    <a:lnTo>
                      <a:pt x="292" y="178"/>
                    </a:lnTo>
                    <a:lnTo>
                      <a:pt x="271" y="185"/>
                    </a:lnTo>
                    <a:lnTo>
                      <a:pt x="250" y="191"/>
                    </a:lnTo>
                    <a:lnTo>
                      <a:pt x="230" y="197"/>
                    </a:lnTo>
                    <a:lnTo>
                      <a:pt x="209" y="205"/>
                    </a:lnTo>
                    <a:lnTo>
                      <a:pt x="190" y="211"/>
                    </a:lnTo>
                    <a:lnTo>
                      <a:pt x="171" y="217"/>
                    </a:lnTo>
                    <a:lnTo>
                      <a:pt x="156" y="225"/>
                    </a:lnTo>
                    <a:lnTo>
                      <a:pt x="141" y="231"/>
                    </a:lnTo>
                    <a:lnTo>
                      <a:pt x="115" y="243"/>
                    </a:lnTo>
                    <a:lnTo>
                      <a:pt x="90" y="257"/>
                    </a:lnTo>
                    <a:lnTo>
                      <a:pt x="66" y="269"/>
                    </a:lnTo>
                    <a:lnTo>
                      <a:pt x="44" y="282"/>
                    </a:lnTo>
                    <a:lnTo>
                      <a:pt x="27" y="292"/>
                    </a:lnTo>
                    <a:lnTo>
                      <a:pt x="12" y="299"/>
                    </a:lnTo>
                    <a:lnTo>
                      <a:pt x="3" y="304"/>
                    </a:lnTo>
                    <a:lnTo>
                      <a:pt x="0" y="307"/>
                    </a:lnTo>
                    <a:lnTo>
                      <a:pt x="1" y="305"/>
                    </a:lnTo>
                    <a:lnTo>
                      <a:pt x="3" y="300"/>
                    </a:lnTo>
                    <a:lnTo>
                      <a:pt x="7" y="293"/>
                    </a:lnTo>
                    <a:lnTo>
                      <a:pt x="14" y="283"/>
                    </a:lnTo>
                    <a:lnTo>
                      <a:pt x="23" y="273"/>
                    </a:lnTo>
                    <a:lnTo>
                      <a:pt x="36" y="261"/>
                    </a:lnTo>
                    <a:lnTo>
                      <a:pt x="53" y="249"/>
                    </a:lnTo>
                    <a:lnTo>
                      <a:pt x="72" y="238"/>
                    </a:lnTo>
                    <a:lnTo>
                      <a:pt x="84" y="233"/>
                    </a:lnTo>
                    <a:lnTo>
                      <a:pt x="97" y="228"/>
                    </a:lnTo>
                    <a:lnTo>
                      <a:pt x="114" y="222"/>
                    </a:lnTo>
                    <a:lnTo>
                      <a:pt x="132" y="216"/>
                    </a:lnTo>
                    <a:lnTo>
                      <a:pt x="151" y="210"/>
                    </a:lnTo>
                    <a:lnTo>
                      <a:pt x="169" y="202"/>
                    </a:lnTo>
                    <a:lnTo>
                      <a:pt x="189" y="196"/>
                    </a:lnTo>
                    <a:lnTo>
                      <a:pt x="209" y="190"/>
                    </a:lnTo>
                    <a:lnTo>
                      <a:pt x="228" y="183"/>
                    </a:lnTo>
                    <a:lnTo>
                      <a:pt x="246" y="178"/>
                    </a:lnTo>
                    <a:lnTo>
                      <a:pt x="262" y="173"/>
                    </a:lnTo>
                    <a:lnTo>
                      <a:pt x="277" y="169"/>
                    </a:lnTo>
                    <a:lnTo>
                      <a:pt x="289" y="165"/>
                    </a:lnTo>
                    <a:lnTo>
                      <a:pt x="297" y="162"/>
                    </a:lnTo>
                    <a:lnTo>
                      <a:pt x="304" y="160"/>
                    </a:lnTo>
                    <a:lnTo>
                      <a:pt x="306" y="160"/>
                    </a:lnTo>
                    <a:lnTo>
                      <a:pt x="310" y="155"/>
                    </a:lnTo>
                    <a:lnTo>
                      <a:pt x="321" y="142"/>
                    </a:lnTo>
                    <a:lnTo>
                      <a:pt x="339" y="124"/>
                    </a:lnTo>
                    <a:lnTo>
                      <a:pt x="360" y="103"/>
                    </a:lnTo>
                    <a:lnTo>
                      <a:pt x="384" y="81"/>
                    </a:lnTo>
                    <a:lnTo>
                      <a:pt x="407" y="61"/>
                    </a:lnTo>
                    <a:lnTo>
                      <a:pt x="430" y="48"/>
                    </a:lnTo>
                    <a:lnTo>
                      <a:pt x="448" y="40"/>
                    </a:lnTo>
                    <a:lnTo>
                      <a:pt x="463" y="40"/>
                    </a:lnTo>
                    <a:lnTo>
                      <a:pt x="475" y="44"/>
                    </a:lnTo>
                    <a:lnTo>
                      <a:pt x="486" y="50"/>
                    </a:lnTo>
                    <a:lnTo>
                      <a:pt x="494" y="58"/>
                    </a:lnTo>
                    <a:lnTo>
                      <a:pt x="499" y="65"/>
                    </a:lnTo>
                    <a:lnTo>
                      <a:pt x="504" y="71"/>
                    </a:lnTo>
                    <a:lnTo>
                      <a:pt x="506" y="76"/>
                    </a:lnTo>
                    <a:lnTo>
                      <a:pt x="507" y="79"/>
                    </a:lnTo>
                    <a:lnTo>
                      <a:pt x="762" y="0"/>
                    </a:lnTo>
                    <a:lnTo>
                      <a:pt x="521" y="110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714680" y="3586320"/>
                <a:ext cx="368280" cy="188640"/>
              </a:xfrm>
              <a:custGeom>
                <a:avLst/>
                <a:gdLst/>
                <a:ahLst/>
                <a:rect l="l" t="t" r="r" b="b"/>
                <a:pathLst>
                  <a:path w="1160" h="593">
                    <a:moveTo>
                      <a:pt x="1083" y="173"/>
                    </a:moveTo>
                    <a:lnTo>
                      <a:pt x="1094" y="161"/>
                    </a:lnTo>
                    <a:lnTo>
                      <a:pt x="1099" y="146"/>
                    </a:lnTo>
                    <a:lnTo>
                      <a:pt x="1100" y="131"/>
                    </a:lnTo>
                    <a:lnTo>
                      <a:pt x="1098" y="116"/>
                    </a:lnTo>
                    <a:lnTo>
                      <a:pt x="1092" y="102"/>
                    </a:lnTo>
                    <a:lnTo>
                      <a:pt x="1082" y="91"/>
                    </a:lnTo>
                    <a:lnTo>
                      <a:pt x="1069" y="82"/>
                    </a:lnTo>
                    <a:lnTo>
                      <a:pt x="1053" y="79"/>
                    </a:lnTo>
                    <a:lnTo>
                      <a:pt x="1038" y="77"/>
                    </a:lnTo>
                    <a:lnTo>
                      <a:pt x="1022" y="77"/>
                    </a:lnTo>
                    <a:lnTo>
                      <a:pt x="1004" y="79"/>
                    </a:lnTo>
                    <a:lnTo>
                      <a:pt x="986" y="79"/>
                    </a:lnTo>
                    <a:lnTo>
                      <a:pt x="969" y="80"/>
                    </a:lnTo>
                    <a:lnTo>
                      <a:pt x="950" y="81"/>
                    </a:lnTo>
                    <a:lnTo>
                      <a:pt x="932" y="82"/>
                    </a:lnTo>
                    <a:lnTo>
                      <a:pt x="914" y="84"/>
                    </a:lnTo>
                    <a:lnTo>
                      <a:pt x="898" y="85"/>
                    </a:lnTo>
                    <a:lnTo>
                      <a:pt x="882" y="87"/>
                    </a:lnTo>
                    <a:lnTo>
                      <a:pt x="868" y="89"/>
                    </a:lnTo>
                    <a:lnTo>
                      <a:pt x="855" y="90"/>
                    </a:lnTo>
                    <a:lnTo>
                      <a:pt x="845" y="90"/>
                    </a:lnTo>
                    <a:lnTo>
                      <a:pt x="836" y="91"/>
                    </a:lnTo>
                    <a:lnTo>
                      <a:pt x="831" y="91"/>
                    </a:lnTo>
                    <a:lnTo>
                      <a:pt x="829" y="91"/>
                    </a:lnTo>
                    <a:lnTo>
                      <a:pt x="822" y="94"/>
                    </a:lnTo>
                    <a:lnTo>
                      <a:pt x="811" y="97"/>
                    </a:lnTo>
                    <a:lnTo>
                      <a:pt x="800" y="101"/>
                    </a:lnTo>
                    <a:lnTo>
                      <a:pt x="788" y="106"/>
                    </a:lnTo>
                    <a:lnTo>
                      <a:pt x="776" y="111"/>
                    </a:lnTo>
                    <a:lnTo>
                      <a:pt x="766" y="116"/>
                    </a:lnTo>
                    <a:lnTo>
                      <a:pt x="756" y="120"/>
                    </a:lnTo>
                    <a:lnTo>
                      <a:pt x="749" y="125"/>
                    </a:lnTo>
                    <a:lnTo>
                      <a:pt x="741" y="132"/>
                    </a:lnTo>
                    <a:lnTo>
                      <a:pt x="731" y="142"/>
                    </a:lnTo>
                    <a:lnTo>
                      <a:pt x="721" y="152"/>
                    </a:lnTo>
                    <a:lnTo>
                      <a:pt x="711" y="163"/>
                    </a:lnTo>
                    <a:lnTo>
                      <a:pt x="703" y="173"/>
                    </a:lnTo>
                    <a:lnTo>
                      <a:pt x="695" y="181"/>
                    </a:lnTo>
                    <a:lnTo>
                      <a:pt x="689" y="184"/>
                    </a:lnTo>
                    <a:lnTo>
                      <a:pt x="684" y="186"/>
                    </a:lnTo>
                    <a:lnTo>
                      <a:pt x="680" y="181"/>
                    </a:lnTo>
                    <a:lnTo>
                      <a:pt x="674" y="171"/>
                    </a:lnTo>
                    <a:lnTo>
                      <a:pt x="668" y="156"/>
                    </a:lnTo>
                    <a:lnTo>
                      <a:pt x="660" y="138"/>
                    </a:lnTo>
                    <a:lnTo>
                      <a:pt x="654" y="121"/>
                    </a:lnTo>
                    <a:lnTo>
                      <a:pt x="649" y="106"/>
                    </a:lnTo>
                    <a:lnTo>
                      <a:pt x="646" y="94"/>
                    </a:lnTo>
                    <a:lnTo>
                      <a:pt x="646" y="86"/>
                    </a:lnTo>
                    <a:lnTo>
                      <a:pt x="649" y="80"/>
                    </a:lnTo>
                    <a:lnTo>
                      <a:pt x="655" y="74"/>
                    </a:lnTo>
                    <a:lnTo>
                      <a:pt x="662" y="69"/>
                    </a:lnTo>
                    <a:lnTo>
                      <a:pt x="671" y="64"/>
                    </a:lnTo>
                    <a:lnTo>
                      <a:pt x="680" y="60"/>
                    </a:lnTo>
                    <a:lnTo>
                      <a:pt x="689" y="57"/>
                    </a:lnTo>
                    <a:lnTo>
                      <a:pt x="698" y="55"/>
                    </a:lnTo>
                    <a:lnTo>
                      <a:pt x="705" y="52"/>
                    </a:lnTo>
                    <a:lnTo>
                      <a:pt x="699" y="51"/>
                    </a:lnTo>
                    <a:lnTo>
                      <a:pt x="693" y="51"/>
                    </a:lnTo>
                    <a:lnTo>
                      <a:pt x="686" y="51"/>
                    </a:lnTo>
                    <a:lnTo>
                      <a:pt x="681" y="51"/>
                    </a:lnTo>
                    <a:lnTo>
                      <a:pt x="675" y="51"/>
                    </a:lnTo>
                    <a:lnTo>
                      <a:pt x="670" y="51"/>
                    </a:lnTo>
                    <a:lnTo>
                      <a:pt x="665" y="52"/>
                    </a:lnTo>
                    <a:lnTo>
                      <a:pt x="659" y="54"/>
                    </a:lnTo>
                    <a:lnTo>
                      <a:pt x="643" y="60"/>
                    </a:lnTo>
                    <a:lnTo>
                      <a:pt x="615" y="70"/>
                    </a:lnTo>
                    <a:lnTo>
                      <a:pt x="577" y="85"/>
                    </a:lnTo>
                    <a:lnTo>
                      <a:pt x="531" y="104"/>
                    </a:lnTo>
                    <a:lnTo>
                      <a:pt x="480" y="125"/>
                    </a:lnTo>
                    <a:lnTo>
                      <a:pt x="425" y="147"/>
                    </a:lnTo>
                    <a:lnTo>
                      <a:pt x="367" y="171"/>
                    </a:lnTo>
                    <a:lnTo>
                      <a:pt x="308" y="196"/>
                    </a:lnTo>
                    <a:lnTo>
                      <a:pt x="249" y="221"/>
                    </a:lnTo>
                    <a:lnTo>
                      <a:pt x="194" y="244"/>
                    </a:lnTo>
                    <a:lnTo>
                      <a:pt x="142" y="267"/>
                    </a:lnTo>
                    <a:lnTo>
                      <a:pt x="95" y="286"/>
                    </a:lnTo>
                    <a:lnTo>
                      <a:pt x="56" y="303"/>
                    </a:lnTo>
                    <a:lnTo>
                      <a:pt x="26" y="315"/>
                    </a:lnTo>
                    <a:lnTo>
                      <a:pt x="6" y="324"/>
                    </a:lnTo>
                    <a:lnTo>
                      <a:pt x="0" y="326"/>
                    </a:lnTo>
                    <a:lnTo>
                      <a:pt x="1" y="326"/>
                    </a:lnTo>
                    <a:lnTo>
                      <a:pt x="4" y="324"/>
                    </a:lnTo>
                    <a:lnTo>
                      <a:pt x="9" y="321"/>
                    </a:lnTo>
                    <a:lnTo>
                      <a:pt x="16" y="319"/>
                    </a:lnTo>
                    <a:lnTo>
                      <a:pt x="25" y="314"/>
                    </a:lnTo>
                    <a:lnTo>
                      <a:pt x="37" y="308"/>
                    </a:lnTo>
                    <a:lnTo>
                      <a:pt x="50" y="300"/>
                    </a:lnTo>
                    <a:lnTo>
                      <a:pt x="67" y="293"/>
                    </a:lnTo>
                    <a:lnTo>
                      <a:pt x="86" y="283"/>
                    </a:lnTo>
                    <a:lnTo>
                      <a:pt x="106" y="272"/>
                    </a:lnTo>
                    <a:lnTo>
                      <a:pt x="131" y="259"/>
                    </a:lnTo>
                    <a:lnTo>
                      <a:pt x="157" y="245"/>
                    </a:lnTo>
                    <a:lnTo>
                      <a:pt x="188" y="230"/>
                    </a:lnTo>
                    <a:lnTo>
                      <a:pt x="220" y="213"/>
                    </a:lnTo>
                    <a:lnTo>
                      <a:pt x="256" y="194"/>
                    </a:lnTo>
                    <a:lnTo>
                      <a:pt x="295" y="174"/>
                    </a:lnTo>
                    <a:lnTo>
                      <a:pt x="226" y="75"/>
                    </a:lnTo>
                    <a:lnTo>
                      <a:pt x="326" y="158"/>
                    </a:lnTo>
                    <a:lnTo>
                      <a:pt x="341" y="152"/>
                    </a:lnTo>
                    <a:lnTo>
                      <a:pt x="358" y="143"/>
                    </a:lnTo>
                    <a:lnTo>
                      <a:pt x="378" y="135"/>
                    </a:lnTo>
                    <a:lnTo>
                      <a:pt x="401" y="123"/>
                    </a:lnTo>
                    <a:lnTo>
                      <a:pt x="426" y="112"/>
                    </a:lnTo>
                    <a:lnTo>
                      <a:pt x="451" y="100"/>
                    </a:lnTo>
                    <a:lnTo>
                      <a:pt x="478" y="87"/>
                    </a:lnTo>
                    <a:lnTo>
                      <a:pt x="504" y="75"/>
                    </a:lnTo>
                    <a:lnTo>
                      <a:pt x="530" y="62"/>
                    </a:lnTo>
                    <a:lnTo>
                      <a:pt x="556" y="50"/>
                    </a:lnTo>
                    <a:lnTo>
                      <a:pt x="580" y="39"/>
                    </a:lnTo>
                    <a:lnTo>
                      <a:pt x="602" y="29"/>
                    </a:lnTo>
                    <a:lnTo>
                      <a:pt x="622" y="20"/>
                    </a:lnTo>
                    <a:lnTo>
                      <a:pt x="639" y="13"/>
                    </a:lnTo>
                    <a:lnTo>
                      <a:pt x="652" y="8"/>
                    </a:lnTo>
                    <a:lnTo>
                      <a:pt x="661" y="4"/>
                    </a:lnTo>
                    <a:lnTo>
                      <a:pt x="674" y="1"/>
                    </a:lnTo>
                    <a:lnTo>
                      <a:pt x="687" y="0"/>
                    </a:lnTo>
                    <a:lnTo>
                      <a:pt x="702" y="0"/>
                    </a:lnTo>
                    <a:lnTo>
                      <a:pt x="718" y="3"/>
                    </a:lnTo>
                    <a:lnTo>
                      <a:pt x="733" y="5"/>
                    </a:lnTo>
                    <a:lnTo>
                      <a:pt x="749" y="9"/>
                    </a:lnTo>
                    <a:lnTo>
                      <a:pt x="765" y="14"/>
                    </a:lnTo>
                    <a:lnTo>
                      <a:pt x="780" y="19"/>
                    </a:lnTo>
                    <a:lnTo>
                      <a:pt x="794" y="24"/>
                    </a:lnTo>
                    <a:lnTo>
                      <a:pt x="807" y="29"/>
                    </a:lnTo>
                    <a:lnTo>
                      <a:pt x="820" y="34"/>
                    </a:lnTo>
                    <a:lnTo>
                      <a:pt x="830" y="39"/>
                    </a:lnTo>
                    <a:lnTo>
                      <a:pt x="838" y="43"/>
                    </a:lnTo>
                    <a:lnTo>
                      <a:pt x="846" y="46"/>
                    </a:lnTo>
                    <a:lnTo>
                      <a:pt x="850" y="47"/>
                    </a:lnTo>
                    <a:lnTo>
                      <a:pt x="851" y="49"/>
                    </a:lnTo>
                    <a:lnTo>
                      <a:pt x="853" y="49"/>
                    </a:lnTo>
                    <a:lnTo>
                      <a:pt x="857" y="47"/>
                    </a:lnTo>
                    <a:lnTo>
                      <a:pt x="864" y="46"/>
                    </a:lnTo>
                    <a:lnTo>
                      <a:pt x="874" y="45"/>
                    </a:lnTo>
                    <a:lnTo>
                      <a:pt x="886" y="43"/>
                    </a:lnTo>
                    <a:lnTo>
                      <a:pt x="900" y="40"/>
                    </a:lnTo>
                    <a:lnTo>
                      <a:pt x="916" y="39"/>
                    </a:lnTo>
                    <a:lnTo>
                      <a:pt x="931" y="36"/>
                    </a:lnTo>
                    <a:lnTo>
                      <a:pt x="949" y="34"/>
                    </a:lnTo>
                    <a:lnTo>
                      <a:pt x="966" y="33"/>
                    </a:lnTo>
                    <a:lnTo>
                      <a:pt x="984" y="30"/>
                    </a:lnTo>
                    <a:lnTo>
                      <a:pt x="1002" y="29"/>
                    </a:lnTo>
                    <a:lnTo>
                      <a:pt x="1019" y="29"/>
                    </a:lnTo>
                    <a:lnTo>
                      <a:pt x="1035" y="29"/>
                    </a:lnTo>
                    <a:lnTo>
                      <a:pt x="1051" y="29"/>
                    </a:lnTo>
                    <a:lnTo>
                      <a:pt x="1065" y="30"/>
                    </a:lnTo>
                    <a:lnTo>
                      <a:pt x="1085" y="33"/>
                    </a:lnTo>
                    <a:lnTo>
                      <a:pt x="1102" y="36"/>
                    </a:lnTo>
                    <a:lnTo>
                      <a:pt x="1117" y="41"/>
                    </a:lnTo>
                    <a:lnTo>
                      <a:pt x="1129" y="46"/>
                    </a:lnTo>
                    <a:lnTo>
                      <a:pt x="1138" y="52"/>
                    </a:lnTo>
                    <a:lnTo>
                      <a:pt x="1147" y="60"/>
                    </a:lnTo>
                    <a:lnTo>
                      <a:pt x="1153" y="67"/>
                    </a:lnTo>
                    <a:lnTo>
                      <a:pt x="1157" y="75"/>
                    </a:lnTo>
                    <a:lnTo>
                      <a:pt x="1160" y="85"/>
                    </a:lnTo>
                    <a:lnTo>
                      <a:pt x="1160" y="95"/>
                    </a:lnTo>
                    <a:lnTo>
                      <a:pt x="1160" y="105"/>
                    </a:lnTo>
                    <a:lnTo>
                      <a:pt x="1157" y="116"/>
                    </a:lnTo>
                    <a:lnTo>
                      <a:pt x="1153" y="126"/>
                    </a:lnTo>
                    <a:lnTo>
                      <a:pt x="1149" y="137"/>
                    </a:lnTo>
                    <a:lnTo>
                      <a:pt x="1143" y="148"/>
                    </a:lnTo>
                    <a:lnTo>
                      <a:pt x="1136" y="158"/>
                    </a:lnTo>
                    <a:lnTo>
                      <a:pt x="1130" y="167"/>
                    </a:lnTo>
                    <a:lnTo>
                      <a:pt x="1123" y="176"/>
                    </a:lnTo>
                    <a:lnTo>
                      <a:pt x="1117" y="184"/>
                    </a:lnTo>
                    <a:lnTo>
                      <a:pt x="1109" y="192"/>
                    </a:lnTo>
                    <a:lnTo>
                      <a:pt x="1103" y="199"/>
                    </a:lnTo>
                    <a:lnTo>
                      <a:pt x="1097" y="207"/>
                    </a:lnTo>
                    <a:lnTo>
                      <a:pt x="1090" y="213"/>
                    </a:lnTo>
                    <a:lnTo>
                      <a:pt x="1085" y="218"/>
                    </a:lnTo>
                    <a:lnTo>
                      <a:pt x="1063" y="239"/>
                    </a:lnTo>
                    <a:lnTo>
                      <a:pt x="1038" y="259"/>
                    </a:lnTo>
                    <a:lnTo>
                      <a:pt x="1013" y="279"/>
                    </a:lnTo>
                    <a:lnTo>
                      <a:pt x="986" y="298"/>
                    </a:lnTo>
                    <a:lnTo>
                      <a:pt x="958" y="316"/>
                    </a:lnTo>
                    <a:lnTo>
                      <a:pt x="929" y="335"/>
                    </a:lnTo>
                    <a:lnTo>
                      <a:pt x="899" y="352"/>
                    </a:lnTo>
                    <a:lnTo>
                      <a:pt x="868" y="370"/>
                    </a:lnTo>
                    <a:lnTo>
                      <a:pt x="836" y="387"/>
                    </a:lnTo>
                    <a:lnTo>
                      <a:pt x="804" y="403"/>
                    </a:lnTo>
                    <a:lnTo>
                      <a:pt x="772" y="418"/>
                    </a:lnTo>
                    <a:lnTo>
                      <a:pt x="740" y="433"/>
                    </a:lnTo>
                    <a:lnTo>
                      <a:pt x="707" y="448"/>
                    </a:lnTo>
                    <a:lnTo>
                      <a:pt x="675" y="462"/>
                    </a:lnTo>
                    <a:lnTo>
                      <a:pt x="644" y="476"/>
                    </a:lnTo>
                    <a:lnTo>
                      <a:pt x="612" y="488"/>
                    </a:lnTo>
                    <a:lnTo>
                      <a:pt x="582" y="501"/>
                    </a:lnTo>
                    <a:lnTo>
                      <a:pt x="552" y="512"/>
                    </a:lnTo>
                    <a:lnTo>
                      <a:pt x="524" y="523"/>
                    </a:lnTo>
                    <a:lnTo>
                      <a:pt x="496" y="533"/>
                    </a:lnTo>
                    <a:lnTo>
                      <a:pt x="470" y="542"/>
                    </a:lnTo>
                    <a:lnTo>
                      <a:pt x="445" y="550"/>
                    </a:lnTo>
                    <a:lnTo>
                      <a:pt x="422" y="558"/>
                    </a:lnTo>
                    <a:lnTo>
                      <a:pt x="400" y="565"/>
                    </a:lnTo>
                    <a:lnTo>
                      <a:pt x="380" y="571"/>
                    </a:lnTo>
                    <a:lnTo>
                      <a:pt x="364" y="576"/>
                    </a:lnTo>
                    <a:lnTo>
                      <a:pt x="348" y="581"/>
                    </a:lnTo>
                    <a:lnTo>
                      <a:pt x="335" y="585"/>
                    </a:lnTo>
                    <a:lnTo>
                      <a:pt x="325" y="589"/>
                    </a:lnTo>
                    <a:lnTo>
                      <a:pt x="318" y="591"/>
                    </a:lnTo>
                    <a:lnTo>
                      <a:pt x="314" y="593"/>
                    </a:lnTo>
                    <a:lnTo>
                      <a:pt x="312" y="593"/>
                    </a:lnTo>
                    <a:lnTo>
                      <a:pt x="314" y="591"/>
                    </a:lnTo>
                    <a:lnTo>
                      <a:pt x="318" y="590"/>
                    </a:lnTo>
                    <a:lnTo>
                      <a:pt x="325" y="588"/>
                    </a:lnTo>
                    <a:lnTo>
                      <a:pt x="337" y="583"/>
                    </a:lnTo>
                    <a:lnTo>
                      <a:pt x="349" y="578"/>
                    </a:lnTo>
                    <a:lnTo>
                      <a:pt x="365" y="571"/>
                    </a:lnTo>
                    <a:lnTo>
                      <a:pt x="382" y="564"/>
                    </a:lnTo>
                    <a:lnTo>
                      <a:pt x="402" y="555"/>
                    </a:lnTo>
                    <a:lnTo>
                      <a:pt x="424" y="547"/>
                    </a:lnTo>
                    <a:lnTo>
                      <a:pt x="448" y="535"/>
                    </a:lnTo>
                    <a:lnTo>
                      <a:pt x="473" y="525"/>
                    </a:lnTo>
                    <a:lnTo>
                      <a:pt x="500" y="513"/>
                    </a:lnTo>
                    <a:lnTo>
                      <a:pt x="528" y="501"/>
                    </a:lnTo>
                    <a:lnTo>
                      <a:pt x="557" y="487"/>
                    </a:lnTo>
                    <a:lnTo>
                      <a:pt x="588" y="473"/>
                    </a:lnTo>
                    <a:lnTo>
                      <a:pt x="619" y="458"/>
                    </a:lnTo>
                    <a:lnTo>
                      <a:pt x="650" y="443"/>
                    </a:lnTo>
                    <a:lnTo>
                      <a:pt x="682" y="427"/>
                    </a:lnTo>
                    <a:lnTo>
                      <a:pt x="715" y="411"/>
                    </a:lnTo>
                    <a:lnTo>
                      <a:pt x="747" y="395"/>
                    </a:lnTo>
                    <a:lnTo>
                      <a:pt x="779" y="377"/>
                    </a:lnTo>
                    <a:lnTo>
                      <a:pt x="811" y="360"/>
                    </a:lnTo>
                    <a:lnTo>
                      <a:pt x="843" y="342"/>
                    </a:lnTo>
                    <a:lnTo>
                      <a:pt x="874" y="324"/>
                    </a:lnTo>
                    <a:lnTo>
                      <a:pt x="904" y="305"/>
                    </a:lnTo>
                    <a:lnTo>
                      <a:pt x="934" y="286"/>
                    </a:lnTo>
                    <a:lnTo>
                      <a:pt x="962" y="268"/>
                    </a:lnTo>
                    <a:lnTo>
                      <a:pt x="989" y="249"/>
                    </a:lnTo>
                    <a:lnTo>
                      <a:pt x="1015" y="230"/>
                    </a:lnTo>
                    <a:lnTo>
                      <a:pt x="1039" y="211"/>
                    </a:lnTo>
                    <a:lnTo>
                      <a:pt x="1062" y="192"/>
                    </a:lnTo>
                    <a:lnTo>
                      <a:pt x="1083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77800" y="367200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1147" h="361">
                    <a:moveTo>
                      <a:pt x="239" y="74"/>
                    </a:moveTo>
                    <a:lnTo>
                      <a:pt x="0" y="114"/>
                    </a:lnTo>
                    <a:lnTo>
                      <a:pt x="367" y="0"/>
                    </a:lnTo>
                    <a:lnTo>
                      <a:pt x="365" y="1"/>
                    </a:lnTo>
                    <a:lnTo>
                      <a:pt x="359" y="5"/>
                    </a:lnTo>
                    <a:lnTo>
                      <a:pt x="349" y="11"/>
                    </a:lnTo>
                    <a:lnTo>
                      <a:pt x="340" y="19"/>
                    </a:lnTo>
                    <a:lnTo>
                      <a:pt x="331" y="29"/>
                    </a:lnTo>
                    <a:lnTo>
                      <a:pt x="322" y="41"/>
                    </a:lnTo>
                    <a:lnTo>
                      <a:pt x="318" y="53"/>
                    </a:lnTo>
                    <a:lnTo>
                      <a:pt x="317" y="66"/>
                    </a:lnTo>
                    <a:lnTo>
                      <a:pt x="323" y="83"/>
                    </a:lnTo>
                    <a:lnTo>
                      <a:pt x="338" y="107"/>
                    </a:lnTo>
                    <a:lnTo>
                      <a:pt x="358" y="133"/>
                    </a:lnTo>
                    <a:lnTo>
                      <a:pt x="380" y="161"/>
                    </a:lnTo>
                    <a:lnTo>
                      <a:pt x="401" y="187"/>
                    </a:lnTo>
                    <a:lnTo>
                      <a:pt x="420" y="210"/>
                    </a:lnTo>
                    <a:lnTo>
                      <a:pt x="433" y="225"/>
                    </a:lnTo>
                    <a:lnTo>
                      <a:pt x="438" y="231"/>
                    </a:lnTo>
                    <a:lnTo>
                      <a:pt x="496" y="205"/>
                    </a:lnTo>
                    <a:lnTo>
                      <a:pt x="495" y="206"/>
                    </a:lnTo>
                    <a:lnTo>
                      <a:pt x="491" y="210"/>
                    </a:lnTo>
                    <a:lnTo>
                      <a:pt x="486" y="215"/>
                    </a:lnTo>
                    <a:lnTo>
                      <a:pt x="480" y="222"/>
                    </a:lnTo>
                    <a:lnTo>
                      <a:pt x="472" y="230"/>
                    </a:lnTo>
                    <a:lnTo>
                      <a:pt x="465" y="237"/>
                    </a:lnTo>
                    <a:lnTo>
                      <a:pt x="459" y="245"/>
                    </a:lnTo>
                    <a:lnTo>
                      <a:pt x="454" y="252"/>
                    </a:lnTo>
                    <a:lnTo>
                      <a:pt x="446" y="265"/>
                    </a:lnTo>
                    <a:lnTo>
                      <a:pt x="443" y="282"/>
                    </a:lnTo>
                    <a:lnTo>
                      <a:pt x="445" y="301"/>
                    </a:lnTo>
                    <a:lnTo>
                      <a:pt x="457" y="318"/>
                    </a:lnTo>
                    <a:lnTo>
                      <a:pt x="468" y="326"/>
                    </a:lnTo>
                    <a:lnTo>
                      <a:pt x="487" y="331"/>
                    </a:lnTo>
                    <a:lnTo>
                      <a:pt x="510" y="334"/>
                    </a:lnTo>
                    <a:lnTo>
                      <a:pt x="534" y="336"/>
                    </a:lnTo>
                    <a:lnTo>
                      <a:pt x="557" y="337"/>
                    </a:lnTo>
                    <a:lnTo>
                      <a:pt x="576" y="338"/>
                    </a:lnTo>
                    <a:lnTo>
                      <a:pt x="590" y="338"/>
                    </a:lnTo>
                    <a:lnTo>
                      <a:pt x="595" y="338"/>
                    </a:lnTo>
                    <a:lnTo>
                      <a:pt x="611" y="329"/>
                    </a:lnTo>
                    <a:lnTo>
                      <a:pt x="627" y="322"/>
                    </a:lnTo>
                    <a:lnTo>
                      <a:pt x="645" y="313"/>
                    </a:lnTo>
                    <a:lnTo>
                      <a:pt x="664" y="304"/>
                    </a:lnTo>
                    <a:lnTo>
                      <a:pt x="684" y="296"/>
                    </a:lnTo>
                    <a:lnTo>
                      <a:pt x="703" y="288"/>
                    </a:lnTo>
                    <a:lnTo>
                      <a:pt x="724" y="280"/>
                    </a:lnTo>
                    <a:lnTo>
                      <a:pt x="744" y="272"/>
                    </a:lnTo>
                    <a:lnTo>
                      <a:pt x="774" y="261"/>
                    </a:lnTo>
                    <a:lnTo>
                      <a:pt x="806" y="251"/>
                    </a:lnTo>
                    <a:lnTo>
                      <a:pt x="836" y="242"/>
                    </a:lnTo>
                    <a:lnTo>
                      <a:pt x="866" y="234"/>
                    </a:lnTo>
                    <a:lnTo>
                      <a:pt x="896" y="226"/>
                    </a:lnTo>
                    <a:lnTo>
                      <a:pt x="924" y="220"/>
                    </a:lnTo>
                    <a:lnTo>
                      <a:pt x="952" y="215"/>
                    </a:lnTo>
                    <a:lnTo>
                      <a:pt x="979" y="210"/>
                    </a:lnTo>
                    <a:lnTo>
                      <a:pt x="1005" y="206"/>
                    </a:lnTo>
                    <a:lnTo>
                      <a:pt x="1029" y="205"/>
                    </a:lnTo>
                    <a:lnTo>
                      <a:pt x="1052" y="204"/>
                    </a:lnTo>
                    <a:lnTo>
                      <a:pt x="1073" y="204"/>
                    </a:lnTo>
                    <a:lnTo>
                      <a:pt x="1091" y="205"/>
                    </a:lnTo>
                    <a:lnTo>
                      <a:pt x="1108" y="206"/>
                    </a:lnTo>
                    <a:lnTo>
                      <a:pt x="1121" y="210"/>
                    </a:lnTo>
                    <a:lnTo>
                      <a:pt x="1133" y="215"/>
                    </a:lnTo>
                    <a:lnTo>
                      <a:pt x="1140" y="221"/>
                    </a:lnTo>
                    <a:lnTo>
                      <a:pt x="1145" y="227"/>
                    </a:lnTo>
                    <a:lnTo>
                      <a:pt x="1147" y="236"/>
                    </a:lnTo>
                    <a:lnTo>
                      <a:pt x="1145" y="244"/>
                    </a:lnTo>
                    <a:lnTo>
                      <a:pt x="1141" y="253"/>
                    </a:lnTo>
                    <a:lnTo>
                      <a:pt x="1135" y="263"/>
                    </a:lnTo>
                    <a:lnTo>
                      <a:pt x="1125" y="273"/>
                    </a:lnTo>
                    <a:lnTo>
                      <a:pt x="1113" y="285"/>
                    </a:lnTo>
                    <a:lnTo>
                      <a:pt x="1118" y="272"/>
                    </a:lnTo>
                    <a:lnTo>
                      <a:pt x="1119" y="261"/>
                    </a:lnTo>
                    <a:lnTo>
                      <a:pt x="1115" y="252"/>
                    </a:lnTo>
                    <a:lnTo>
                      <a:pt x="1104" y="244"/>
                    </a:lnTo>
                    <a:lnTo>
                      <a:pt x="1093" y="239"/>
                    </a:lnTo>
                    <a:lnTo>
                      <a:pt x="1079" y="235"/>
                    </a:lnTo>
                    <a:lnTo>
                      <a:pt x="1064" y="234"/>
                    </a:lnTo>
                    <a:lnTo>
                      <a:pt x="1045" y="232"/>
                    </a:lnTo>
                    <a:lnTo>
                      <a:pt x="1024" y="232"/>
                    </a:lnTo>
                    <a:lnTo>
                      <a:pt x="1002" y="234"/>
                    </a:lnTo>
                    <a:lnTo>
                      <a:pt x="978" y="235"/>
                    </a:lnTo>
                    <a:lnTo>
                      <a:pt x="952" y="239"/>
                    </a:lnTo>
                    <a:lnTo>
                      <a:pt x="925" y="244"/>
                    </a:lnTo>
                    <a:lnTo>
                      <a:pt x="897" y="248"/>
                    </a:lnTo>
                    <a:lnTo>
                      <a:pt x="869" y="255"/>
                    </a:lnTo>
                    <a:lnTo>
                      <a:pt x="839" y="262"/>
                    </a:lnTo>
                    <a:lnTo>
                      <a:pt x="809" y="271"/>
                    </a:lnTo>
                    <a:lnTo>
                      <a:pt x="778" y="280"/>
                    </a:lnTo>
                    <a:lnTo>
                      <a:pt x="747" y="290"/>
                    </a:lnTo>
                    <a:lnTo>
                      <a:pt x="717" y="301"/>
                    </a:lnTo>
                    <a:lnTo>
                      <a:pt x="701" y="307"/>
                    </a:lnTo>
                    <a:lnTo>
                      <a:pt x="686" y="312"/>
                    </a:lnTo>
                    <a:lnTo>
                      <a:pt x="671" y="318"/>
                    </a:lnTo>
                    <a:lnTo>
                      <a:pt x="656" y="323"/>
                    </a:lnTo>
                    <a:lnTo>
                      <a:pt x="641" y="328"/>
                    </a:lnTo>
                    <a:lnTo>
                      <a:pt x="627" y="333"/>
                    </a:lnTo>
                    <a:lnTo>
                      <a:pt x="614" y="338"/>
                    </a:lnTo>
                    <a:lnTo>
                      <a:pt x="601" y="342"/>
                    </a:lnTo>
                    <a:lnTo>
                      <a:pt x="590" y="347"/>
                    </a:lnTo>
                    <a:lnTo>
                      <a:pt x="580" y="349"/>
                    </a:lnTo>
                    <a:lnTo>
                      <a:pt x="571" y="353"/>
                    </a:lnTo>
                    <a:lnTo>
                      <a:pt x="563" y="356"/>
                    </a:lnTo>
                    <a:lnTo>
                      <a:pt x="557" y="358"/>
                    </a:lnTo>
                    <a:lnTo>
                      <a:pt x="552" y="359"/>
                    </a:lnTo>
                    <a:lnTo>
                      <a:pt x="549" y="361"/>
                    </a:lnTo>
                    <a:lnTo>
                      <a:pt x="548" y="361"/>
                    </a:lnTo>
                    <a:lnTo>
                      <a:pt x="543" y="361"/>
                    </a:lnTo>
                    <a:lnTo>
                      <a:pt x="531" y="361"/>
                    </a:lnTo>
                    <a:lnTo>
                      <a:pt x="511" y="361"/>
                    </a:lnTo>
                    <a:lnTo>
                      <a:pt x="488" y="359"/>
                    </a:lnTo>
                    <a:lnTo>
                      <a:pt x="464" y="357"/>
                    </a:lnTo>
                    <a:lnTo>
                      <a:pt x="440" y="353"/>
                    </a:lnTo>
                    <a:lnTo>
                      <a:pt x="420" y="347"/>
                    </a:lnTo>
                    <a:lnTo>
                      <a:pt x="406" y="339"/>
                    </a:lnTo>
                    <a:lnTo>
                      <a:pt x="395" y="327"/>
                    </a:lnTo>
                    <a:lnTo>
                      <a:pt x="389" y="314"/>
                    </a:lnTo>
                    <a:lnTo>
                      <a:pt x="386" y="302"/>
                    </a:lnTo>
                    <a:lnTo>
                      <a:pt x="386" y="290"/>
                    </a:lnTo>
                    <a:lnTo>
                      <a:pt x="387" y="280"/>
                    </a:lnTo>
                    <a:lnTo>
                      <a:pt x="389" y="271"/>
                    </a:lnTo>
                    <a:lnTo>
                      <a:pt x="390" y="266"/>
                    </a:lnTo>
                    <a:lnTo>
                      <a:pt x="391" y="263"/>
                    </a:lnTo>
                    <a:lnTo>
                      <a:pt x="23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36560" y="367344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293" h="236">
                    <a:moveTo>
                      <a:pt x="0" y="166"/>
                    </a:moveTo>
                    <a:lnTo>
                      <a:pt x="6" y="146"/>
                    </a:lnTo>
                    <a:lnTo>
                      <a:pt x="16" y="127"/>
                    </a:lnTo>
                    <a:lnTo>
                      <a:pt x="31" y="109"/>
                    </a:lnTo>
                    <a:lnTo>
                      <a:pt x="50" y="91"/>
                    </a:lnTo>
                    <a:lnTo>
                      <a:pt x="71" y="75"/>
                    </a:lnTo>
                    <a:lnTo>
                      <a:pt x="95" y="59"/>
                    </a:lnTo>
                    <a:lnTo>
                      <a:pt x="121" y="44"/>
                    </a:lnTo>
                    <a:lnTo>
                      <a:pt x="146" y="30"/>
                    </a:lnTo>
                    <a:lnTo>
                      <a:pt x="171" y="18"/>
                    </a:lnTo>
                    <a:lnTo>
                      <a:pt x="192" y="9"/>
                    </a:lnTo>
                    <a:lnTo>
                      <a:pt x="209" y="3"/>
                    </a:lnTo>
                    <a:lnTo>
                      <a:pt x="222" y="0"/>
                    </a:lnTo>
                    <a:lnTo>
                      <a:pt x="233" y="0"/>
                    </a:lnTo>
                    <a:lnTo>
                      <a:pt x="241" y="3"/>
                    </a:lnTo>
                    <a:lnTo>
                      <a:pt x="248" y="5"/>
                    </a:lnTo>
                    <a:lnTo>
                      <a:pt x="255" y="9"/>
                    </a:lnTo>
                    <a:lnTo>
                      <a:pt x="261" y="14"/>
                    </a:lnTo>
                    <a:lnTo>
                      <a:pt x="266" y="19"/>
                    </a:lnTo>
                    <a:lnTo>
                      <a:pt x="271" y="25"/>
                    </a:lnTo>
                    <a:lnTo>
                      <a:pt x="275" y="33"/>
                    </a:lnTo>
                    <a:lnTo>
                      <a:pt x="280" y="41"/>
                    </a:lnTo>
                    <a:lnTo>
                      <a:pt x="283" y="50"/>
                    </a:lnTo>
                    <a:lnTo>
                      <a:pt x="286" y="60"/>
                    </a:lnTo>
                    <a:lnTo>
                      <a:pt x="289" y="71"/>
                    </a:lnTo>
                    <a:lnTo>
                      <a:pt x="293" y="101"/>
                    </a:lnTo>
                    <a:lnTo>
                      <a:pt x="291" y="128"/>
                    </a:lnTo>
                    <a:lnTo>
                      <a:pt x="284" y="148"/>
                    </a:lnTo>
                    <a:lnTo>
                      <a:pt x="271" y="161"/>
                    </a:lnTo>
                    <a:lnTo>
                      <a:pt x="266" y="162"/>
                    </a:lnTo>
                    <a:lnTo>
                      <a:pt x="261" y="162"/>
                    </a:lnTo>
                    <a:lnTo>
                      <a:pt x="255" y="161"/>
                    </a:lnTo>
                    <a:lnTo>
                      <a:pt x="249" y="158"/>
                    </a:lnTo>
                    <a:lnTo>
                      <a:pt x="244" y="153"/>
                    </a:lnTo>
                    <a:lnTo>
                      <a:pt x="240" y="148"/>
                    </a:lnTo>
                    <a:lnTo>
                      <a:pt x="235" y="141"/>
                    </a:lnTo>
                    <a:lnTo>
                      <a:pt x="231" y="133"/>
                    </a:lnTo>
                    <a:lnTo>
                      <a:pt x="234" y="137"/>
                    </a:lnTo>
                    <a:lnTo>
                      <a:pt x="238" y="140"/>
                    </a:lnTo>
                    <a:lnTo>
                      <a:pt x="241" y="140"/>
                    </a:lnTo>
                    <a:lnTo>
                      <a:pt x="244" y="140"/>
                    </a:lnTo>
                    <a:lnTo>
                      <a:pt x="250" y="133"/>
                    </a:lnTo>
                    <a:lnTo>
                      <a:pt x="254" y="122"/>
                    </a:lnTo>
                    <a:lnTo>
                      <a:pt x="255" y="109"/>
                    </a:lnTo>
                    <a:lnTo>
                      <a:pt x="252" y="92"/>
                    </a:lnTo>
                    <a:lnTo>
                      <a:pt x="247" y="77"/>
                    </a:lnTo>
                    <a:lnTo>
                      <a:pt x="241" y="66"/>
                    </a:lnTo>
                    <a:lnTo>
                      <a:pt x="234" y="60"/>
                    </a:lnTo>
                    <a:lnTo>
                      <a:pt x="226" y="60"/>
                    </a:lnTo>
                    <a:lnTo>
                      <a:pt x="222" y="64"/>
                    </a:lnTo>
                    <a:lnTo>
                      <a:pt x="219" y="69"/>
                    </a:lnTo>
                    <a:lnTo>
                      <a:pt x="216" y="76"/>
                    </a:lnTo>
                    <a:lnTo>
                      <a:pt x="215" y="85"/>
                    </a:lnTo>
                    <a:lnTo>
                      <a:pt x="214" y="70"/>
                    </a:lnTo>
                    <a:lnTo>
                      <a:pt x="215" y="58"/>
                    </a:lnTo>
                    <a:lnTo>
                      <a:pt x="216" y="45"/>
                    </a:lnTo>
                    <a:lnTo>
                      <a:pt x="219" y="34"/>
                    </a:lnTo>
                    <a:lnTo>
                      <a:pt x="214" y="35"/>
                    </a:lnTo>
                    <a:lnTo>
                      <a:pt x="209" y="38"/>
                    </a:lnTo>
                    <a:lnTo>
                      <a:pt x="202" y="39"/>
                    </a:lnTo>
                    <a:lnTo>
                      <a:pt x="195" y="41"/>
                    </a:lnTo>
                    <a:lnTo>
                      <a:pt x="190" y="55"/>
                    </a:lnTo>
                    <a:lnTo>
                      <a:pt x="188" y="71"/>
                    </a:lnTo>
                    <a:lnTo>
                      <a:pt x="188" y="89"/>
                    </a:lnTo>
                    <a:lnTo>
                      <a:pt x="190" y="107"/>
                    </a:lnTo>
                    <a:lnTo>
                      <a:pt x="196" y="128"/>
                    </a:lnTo>
                    <a:lnTo>
                      <a:pt x="204" y="145"/>
                    </a:lnTo>
                    <a:lnTo>
                      <a:pt x="210" y="157"/>
                    </a:lnTo>
                    <a:lnTo>
                      <a:pt x="217" y="166"/>
                    </a:lnTo>
                    <a:lnTo>
                      <a:pt x="222" y="172"/>
                    </a:lnTo>
                    <a:lnTo>
                      <a:pt x="227" y="175"/>
                    </a:lnTo>
                    <a:lnTo>
                      <a:pt x="231" y="177"/>
                    </a:lnTo>
                    <a:lnTo>
                      <a:pt x="232" y="177"/>
                    </a:lnTo>
                    <a:lnTo>
                      <a:pt x="230" y="177"/>
                    </a:lnTo>
                    <a:lnTo>
                      <a:pt x="225" y="177"/>
                    </a:lnTo>
                    <a:lnTo>
                      <a:pt x="218" y="176"/>
                    </a:lnTo>
                    <a:lnTo>
                      <a:pt x="209" y="171"/>
                    </a:lnTo>
                    <a:lnTo>
                      <a:pt x="199" y="165"/>
                    </a:lnTo>
                    <a:lnTo>
                      <a:pt x="190" y="153"/>
                    </a:lnTo>
                    <a:lnTo>
                      <a:pt x="181" y="136"/>
                    </a:lnTo>
                    <a:lnTo>
                      <a:pt x="173" y="114"/>
                    </a:lnTo>
                    <a:lnTo>
                      <a:pt x="171" y="95"/>
                    </a:lnTo>
                    <a:lnTo>
                      <a:pt x="171" y="77"/>
                    </a:lnTo>
                    <a:lnTo>
                      <a:pt x="173" y="61"/>
                    </a:lnTo>
                    <a:lnTo>
                      <a:pt x="177" y="48"/>
                    </a:lnTo>
                    <a:lnTo>
                      <a:pt x="172" y="50"/>
                    </a:lnTo>
                    <a:lnTo>
                      <a:pt x="167" y="53"/>
                    </a:lnTo>
                    <a:lnTo>
                      <a:pt x="162" y="55"/>
                    </a:lnTo>
                    <a:lnTo>
                      <a:pt x="157" y="58"/>
                    </a:lnTo>
                    <a:lnTo>
                      <a:pt x="150" y="61"/>
                    </a:lnTo>
                    <a:lnTo>
                      <a:pt x="145" y="64"/>
                    </a:lnTo>
                    <a:lnTo>
                      <a:pt x="140" y="67"/>
                    </a:lnTo>
                    <a:lnTo>
                      <a:pt x="134" y="71"/>
                    </a:lnTo>
                    <a:lnTo>
                      <a:pt x="114" y="82"/>
                    </a:lnTo>
                    <a:lnTo>
                      <a:pt x="97" y="92"/>
                    </a:lnTo>
                    <a:lnTo>
                      <a:pt x="82" y="101"/>
                    </a:lnTo>
                    <a:lnTo>
                      <a:pt x="69" y="110"/>
                    </a:lnTo>
                    <a:lnTo>
                      <a:pt x="58" y="120"/>
                    </a:lnTo>
                    <a:lnTo>
                      <a:pt x="49" y="130"/>
                    </a:lnTo>
                    <a:lnTo>
                      <a:pt x="44" y="142"/>
                    </a:lnTo>
                    <a:lnTo>
                      <a:pt x="41" y="157"/>
                    </a:lnTo>
                    <a:lnTo>
                      <a:pt x="43" y="183"/>
                    </a:lnTo>
                    <a:lnTo>
                      <a:pt x="55" y="201"/>
                    </a:lnTo>
                    <a:lnTo>
                      <a:pt x="71" y="212"/>
                    </a:lnTo>
                    <a:lnTo>
                      <a:pt x="92" y="218"/>
                    </a:lnTo>
                    <a:lnTo>
                      <a:pt x="113" y="221"/>
                    </a:lnTo>
                    <a:lnTo>
                      <a:pt x="132" y="221"/>
                    </a:lnTo>
                    <a:lnTo>
                      <a:pt x="144" y="219"/>
                    </a:lnTo>
                    <a:lnTo>
                      <a:pt x="149" y="219"/>
                    </a:lnTo>
                    <a:lnTo>
                      <a:pt x="142" y="222"/>
                    </a:lnTo>
                    <a:lnTo>
                      <a:pt x="124" y="227"/>
                    </a:lnTo>
                    <a:lnTo>
                      <a:pt x="99" y="233"/>
                    </a:lnTo>
                    <a:lnTo>
                      <a:pt x="71" y="236"/>
                    </a:lnTo>
                    <a:lnTo>
                      <a:pt x="43" y="233"/>
                    </a:lnTo>
                    <a:lnTo>
                      <a:pt x="19" y="223"/>
                    </a:lnTo>
                    <a:lnTo>
                      <a:pt x="4" y="202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22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44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523880" y="2743200"/>
              <a:ext cx="609840" cy="457200"/>
              <a:chOff x="1523880" y="2743200"/>
              <a:chExt cx="609840" cy="457200"/>
            </a:xfrm>
          </p:grpSpPr>
          <p:sp>
            <p:nvSpPr>
              <p:cNvPr id="464" name=""/>
              <p:cNvSpPr/>
              <p:nvPr/>
            </p:nvSpPr>
            <p:spPr>
              <a:xfrm>
                <a:off x="1548360" y="29883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1523880" y="2743200"/>
                <a:ext cx="609840" cy="457200"/>
                <a:chOff x="1523880" y="2743200"/>
                <a:chExt cx="609840" cy="4572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732320" y="279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732320" y="285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732320" y="3066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32320" y="311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31440" y="2931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65440" y="2743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65440" y="3012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564920" y="28504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1564920" y="3012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1523880" y="2940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6" name=""/>
            <p:cNvGrpSpPr/>
            <p:nvPr/>
          </p:nvGrpSpPr>
          <p:grpSpPr>
            <a:xfrm>
              <a:off x="1539360" y="3456720"/>
              <a:ext cx="607320" cy="513360"/>
              <a:chOff x="1539360" y="3456720"/>
              <a:chExt cx="607320" cy="513360"/>
            </a:xfrm>
          </p:grpSpPr>
          <p:sp>
            <p:nvSpPr>
              <p:cNvPr id="477" name=""/>
              <p:cNvSpPr/>
              <p:nvPr/>
            </p:nvSpPr>
            <p:spPr>
              <a:xfrm rot="19834800">
                <a:off x="1603440" y="36669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1539360" y="3456720"/>
                <a:ext cx="574920" cy="435600"/>
                <a:chOff x="1539360" y="3456720"/>
                <a:chExt cx="574920" cy="435600"/>
              </a:xfrm>
            </p:grpSpPr>
            <p:sp>
              <p:nvSpPr>
                <p:cNvPr id="479" name=""/>
                <p:cNvSpPr/>
                <p:nvPr/>
              </p:nvSpPr>
              <p:spPr>
                <a:xfrm rot="19834800">
                  <a:off x="165672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19834800">
                  <a:off x="168300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19834800">
                  <a:off x="178884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9834800">
                  <a:off x="181512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9834800">
                  <a:off x="1531080" y="36151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19834800">
                  <a:off x="170316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19834800">
                  <a:off x="183528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19834800">
                  <a:off x="1554840" y="3659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 rot="19834800">
                  <a:off x="163404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rot="19834800">
                  <a:off x="155160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9" name=""/>
          <p:cNvGrpSpPr/>
          <p:nvPr/>
        </p:nvGrpSpPr>
        <p:grpSpPr>
          <a:xfrm>
            <a:off x="4294080" y="2313000"/>
            <a:ext cx="4510080" cy="3367080"/>
            <a:chOff x="4294080" y="2313000"/>
            <a:chExt cx="4510080" cy="3367080"/>
          </a:xfrm>
        </p:grpSpPr>
        <p:sp>
          <p:nvSpPr>
            <p:cNvPr id="49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49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49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50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51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51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51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52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52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53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7088040" y="3114720"/>
              <a:ext cx="486000" cy="565200"/>
              <a:chOff x="7088040" y="3114720"/>
              <a:chExt cx="486000" cy="565200"/>
            </a:xfrm>
          </p:grpSpPr>
          <p:sp>
            <p:nvSpPr>
              <p:cNvPr id="542" name=""/>
              <p:cNvSpPr/>
              <p:nvPr/>
            </p:nvSpPr>
            <p:spPr>
              <a:xfrm>
                <a:off x="7105680" y="311940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02440" y="3235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458120" y="3387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10600" y="3379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64520" y="337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16640" y="3363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69120" y="3355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23040" y="334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75520" y="3338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8200" y="3114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29520" y="3395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88040" y="3213000"/>
                <a:ext cx="48600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04240" y="3208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61280" y="3498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47080" y="3473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11880" y="3203640"/>
                <a:ext cx="8280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19960" y="3224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992840" y="3495600"/>
              <a:ext cx="487080" cy="566640"/>
              <a:chOff x="4992840" y="3495600"/>
              <a:chExt cx="487080" cy="566640"/>
            </a:xfrm>
          </p:grpSpPr>
          <p:sp>
            <p:nvSpPr>
              <p:cNvPr id="560" name=""/>
              <p:cNvSpPr/>
              <p:nvPr/>
            </p:nvSpPr>
            <p:spPr>
              <a:xfrm>
                <a:off x="5010120" y="350028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06880" y="3618000"/>
                <a:ext cx="44316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62560" y="37688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15040" y="37609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68960" y="3753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21440" y="37450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73560" y="3736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27480" y="37288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79960" y="3720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92640" y="349560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33960" y="377676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92840" y="3594240"/>
                <a:ext cx="48708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10120" y="358920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65720" y="387972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51520" y="385452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16680" y="3584520"/>
                <a:ext cx="8388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24400" y="360504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135840" y="3591000"/>
              <a:ext cx="571320" cy="204840"/>
              <a:chOff x="6135840" y="3591000"/>
              <a:chExt cx="571320" cy="204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135840" y="3591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7040" y="363384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86680" y="362412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5440" y="373392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35840" y="3618000"/>
                <a:ext cx="21240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80280" y="3592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70760" y="365436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10440" y="365760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421320" y="4257720"/>
              <a:ext cx="571680" cy="204840"/>
              <a:chOff x="6421320" y="4257720"/>
              <a:chExt cx="571680" cy="204840"/>
            </a:xfrm>
          </p:grpSpPr>
          <p:sp>
            <p:nvSpPr>
              <p:cNvPr id="587" name=""/>
              <p:cNvSpPr/>
              <p:nvPr/>
            </p:nvSpPr>
            <p:spPr>
              <a:xfrm>
                <a:off x="6421320" y="425772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62880" y="429912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72160" y="4289400"/>
                <a:ext cx="6048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461280" y="4400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21320" y="428292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65760" y="4257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56240" y="4321080"/>
                <a:ext cx="3225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97720" y="432288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754600" y="5210280"/>
              <a:ext cx="571680" cy="204840"/>
              <a:chOff x="5754600" y="5210280"/>
              <a:chExt cx="571680" cy="204840"/>
            </a:xfrm>
          </p:grpSpPr>
          <p:sp>
            <p:nvSpPr>
              <p:cNvPr id="596" name=""/>
              <p:cNvSpPr/>
              <p:nvPr/>
            </p:nvSpPr>
            <p:spPr>
              <a:xfrm>
                <a:off x="5754600" y="5210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6160" y="52498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05440" y="52419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94200" y="535140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54600" y="52354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99040" y="521028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89520" y="52722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29200" y="52736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7850160" y="3781440"/>
              <a:ext cx="571680" cy="204840"/>
              <a:chOff x="7850160" y="3781440"/>
              <a:chExt cx="571680" cy="204840"/>
            </a:xfrm>
          </p:grpSpPr>
          <p:sp>
            <p:nvSpPr>
              <p:cNvPr id="605" name=""/>
              <p:cNvSpPr/>
              <p:nvPr/>
            </p:nvSpPr>
            <p:spPr>
              <a:xfrm>
                <a:off x="7850160" y="3781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091360" y="3822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01000" y="38149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89760" y="3924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50160" y="380844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094600" y="378288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85080" y="384480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024760" y="38466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611600" y="4543560"/>
              <a:ext cx="571680" cy="204480"/>
              <a:chOff x="4611600" y="4543560"/>
              <a:chExt cx="571680" cy="204480"/>
            </a:xfrm>
          </p:grpSpPr>
          <p:sp>
            <p:nvSpPr>
              <p:cNvPr id="614" name=""/>
              <p:cNvSpPr/>
              <p:nvPr/>
            </p:nvSpPr>
            <p:spPr>
              <a:xfrm>
                <a:off x="4611600" y="4543560"/>
                <a:ext cx="57168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53160" y="458460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62440" y="457524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51200" y="468648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11600" y="456876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56040" y="454356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6520" y="4606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6200" y="460836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7088040" y="2638440"/>
              <a:ext cx="571680" cy="204840"/>
              <a:chOff x="7088040" y="2638440"/>
              <a:chExt cx="571680" cy="204840"/>
            </a:xfrm>
          </p:grpSpPr>
          <p:sp>
            <p:nvSpPr>
              <p:cNvPr id="623" name=""/>
              <p:cNvSpPr/>
              <p:nvPr/>
            </p:nvSpPr>
            <p:spPr>
              <a:xfrm>
                <a:off x="7088040" y="2638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29600" y="26812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38880" y="26733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28000" y="2782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88040" y="26668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32840" y="2641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122960" y="2703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62640" y="270504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373880" y="4352760"/>
              <a:ext cx="487440" cy="567000"/>
              <a:chOff x="7373880" y="4352760"/>
              <a:chExt cx="487440" cy="567000"/>
            </a:xfrm>
          </p:grpSpPr>
          <p:sp>
            <p:nvSpPr>
              <p:cNvPr id="632" name=""/>
              <p:cNvSpPr/>
              <p:nvPr/>
            </p:nvSpPr>
            <p:spPr>
              <a:xfrm>
                <a:off x="7391520" y="4357800"/>
                <a:ext cx="44748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8280" y="4475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743960" y="4626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96080" y="4618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650000" y="461016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602480" y="4602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554960" y="45943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508880" y="45864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61360" y="4578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74040" y="435276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15360" y="4633920"/>
                <a:ext cx="16956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73880" y="4451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91520" y="4446720"/>
                <a:ext cx="8388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47120" y="47372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432560" y="471168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97720" y="4441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705800" y="44625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468760" y="4257720"/>
              <a:ext cx="487440" cy="565200"/>
              <a:chOff x="5468760" y="4257720"/>
              <a:chExt cx="487440" cy="565200"/>
            </a:xfrm>
          </p:grpSpPr>
          <p:sp>
            <p:nvSpPr>
              <p:cNvPr id="650" name=""/>
              <p:cNvSpPr/>
              <p:nvPr/>
            </p:nvSpPr>
            <p:spPr>
              <a:xfrm>
                <a:off x="5486400" y="426240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3160" y="4378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38840" y="4530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91320" y="4522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45240" y="4514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97360" y="4506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49840" y="4498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03760" y="4491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56240" y="4481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68920" y="4257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10240" y="4538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468760" y="43560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84960" y="4351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742000" y="4641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27800" y="4616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2600" y="434664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00680" y="4367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564160" y="2924280"/>
              <a:ext cx="571680" cy="204840"/>
              <a:chOff x="5564160" y="2924280"/>
              <a:chExt cx="571680" cy="204840"/>
            </a:xfrm>
          </p:grpSpPr>
          <p:sp>
            <p:nvSpPr>
              <p:cNvPr id="668" name=""/>
              <p:cNvSpPr/>
              <p:nvPr/>
            </p:nvSpPr>
            <p:spPr>
              <a:xfrm>
                <a:off x="5564160" y="2924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05360" y="29671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715000" y="295920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03760" y="3068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4160" y="29512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08600" y="292752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99080" y="298944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38760" y="299088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719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761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803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845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887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929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971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061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106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115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116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117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117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117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118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118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119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1244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1286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1328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1370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1412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1454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1496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541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586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631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8053200" y="51814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4952880" y="3505320"/>
              <a:ext cx="609840" cy="457200"/>
              <a:chOff x="4952880" y="3505320"/>
              <a:chExt cx="609840" cy="457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77360" y="375048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3505320"/>
                <a:ext cx="609840" cy="457200"/>
                <a:chOff x="4952880" y="3505320"/>
                <a:chExt cx="609840" cy="45720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161320" y="3558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161320" y="3612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161320" y="3828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161320" y="388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960440" y="3693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194440" y="3505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194440" y="3774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4993920" y="3612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V="1">
                  <a:off x="4993920" y="3774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>
                  <a:off x="4952880" y="3702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9" name=""/>
            <p:cNvGrpSpPr/>
            <p:nvPr/>
          </p:nvGrpSpPr>
          <p:grpSpPr>
            <a:xfrm>
              <a:off x="5410080" y="4267080"/>
              <a:ext cx="609840" cy="457200"/>
              <a:chOff x="5410080" y="4267080"/>
              <a:chExt cx="609840" cy="457200"/>
            </a:xfrm>
          </p:grpSpPr>
          <p:sp>
            <p:nvSpPr>
              <p:cNvPr id="1690" name=""/>
              <p:cNvSpPr/>
              <p:nvPr/>
            </p:nvSpPr>
            <p:spPr>
              <a:xfrm>
                <a:off x="5434560" y="4512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91" name=""/>
              <p:cNvGrpSpPr/>
              <p:nvPr/>
            </p:nvGrpSpPr>
            <p:grpSpPr>
              <a:xfrm>
                <a:off x="5410080" y="4267080"/>
                <a:ext cx="609840" cy="457200"/>
                <a:chOff x="5410080" y="4267080"/>
                <a:chExt cx="609840" cy="45720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5618520" y="4320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618520" y="4374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618520" y="4590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618520" y="464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417640" y="4455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651640" y="4267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651640" y="4536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451120" y="4374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5451120" y="4536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>
                  <a:off x="5410080" y="4464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2" name=""/>
            <p:cNvGrpSpPr/>
            <p:nvPr/>
          </p:nvGrpSpPr>
          <p:grpSpPr>
            <a:xfrm>
              <a:off x="7010280" y="3124080"/>
              <a:ext cx="609840" cy="457200"/>
              <a:chOff x="7010280" y="3124080"/>
              <a:chExt cx="609840" cy="457200"/>
            </a:xfrm>
          </p:grpSpPr>
          <p:sp>
            <p:nvSpPr>
              <p:cNvPr id="1703" name=""/>
              <p:cNvSpPr/>
              <p:nvPr/>
            </p:nvSpPr>
            <p:spPr>
              <a:xfrm>
                <a:off x="7034760" y="3369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010280" y="3124080"/>
                <a:ext cx="609840" cy="457200"/>
                <a:chOff x="7010280" y="3124080"/>
                <a:chExt cx="609840" cy="45720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218720" y="3177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218720" y="3231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218720" y="344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218720" y="3500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017840" y="3312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251840" y="3124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251840" y="3393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7051320" y="323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7051320" y="3393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7010280" y="3321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5" name=""/>
            <p:cNvGrpSpPr/>
            <p:nvPr/>
          </p:nvGrpSpPr>
          <p:grpSpPr>
            <a:xfrm>
              <a:off x="7391520" y="4419720"/>
              <a:ext cx="609480" cy="457200"/>
              <a:chOff x="7391520" y="4419720"/>
              <a:chExt cx="609480" cy="457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7416000" y="46648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7" name=""/>
              <p:cNvGrpSpPr/>
              <p:nvPr/>
            </p:nvGrpSpPr>
            <p:grpSpPr>
              <a:xfrm>
                <a:off x="7391520" y="4419720"/>
                <a:ext cx="609480" cy="457200"/>
                <a:chOff x="7391520" y="4419720"/>
                <a:chExt cx="609480" cy="4572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7599600" y="447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7599600" y="452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599600" y="474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7599600" y="479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399080" y="46080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633080" y="4419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633080" y="4688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432560" y="4527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7432560" y="4688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>
                  <a:off x="7391520" y="4617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8" name=""/>
            <p:cNvGrpSpPr/>
            <p:nvPr/>
          </p:nvGrpSpPr>
          <p:grpSpPr>
            <a:xfrm>
              <a:off x="5501880" y="2770920"/>
              <a:ext cx="606960" cy="513000"/>
              <a:chOff x="5501880" y="2770920"/>
              <a:chExt cx="606960" cy="513000"/>
            </a:xfrm>
          </p:grpSpPr>
          <p:sp>
            <p:nvSpPr>
              <p:cNvPr id="1729" name=""/>
              <p:cNvSpPr/>
              <p:nvPr/>
            </p:nvSpPr>
            <p:spPr>
              <a:xfrm rot="19834800">
                <a:off x="5565960" y="2981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5501880" y="2770920"/>
                <a:ext cx="574200" cy="435600"/>
                <a:chOff x="5501880" y="2770920"/>
                <a:chExt cx="574200" cy="435600"/>
              </a:xfrm>
            </p:grpSpPr>
            <p:sp>
              <p:nvSpPr>
                <p:cNvPr id="1731" name=""/>
                <p:cNvSpPr/>
                <p:nvPr/>
              </p:nvSpPr>
              <p:spPr>
                <a:xfrm rot="19834800">
                  <a:off x="5618880" y="2832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rot="19834800">
                  <a:off x="5645160" y="2878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rot="19834800">
                  <a:off x="5751000" y="306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rot="19834800">
                  <a:off x="5777280" y="311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rot="19834800">
                  <a:off x="5493240" y="2929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rot="19834800">
                  <a:off x="5665680" y="2774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rot="19834800">
                  <a:off x="5797800" y="300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rot="19834800">
                  <a:off x="5517360" y="2973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V="1" rot="19834800">
                  <a:off x="5596200" y="3114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rot="19834800">
                  <a:off x="5514120" y="304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1" name=""/>
            <p:cNvGrpSpPr/>
            <p:nvPr/>
          </p:nvGrpSpPr>
          <p:grpSpPr>
            <a:xfrm>
              <a:off x="4587480" y="4447440"/>
              <a:ext cx="606960" cy="513000"/>
              <a:chOff x="4587480" y="4447440"/>
              <a:chExt cx="606960" cy="513000"/>
            </a:xfrm>
          </p:grpSpPr>
          <p:sp>
            <p:nvSpPr>
              <p:cNvPr id="1742" name=""/>
              <p:cNvSpPr/>
              <p:nvPr/>
            </p:nvSpPr>
            <p:spPr>
              <a:xfrm rot="19834800">
                <a:off x="4651560" y="46576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43" name=""/>
              <p:cNvGrpSpPr/>
              <p:nvPr/>
            </p:nvGrpSpPr>
            <p:grpSpPr>
              <a:xfrm>
                <a:off x="4587480" y="4447440"/>
                <a:ext cx="574200" cy="435600"/>
                <a:chOff x="4587480" y="4447440"/>
                <a:chExt cx="574200" cy="435600"/>
              </a:xfrm>
            </p:grpSpPr>
            <p:sp>
              <p:nvSpPr>
                <p:cNvPr id="1744" name=""/>
                <p:cNvSpPr/>
                <p:nvPr/>
              </p:nvSpPr>
              <p:spPr>
                <a:xfrm rot="19834800">
                  <a:off x="4704480" y="4508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rot="19834800">
                  <a:off x="4730760" y="4555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rot="19834800">
                  <a:off x="4836600" y="474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rot="19834800">
                  <a:off x="4862880" y="4790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rot="19834800">
                  <a:off x="4578840" y="460584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rot="19834800">
                  <a:off x="4751280" y="4451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rot="19834800">
                  <a:off x="4883400" y="46857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rot="19834800">
                  <a:off x="4602960" y="4650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V="1" rot="19834800">
                  <a:off x="4681800" y="4791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rot="19834800">
                  <a:off x="4599720" y="47264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4" name=""/>
            <p:cNvGrpSpPr/>
            <p:nvPr/>
          </p:nvGrpSpPr>
          <p:grpSpPr>
            <a:xfrm>
              <a:off x="7102080" y="2466000"/>
              <a:ext cx="606960" cy="513000"/>
              <a:chOff x="7102080" y="2466000"/>
              <a:chExt cx="606960" cy="513000"/>
            </a:xfrm>
          </p:grpSpPr>
          <p:sp>
            <p:nvSpPr>
              <p:cNvPr id="1755" name=""/>
              <p:cNvSpPr/>
              <p:nvPr/>
            </p:nvSpPr>
            <p:spPr>
              <a:xfrm rot="19834800">
                <a:off x="7166160" y="267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6" name=""/>
              <p:cNvGrpSpPr/>
              <p:nvPr/>
            </p:nvGrpSpPr>
            <p:grpSpPr>
              <a:xfrm>
                <a:off x="7102080" y="2466000"/>
                <a:ext cx="574200" cy="435600"/>
                <a:chOff x="7102080" y="2466000"/>
                <a:chExt cx="574200" cy="435600"/>
              </a:xfrm>
            </p:grpSpPr>
            <p:sp>
              <p:nvSpPr>
                <p:cNvPr id="1757" name=""/>
                <p:cNvSpPr/>
                <p:nvPr/>
              </p:nvSpPr>
              <p:spPr>
                <a:xfrm rot="19834800">
                  <a:off x="7219080" y="252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rot="19834800">
                  <a:off x="7245360" y="257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rot="19834800">
                  <a:off x="7351200" y="276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rot="19834800">
                  <a:off x="7377480" y="280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rot="19834800">
                  <a:off x="7093440" y="262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rot="19834800">
                  <a:off x="7265880" y="246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rot="19834800">
                  <a:off x="7398000" y="270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rot="19834800">
                  <a:off x="7117560" y="266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V="1" rot="19834800">
                  <a:off x="7196400" y="280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 rot="19834800">
                  <a:off x="7114320" y="274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7" name=""/>
            <p:cNvGrpSpPr/>
            <p:nvPr/>
          </p:nvGrpSpPr>
          <p:grpSpPr>
            <a:xfrm>
              <a:off x="5730480" y="5056920"/>
              <a:ext cx="606960" cy="513000"/>
              <a:chOff x="5730480" y="5056920"/>
              <a:chExt cx="606960" cy="513000"/>
            </a:xfrm>
          </p:grpSpPr>
          <p:sp>
            <p:nvSpPr>
              <p:cNvPr id="1768" name=""/>
              <p:cNvSpPr/>
              <p:nvPr/>
            </p:nvSpPr>
            <p:spPr>
              <a:xfrm rot="19834800">
                <a:off x="5794560" y="5267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9" name=""/>
              <p:cNvGrpSpPr/>
              <p:nvPr/>
            </p:nvGrpSpPr>
            <p:grpSpPr>
              <a:xfrm>
                <a:off x="5730480" y="5056920"/>
                <a:ext cx="574200" cy="435600"/>
                <a:chOff x="5730480" y="5056920"/>
                <a:chExt cx="574200" cy="435600"/>
              </a:xfrm>
            </p:grpSpPr>
            <p:sp>
              <p:nvSpPr>
                <p:cNvPr id="1770" name=""/>
                <p:cNvSpPr/>
                <p:nvPr/>
              </p:nvSpPr>
              <p:spPr>
                <a:xfrm rot="19834800">
                  <a:off x="5847480" y="5118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rot="19834800">
                  <a:off x="5873760" y="5164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rot="19834800">
                  <a:off x="5979600" y="5352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rot="19834800">
                  <a:off x="6005880" y="5399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rot="19834800">
                  <a:off x="5721840" y="5215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19834800">
                  <a:off x="5894280" y="506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19834800">
                  <a:off x="6026400" y="5295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9834800">
                  <a:off x="5745960" y="5259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V="1" rot="19834800">
                  <a:off x="5824800" y="5400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rot="19834800">
                  <a:off x="5742720" y="5335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0" name=""/>
            <p:cNvGrpSpPr/>
            <p:nvPr/>
          </p:nvGrpSpPr>
          <p:grpSpPr>
            <a:xfrm>
              <a:off x="6416280" y="4142520"/>
              <a:ext cx="606960" cy="513000"/>
              <a:chOff x="6416280" y="4142520"/>
              <a:chExt cx="606960" cy="513000"/>
            </a:xfrm>
          </p:grpSpPr>
          <p:sp>
            <p:nvSpPr>
              <p:cNvPr id="1781" name=""/>
              <p:cNvSpPr/>
              <p:nvPr/>
            </p:nvSpPr>
            <p:spPr>
              <a:xfrm rot="19834800">
                <a:off x="6480360" y="43527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82" name=""/>
              <p:cNvGrpSpPr/>
              <p:nvPr/>
            </p:nvGrpSpPr>
            <p:grpSpPr>
              <a:xfrm>
                <a:off x="6416280" y="4142520"/>
                <a:ext cx="574200" cy="435600"/>
                <a:chOff x="6416280" y="4142520"/>
                <a:chExt cx="574200" cy="435600"/>
              </a:xfrm>
            </p:grpSpPr>
            <p:sp>
              <p:nvSpPr>
                <p:cNvPr id="1783" name=""/>
                <p:cNvSpPr/>
                <p:nvPr/>
              </p:nvSpPr>
              <p:spPr>
                <a:xfrm rot="19834800">
                  <a:off x="6533280" y="4203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rot="19834800">
                  <a:off x="6559560" y="4250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rot="19834800">
                  <a:off x="6665400" y="4438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rot="19834800">
                  <a:off x="6691680" y="4485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rot="19834800">
                  <a:off x="6407640" y="43009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rot="19834800">
                  <a:off x="6580080" y="414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rot="19834800">
                  <a:off x="6712200" y="4380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rot="19834800">
                  <a:off x="6431760" y="4345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V="1" rot="19834800">
                  <a:off x="6510600" y="44863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rot="19834800">
                  <a:off x="6428520" y="4421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3" name=""/>
            <p:cNvGrpSpPr/>
            <p:nvPr/>
          </p:nvGrpSpPr>
          <p:grpSpPr>
            <a:xfrm>
              <a:off x="6187680" y="3456720"/>
              <a:ext cx="606960" cy="513000"/>
              <a:chOff x="6187680" y="3456720"/>
              <a:chExt cx="606960" cy="513000"/>
            </a:xfrm>
          </p:grpSpPr>
          <p:sp>
            <p:nvSpPr>
              <p:cNvPr id="1794" name=""/>
              <p:cNvSpPr/>
              <p:nvPr/>
            </p:nvSpPr>
            <p:spPr>
              <a:xfrm rot="19834800">
                <a:off x="6251760" y="36669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95" name=""/>
              <p:cNvGrpSpPr/>
              <p:nvPr/>
            </p:nvGrpSpPr>
            <p:grpSpPr>
              <a:xfrm>
                <a:off x="6187680" y="3456720"/>
                <a:ext cx="574200" cy="435600"/>
                <a:chOff x="6187680" y="3456720"/>
                <a:chExt cx="574200" cy="435600"/>
              </a:xfrm>
            </p:grpSpPr>
            <p:sp>
              <p:nvSpPr>
                <p:cNvPr id="1796" name=""/>
                <p:cNvSpPr/>
                <p:nvPr/>
              </p:nvSpPr>
              <p:spPr>
                <a:xfrm rot="19834800">
                  <a:off x="630468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rot="19834800">
                  <a:off x="633096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rot="19834800">
                  <a:off x="643680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rot="19834800">
                  <a:off x="646308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rot="19834800">
                  <a:off x="6179040" y="36151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rot="19834800">
                  <a:off x="635148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rot="19834800">
                  <a:off x="648360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rot="19834800">
                  <a:off x="6203160" y="3659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V="1" rot="19834800">
                  <a:off x="628200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 rot="19834800">
                  <a:off x="619992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6" name=""/>
            <p:cNvGrpSpPr/>
            <p:nvPr/>
          </p:nvGrpSpPr>
          <p:grpSpPr>
            <a:xfrm>
              <a:off x="7864200" y="3685320"/>
              <a:ext cx="606960" cy="513000"/>
              <a:chOff x="7864200" y="3685320"/>
              <a:chExt cx="606960" cy="513000"/>
            </a:xfrm>
          </p:grpSpPr>
          <p:sp>
            <p:nvSpPr>
              <p:cNvPr id="1807" name=""/>
              <p:cNvSpPr/>
              <p:nvPr/>
            </p:nvSpPr>
            <p:spPr>
              <a:xfrm rot="19834800">
                <a:off x="7928280" y="38955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8" name=""/>
              <p:cNvGrpSpPr/>
              <p:nvPr/>
            </p:nvGrpSpPr>
            <p:grpSpPr>
              <a:xfrm>
                <a:off x="7864200" y="3685320"/>
                <a:ext cx="574200" cy="435600"/>
                <a:chOff x="7864200" y="3685320"/>
                <a:chExt cx="574200" cy="435600"/>
              </a:xfrm>
            </p:grpSpPr>
            <p:sp>
              <p:nvSpPr>
                <p:cNvPr id="1809" name=""/>
                <p:cNvSpPr/>
                <p:nvPr/>
              </p:nvSpPr>
              <p:spPr>
                <a:xfrm rot="19834800">
                  <a:off x="7981200" y="3746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19834800">
                  <a:off x="8007480" y="3793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9834800">
                  <a:off x="8113320" y="3981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rot="19834800">
                  <a:off x="8139600" y="4028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rot="19834800">
                  <a:off x="7855560" y="38437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rot="19834800">
                  <a:off x="8028000" y="368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rot="19834800">
                  <a:off x="8160120" y="3923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rot="19834800">
                  <a:off x="787968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V="1" rot="19834800">
                  <a:off x="7958520" y="4029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 rot="19834800">
                  <a:off x="7876440" y="39643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9" name=""/>
          <p:cNvGrpSpPr/>
          <p:nvPr/>
        </p:nvGrpSpPr>
        <p:grpSpPr>
          <a:xfrm>
            <a:off x="4281480" y="2324160"/>
            <a:ext cx="4510080" cy="3367080"/>
            <a:chOff x="4281480" y="2324160"/>
            <a:chExt cx="4510080" cy="3367080"/>
          </a:xfrm>
        </p:grpSpPr>
        <p:sp>
          <p:nvSpPr>
            <p:cNvPr id="1820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1824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1829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1834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1840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1844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1849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1854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1859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1864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7075440" y="3125880"/>
              <a:ext cx="485640" cy="565200"/>
              <a:chOff x="7075440" y="3125880"/>
              <a:chExt cx="485640" cy="565200"/>
            </a:xfrm>
          </p:grpSpPr>
          <p:sp>
            <p:nvSpPr>
              <p:cNvPr id="1872" name=""/>
              <p:cNvSpPr/>
              <p:nvPr/>
            </p:nvSpPr>
            <p:spPr>
              <a:xfrm>
                <a:off x="7093080" y="3130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089840" y="3246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445520" y="3398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397640" y="3390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351560" y="3382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304040" y="3375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256520" y="3367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210440" y="335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162920" y="3349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275600" y="3125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216920" y="3406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075440" y="32241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091280" y="3219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348680" y="351000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34120" y="3484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99280" y="32148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407360" y="3235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4979880" y="3506760"/>
              <a:ext cx="487440" cy="566640"/>
              <a:chOff x="4979880" y="3506760"/>
              <a:chExt cx="487440" cy="566640"/>
            </a:xfrm>
          </p:grpSpPr>
          <p:sp>
            <p:nvSpPr>
              <p:cNvPr id="1890" name=""/>
              <p:cNvSpPr/>
              <p:nvPr/>
            </p:nvSpPr>
            <p:spPr>
              <a:xfrm>
                <a:off x="4997520" y="351144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994280" y="3629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349960" y="3780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302080" y="377208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256360" y="37641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208480" y="37562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160960" y="3747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114880" y="37400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067360" y="37321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180040" y="35067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121360" y="37879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79880" y="3605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997520" y="3600360"/>
                <a:ext cx="838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253120" y="38908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038560" y="38656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103720" y="3595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311800" y="361620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6122880" y="3602160"/>
              <a:ext cx="571680" cy="204840"/>
              <a:chOff x="6122880" y="3602160"/>
              <a:chExt cx="571680" cy="204840"/>
            </a:xfrm>
          </p:grpSpPr>
          <p:sp>
            <p:nvSpPr>
              <p:cNvPr id="1908" name=""/>
              <p:cNvSpPr/>
              <p:nvPr/>
            </p:nvSpPr>
            <p:spPr>
              <a:xfrm>
                <a:off x="6122880" y="360216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364440" y="364500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273720" y="3635280"/>
                <a:ext cx="6048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162480" y="3745080"/>
                <a:ext cx="27972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122880" y="36291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367320" y="36036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157800" y="36655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297480" y="3668760"/>
                <a:ext cx="8280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6408720" y="4268880"/>
              <a:ext cx="571320" cy="204840"/>
              <a:chOff x="6408720" y="4268880"/>
              <a:chExt cx="571320" cy="204840"/>
            </a:xfrm>
          </p:grpSpPr>
          <p:sp>
            <p:nvSpPr>
              <p:cNvPr id="1917" name=""/>
              <p:cNvSpPr/>
              <p:nvPr/>
            </p:nvSpPr>
            <p:spPr>
              <a:xfrm>
                <a:off x="6408720" y="42688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649920" y="4310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559560" y="43005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448320" y="4411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408720" y="42940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653160" y="426888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443640" y="43322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584760" y="43340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5742000" y="5221440"/>
              <a:ext cx="571320" cy="204840"/>
              <a:chOff x="5742000" y="5221440"/>
              <a:chExt cx="571320" cy="204840"/>
            </a:xfrm>
          </p:grpSpPr>
          <p:sp>
            <p:nvSpPr>
              <p:cNvPr id="1926" name=""/>
              <p:cNvSpPr/>
              <p:nvPr/>
            </p:nvSpPr>
            <p:spPr>
              <a:xfrm>
                <a:off x="5742000" y="5221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83200" y="52610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892840" y="52531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81600" y="53625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42000" y="52466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986440" y="52214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76920" y="52833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916600" y="52848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7837560" y="3792600"/>
              <a:ext cx="571320" cy="204840"/>
              <a:chOff x="7837560" y="3792600"/>
              <a:chExt cx="571320" cy="204840"/>
            </a:xfrm>
          </p:grpSpPr>
          <p:sp>
            <p:nvSpPr>
              <p:cNvPr id="1935" name=""/>
              <p:cNvSpPr/>
              <p:nvPr/>
            </p:nvSpPr>
            <p:spPr>
              <a:xfrm>
                <a:off x="7837560" y="37926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8078760" y="383400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88400" y="382608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877160" y="39355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837560" y="38196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082000" y="37940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872480" y="38559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8012160" y="385776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4599000" y="4554720"/>
              <a:ext cx="571320" cy="204480"/>
              <a:chOff x="4599000" y="4554720"/>
              <a:chExt cx="571320" cy="204480"/>
            </a:xfrm>
          </p:grpSpPr>
          <p:sp>
            <p:nvSpPr>
              <p:cNvPr id="1944" name=""/>
              <p:cNvSpPr/>
              <p:nvPr/>
            </p:nvSpPr>
            <p:spPr>
              <a:xfrm>
                <a:off x="4599000" y="45547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40200" y="459576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749840" y="45864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638600" y="4697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599000" y="457992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43440" y="4554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633920" y="461808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773600" y="46195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7075440" y="2649600"/>
              <a:ext cx="571680" cy="204840"/>
              <a:chOff x="7075440" y="2649600"/>
              <a:chExt cx="571680" cy="204840"/>
            </a:xfrm>
          </p:grpSpPr>
          <p:sp>
            <p:nvSpPr>
              <p:cNvPr id="1953" name=""/>
              <p:cNvSpPr/>
              <p:nvPr/>
            </p:nvSpPr>
            <p:spPr>
              <a:xfrm>
                <a:off x="7075440" y="26496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316640" y="26924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26280" y="26845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115040" y="2793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075440" y="26780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319880" y="26528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110360" y="27147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50040" y="27162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7361280" y="4363920"/>
              <a:ext cx="487440" cy="567000"/>
              <a:chOff x="7361280" y="4363920"/>
              <a:chExt cx="487440" cy="567000"/>
            </a:xfrm>
          </p:grpSpPr>
          <p:sp>
            <p:nvSpPr>
              <p:cNvPr id="1962" name=""/>
              <p:cNvSpPr/>
              <p:nvPr/>
            </p:nvSpPr>
            <p:spPr>
              <a:xfrm>
                <a:off x="7378560" y="43689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375680" y="44863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731000" y="4637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683480" y="4629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637400" y="4621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589880" y="4613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542360" y="4605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96280" y="4597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48400" y="458964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61080" y="4363920"/>
                <a:ext cx="14796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502400" y="46450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61280" y="4462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78560" y="44578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34160" y="4748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419960" y="4722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485120" y="44528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692840" y="4473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9" name=""/>
            <p:cNvGrpSpPr/>
            <p:nvPr/>
          </p:nvGrpSpPr>
          <p:grpSpPr>
            <a:xfrm>
              <a:off x="5456160" y="4268880"/>
              <a:ext cx="487440" cy="565200"/>
              <a:chOff x="5456160" y="4268880"/>
              <a:chExt cx="487440" cy="565200"/>
            </a:xfrm>
          </p:grpSpPr>
          <p:sp>
            <p:nvSpPr>
              <p:cNvPr id="1980" name=""/>
              <p:cNvSpPr/>
              <p:nvPr/>
            </p:nvSpPr>
            <p:spPr>
              <a:xfrm>
                <a:off x="5473800" y="4273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470560" y="4389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826240" y="454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778360" y="4533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732280" y="4525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84760" y="451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637240" y="4510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591160" y="4502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543640" y="4492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656320" y="4268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597640" y="4549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456160" y="43671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472000" y="4362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29400" y="46530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514840" y="4627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580000" y="43578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88080" y="4378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5551560" y="2935440"/>
              <a:ext cx="571320" cy="204840"/>
              <a:chOff x="5551560" y="2935440"/>
              <a:chExt cx="571320" cy="204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5551560" y="2935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92760" y="2978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02400" y="29703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591160" y="3079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551560" y="29624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796000" y="2938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86480" y="3000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726160" y="300204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007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8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2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5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2226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2236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2242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2246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2251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2256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2261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274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5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9" name=""/>
            <p:cNvGrpSpPr/>
            <p:nvPr/>
          </p:nvGrpSpPr>
          <p:grpSpPr>
            <a:xfrm>
              <a:off x="4940280" y="3516480"/>
              <a:ext cx="609480" cy="457200"/>
              <a:chOff x="4940280" y="3516480"/>
              <a:chExt cx="609480" cy="457200"/>
            </a:xfrm>
          </p:grpSpPr>
          <p:sp>
            <p:nvSpPr>
              <p:cNvPr id="2490" name=""/>
              <p:cNvSpPr/>
              <p:nvPr/>
            </p:nvSpPr>
            <p:spPr>
              <a:xfrm>
                <a:off x="4964760" y="37616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91" name=""/>
              <p:cNvGrpSpPr/>
              <p:nvPr/>
            </p:nvGrpSpPr>
            <p:grpSpPr>
              <a:xfrm>
                <a:off x="4940280" y="3516480"/>
                <a:ext cx="609480" cy="457200"/>
                <a:chOff x="4940280" y="3516480"/>
                <a:chExt cx="609480" cy="457200"/>
              </a:xfrm>
            </p:grpSpPr>
            <p:sp>
              <p:nvSpPr>
                <p:cNvPr id="2492" name=""/>
                <p:cNvSpPr/>
                <p:nvPr/>
              </p:nvSpPr>
              <p:spPr>
                <a:xfrm>
                  <a:off x="5148360" y="357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5148360" y="3623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5148360" y="3839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5148360" y="3893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4947840" y="3704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181840" y="351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181840" y="3785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981320" y="3623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V="1">
                  <a:off x="4981320" y="3785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>
                  <a:off x="4940280" y="3713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2" name=""/>
            <p:cNvGrpSpPr/>
            <p:nvPr/>
          </p:nvGrpSpPr>
          <p:grpSpPr>
            <a:xfrm>
              <a:off x="5397480" y="4278240"/>
              <a:ext cx="609480" cy="457200"/>
              <a:chOff x="5397480" y="4278240"/>
              <a:chExt cx="609480" cy="457200"/>
            </a:xfrm>
          </p:grpSpPr>
          <p:sp>
            <p:nvSpPr>
              <p:cNvPr id="2503" name=""/>
              <p:cNvSpPr/>
              <p:nvPr/>
            </p:nvSpPr>
            <p:spPr>
              <a:xfrm>
                <a:off x="5421960" y="45234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4" name=""/>
              <p:cNvGrpSpPr/>
              <p:nvPr/>
            </p:nvGrpSpPr>
            <p:grpSpPr>
              <a:xfrm>
                <a:off x="5397480" y="4278240"/>
                <a:ext cx="609480" cy="457200"/>
                <a:chOff x="5397480" y="4278240"/>
                <a:chExt cx="609480" cy="457200"/>
              </a:xfrm>
            </p:grpSpPr>
            <p:sp>
              <p:nvSpPr>
                <p:cNvPr id="2505" name=""/>
                <p:cNvSpPr/>
                <p:nvPr/>
              </p:nvSpPr>
              <p:spPr>
                <a:xfrm>
                  <a:off x="5605560" y="433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5605560" y="4385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5605560" y="460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5605560" y="465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5405040" y="44665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5639040" y="4278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5639040" y="4547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5438520" y="4385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V="1">
                  <a:off x="5438520" y="4547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>
                  <a:off x="5397480" y="4475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5" name=""/>
            <p:cNvGrpSpPr/>
            <p:nvPr/>
          </p:nvGrpSpPr>
          <p:grpSpPr>
            <a:xfrm>
              <a:off x="7074000" y="3059280"/>
              <a:ext cx="609480" cy="457200"/>
              <a:chOff x="7074000" y="3059280"/>
              <a:chExt cx="609480" cy="457200"/>
            </a:xfrm>
          </p:grpSpPr>
          <p:sp>
            <p:nvSpPr>
              <p:cNvPr id="2516" name=""/>
              <p:cNvSpPr/>
              <p:nvPr/>
            </p:nvSpPr>
            <p:spPr>
              <a:xfrm>
                <a:off x="7098480" y="3304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17" name=""/>
              <p:cNvGrpSpPr/>
              <p:nvPr/>
            </p:nvGrpSpPr>
            <p:grpSpPr>
              <a:xfrm>
                <a:off x="7074000" y="3059280"/>
                <a:ext cx="609480" cy="457200"/>
                <a:chOff x="7074000" y="3059280"/>
                <a:chExt cx="609480" cy="45720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7282080" y="3112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282080" y="3166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282080" y="338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282080" y="3435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081560" y="3247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315560" y="305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315560" y="3328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115040" y="3166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V="1">
                  <a:off x="7115040" y="3328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>
                  <a:off x="7074000" y="325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8" name=""/>
            <p:cNvGrpSpPr/>
            <p:nvPr/>
          </p:nvGrpSpPr>
          <p:grpSpPr>
            <a:xfrm>
              <a:off x="7378560" y="4430880"/>
              <a:ext cx="609840" cy="457200"/>
              <a:chOff x="7378560" y="4430880"/>
              <a:chExt cx="609840" cy="457200"/>
            </a:xfrm>
          </p:grpSpPr>
          <p:sp>
            <p:nvSpPr>
              <p:cNvPr id="2529" name=""/>
              <p:cNvSpPr/>
              <p:nvPr/>
            </p:nvSpPr>
            <p:spPr>
              <a:xfrm>
                <a:off x="7403040" y="46760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30" name=""/>
              <p:cNvGrpSpPr/>
              <p:nvPr/>
            </p:nvGrpSpPr>
            <p:grpSpPr>
              <a:xfrm>
                <a:off x="7378560" y="4430880"/>
                <a:ext cx="609840" cy="457200"/>
                <a:chOff x="7378560" y="4430880"/>
                <a:chExt cx="609840" cy="457200"/>
              </a:xfrm>
            </p:grpSpPr>
            <p:sp>
              <p:nvSpPr>
                <p:cNvPr id="2531" name=""/>
                <p:cNvSpPr/>
                <p:nvPr/>
              </p:nvSpPr>
              <p:spPr>
                <a:xfrm>
                  <a:off x="7587000" y="448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587000" y="4538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587000" y="475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587000" y="4807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386120" y="46191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620120" y="443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620120" y="4699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19600" y="453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V="1">
                  <a:off x="7419600" y="469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>
                  <a:off x="7378560" y="4628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1" name=""/>
            <p:cNvGrpSpPr/>
            <p:nvPr/>
          </p:nvGrpSpPr>
          <p:grpSpPr>
            <a:xfrm>
              <a:off x="5641560" y="2782080"/>
              <a:ext cx="606960" cy="513000"/>
              <a:chOff x="5641560" y="2782080"/>
              <a:chExt cx="606960" cy="513000"/>
            </a:xfrm>
          </p:grpSpPr>
          <p:sp>
            <p:nvSpPr>
              <p:cNvPr id="2542" name=""/>
              <p:cNvSpPr/>
              <p:nvPr/>
            </p:nvSpPr>
            <p:spPr>
              <a:xfrm rot="19834800">
                <a:off x="5705640" y="29923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3" name=""/>
              <p:cNvGrpSpPr/>
              <p:nvPr/>
            </p:nvGrpSpPr>
            <p:grpSpPr>
              <a:xfrm>
                <a:off x="5641560" y="2782080"/>
                <a:ext cx="574200" cy="435600"/>
                <a:chOff x="5641560" y="2782080"/>
                <a:chExt cx="574200" cy="435600"/>
              </a:xfrm>
            </p:grpSpPr>
            <p:sp>
              <p:nvSpPr>
                <p:cNvPr id="2544" name=""/>
                <p:cNvSpPr/>
                <p:nvPr/>
              </p:nvSpPr>
              <p:spPr>
                <a:xfrm rot="19834800">
                  <a:off x="5758560" y="284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9834800">
                  <a:off x="5784840" y="289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9834800">
                  <a:off x="5890680" y="307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9834800">
                  <a:off x="5916960" y="312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9834800">
                  <a:off x="5632920" y="29404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9834800">
                  <a:off x="5805360" y="2786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9834800">
                  <a:off x="5937480" y="3020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9834800">
                  <a:off x="5657040" y="2984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V="1" rot="19834800">
                  <a:off x="5735880" y="3125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rot="19834800">
                  <a:off x="5653800" y="3061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4" name=""/>
            <p:cNvGrpSpPr/>
            <p:nvPr/>
          </p:nvGrpSpPr>
          <p:grpSpPr>
            <a:xfrm>
              <a:off x="4650840" y="4458600"/>
              <a:ext cx="607320" cy="513360"/>
              <a:chOff x="4650840" y="4458600"/>
              <a:chExt cx="607320" cy="513360"/>
            </a:xfrm>
          </p:grpSpPr>
          <p:sp>
            <p:nvSpPr>
              <p:cNvPr id="2555" name=""/>
              <p:cNvSpPr/>
              <p:nvPr/>
            </p:nvSpPr>
            <p:spPr>
              <a:xfrm rot="19834800">
                <a:off x="4714920" y="46688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56" name=""/>
              <p:cNvGrpSpPr/>
              <p:nvPr/>
            </p:nvGrpSpPr>
            <p:grpSpPr>
              <a:xfrm>
                <a:off x="4650840" y="4458600"/>
                <a:ext cx="574920" cy="435600"/>
                <a:chOff x="4650840" y="4458600"/>
                <a:chExt cx="574920" cy="435600"/>
              </a:xfrm>
            </p:grpSpPr>
            <p:sp>
              <p:nvSpPr>
                <p:cNvPr id="2557" name=""/>
                <p:cNvSpPr/>
                <p:nvPr/>
              </p:nvSpPr>
              <p:spPr>
                <a:xfrm rot="19834800">
                  <a:off x="4768200" y="4519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19834800">
                  <a:off x="4794480" y="4566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19834800">
                  <a:off x="4900320" y="475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19834800">
                  <a:off x="4926600" y="4801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19834800">
                  <a:off x="4642560" y="46170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19834800">
                  <a:off x="4814640" y="4462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19834800">
                  <a:off x="4946760" y="46969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19834800">
                  <a:off x="4666320" y="4661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V="1" rot="19834800">
                  <a:off x="4745520" y="4802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rot="19834800">
                  <a:off x="4663080" y="4737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7" name=""/>
            <p:cNvGrpSpPr/>
            <p:nvPr/>
          </p:nvGrpSpPr>
          <p:grpSpPr>
            <a:xfrm>
              <a:off x="5717880" y="4991760"/>
              <a:ext cx="606960" cy="513000"/>
              <a:chOff x="5717880" y="4991760"/>
              <a:chExt cx="606960" cy="513000"/>
            </a:xfrm>
          </p:grpSpPr>
          <p:sp>
            <p:nvSpPr>
              <p:cNvPr id="2568" name=""/>
              <p:cNvSpPr/>
              <p:nvPr/>
            </p:nvSpPr>
            <p:spPr>
              <a:xfrm rot="19834800">
                <a:off x="5781960" y="52020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9" name=""/>
              <p:cNvGrpSpPr/>
              <p:nvPr/>
            </p:nvGrpSpPr>
            <p:grpSpPr>
              <a:xfrm>
                <a:off x="5717880" y="4991760"/>
                <a:ext cx="574200" cy="435600"/>
                <a:chOff x="5717880" y="4991760"/>
                <a:chExt cx="574200" cy="435600"/>
              </a:xfrm>
            </p:grpSpPr>
            <p:sp>
              <p:nvSpPr>
                <p:cNvPr id="2570" name=""/>
                <p:cNvSpPr/>
                <p:nvPr/>
              </p:nvSpPr>
              <p:spPr>
                <a:xfrm rot="19834800">
                  <a:off x="5834880" y="5052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19834800">
                  <a:off x="5861160" y="509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19834800">
                  <a:off x="5967000" y="5287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19834800">
                  <a:off x="5993280" y="5334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19834800">
                  <a:off x="5709240" y="5150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19834800">
                  <a:off x="5881680" y="4995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19834800">
                  <a:off x="6013800" y="5230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19834800">
                  <a:off x="5733360" y="51944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V="1" rot="19834800">
                  <a:off x="5812200" y="533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H="1" rot="19834800">
                  <a:off x="5730120" y="5270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0" name=""/>
            <p:cNvGrpSpPr/>
            <p:nvPr/>
          </p:nvGrpSpPr>
          <p:grpSpPr>
            <a:xfrm>
              <a:off x="6403680" y="4077360"/>
              <a:ext cx="606960" cy="513000"/>
              <a:chOff x="6403680" y="4077360"/>
              <a:chExt cx="606960" cy="513000"/>
            </a:xfrm>
          </p:grpSpPr>
          <p:sp>
            <p:nvSpPr>
              <p:cNvPr id="2581" name=""/>
              <p:cNvSpPr/>
              <p:nvPr/>
            </p:nvSpPr>
            <p:spPr>
              <a:xfrm rot="19834800">
                <a:off x="6467760" y="42876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2" name=""/>
              <p:cNvGrpSpPr/>
              <p:nvPr/>
            </p:nvGrpSpPr>
            <p:grpSpPr>
              <a:xfrm>
                <a:off x="6403680" y="4077360"/>
                <a:ext cx="574200" cy="435600"/>
                <a:chOff x="6403680" y="4077360"/>
                <a:chExt cx="574200" cy="435600"/>
              </a:xfrm>
            </p:grpSpPr>
            <p:sp>
              <p:nvSpPr>
                <p:cNvPr id="2583" name=""/>
                <p:cNvSpPr/>
                <p:nvPr/>
              </p:nvSpPr>
              <p:spPr>
                <a:xfrm rot="19834800">
                  <a:off x="6520680" y="4138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19834800">
                  <a:off x="6546960" y="4185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rot="19834800">
                  <a:off x="6652800" y="437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rot="19834800">
                  <a:off x="6679080" y="442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rot="19834800">
                  <a:off x="6395040" y="4235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rot="19834800">
                  <a:off x="6567480" y="4081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9834800">
                  <a:off x="6699600" y="4315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9834800">
                  <a:off x="6419160" y="42800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V="1" rot="19834800">
                  <a:off x="6498000" y="442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 rot="19834800">
                  <a:off x="6415920" y="4356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3" name=""/>
            <p:cNvGrpSpPr/>
            <p:nvPr/>
          </p:nvGrpSpPr>
          <p:grpSpPr>
            <a:xfrm>
              <a:off x="6098760" y="3467880"/>
              <a:ext cx="606960" cy="513000"/>
              <a:chOff x="6098760" y="3467880"/>
              <a:chExt cx="606960" cy="513000"/>
            </a:xfrm>
          </p:grpSpPr>
          <p:sp>
            <p:nvSpPr>
              <p:cNvPr id="2594" name=""/>
              <p:cNvSpPr/>
              <p:nvPr/>
            </p:nvSpPr>
            <p:spPr>
              <a:xfrm rot="19834800">
                <a:off x="6162840" y="36781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5" name=""/>
              <p:cNvGrpSpPr/>
              <p:nvPr/>
            </p:nvGrpSpPr>
            <p:grpSpPr>
              <a:xfrm>
                <a:off x="6098760" y="3467880"/>
                <a:ext cx="574200" cy="435600"/>
                <a:chOff x="6098760" y="3467880"/>
                <a:chExt cx="574200" cy="435600"/>
              </a:xfrm>
            </p:grpSpPr>
            <p:sp>
              <p:nvSpPr>
                <p:cNvPr id="2596" name=""/>
                <p:cNvSpPr/>
                <p:nvPr/>
              </p:nvSpPr>
              <p:spPr>
                <a:xfrm rot="19834800">
                  <a:off x="6215760" y="352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9834800">
                  <a:off x="6242040" y="3575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9834800">
                  <a:off x="6347880" y="376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9834800">
                  <a:off x="6374160" y="3810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9834800">
                  <a:off x="6090120" y="36262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9834800">
                  <a:off x="6262560" y="3471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9834800">
                  <a:off x="6394680" y="3706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9834800">
                  <a:off x="6114240" y="3670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V="1" rot="19834800">
                  <a:off x="6193080" y="3811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 rot="19834800">
                  <a:off x="6111000" y="37468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6" name=""/>
            <p:cNvGrpSpPr/>
            <p:nvPr/>
          </p:nvGrpSpPr>
          <p:grpSpPr>
            <a:xfrm>
              <a:off x="6936840" y="2477160"/>
              <a:ext cx="607320" cy="513360"/>
              <a:chOff x="6936840" y="2477160"/>
              <a:chExt cx="607320" cy="513360"/>
            </a:xfrm>
          </p:grpSpPr>
          <p:sp>
            <p:nvSpPr>
              <p:cNvPr id="2607" name=""/>
              <p:cNvSpPr/>
              <p:nvPr/>
            </p:nvSpPr>
            <p:spPr>
              <a:xfrm rot="19834800">
                <a:off x="7000920" y="26874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08" name=""/>
              <p:cNvGrpSpPr/>
              <p:nvPr/>
            </p:nvGrpSpPr>
            <p:grpSpPr>
              <a:xfrm>
                <a:off x="6936840" y="2477160"/>
                <a:ext cx="574920" cy="435600"/>
                <a:chOff x="6936840" y="2477160"/>
                <a:chExt cx="574920" cy="435600"/>
              </a:xfrm>
            </p:grpSpPr>
            <p:sp>
              <p:nvSpPr>
                <p:cNvPr id="2609" name=""/>
                <p:cNvSpPr/>
                <p:nvPr/>
              </p:nvSpPr>
              <p:spPr>
                <a:xfrm rot="19834800">
                  <a:off x="7054200" y="2538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9834800">
                  <a:off x="7080480" y="2585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9834800">
                  <a:off x="7186320" y="2773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9834800">
                  <a:off x="7212600" y="2819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9834800">
                  <a:off x="6928560" y="26355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9834800">
                  <a:off x="7100640" y="2481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9834800">
                  <a:off x="7232760" y="2715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9834800">
                  <a:off x="6952320" y="2680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 rot="19834800">
                  <a:off x="7031520" y="2820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flipH="1" rot="19834800">
                  <a:off x="6949080" y="2756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9" name=""/>
            <p:cNvGrpSpPr/>
            <p:nvPr/>
          </p:nvGrpSpPr>
          <p:grpSpPr>
            <a:xfrm>
              <a:off x="7851240" y="3544200"/>
              <a:ext cx="607320" cy="513360"/>
              <a:chOff x="7851240" y="3544200"/>
              <a:chExt cx="607320" cy="513360"/>
            </a:xfrm>
          </p:grpSpPr>
          <p:sp>
            <p:nvSpPr>
              <p:cNvPr id="2620" name=""/>
              <p:cNvSpPr/>
              <p:nvPr/>
            </p:nvSpPr>
            <p:spPr>
              <a:xfrm rot="19834800">
                <a:off x="7915320" y="37544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7851240" y="3544200"/>
                <a:ext cx="574920" cy="435600"/>
                <a:chOff x="7851240" y="3544200"/>
                <a:chExt cx="574920" cy="435600"/>
              </a:xfrm>
            </p:grpSpPr>
            <p:sp>
              <p:nvSpPr>
                <p:cNvPr id="2622" name=""/>
                <p:cNvSpPr/>
                <p:nvPr/>
              </p:nvSpPr>
              <p:spPr>
                <a:xfrm rot="19834800">
                  <a:off x="7968600" y="360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9834800">
                  <a:off x="7994880" y="365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9834800">
                  <a:off x="8100720" y="384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9834800">
                  <a:off x="8127000" y="3886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9834800">
                  <a:off x="7842960" y="3702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9834800">
                  <a:off x="8015040" y="3548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9834800">
                  <a:off x="8147160" y="3782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834800">
                  <a:off x="7866720" y="374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V="1" rot="19834800">
                  <a:off x="794592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 rot="19834800">
                  <a:off x="7863480" y="38232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32" name=""/>
          <p:cNvGrpSpPr/>
          <p:nvPr/>
        </p:nvGrpSpPr>
        <p:grpSpPr>
          <a:xfrm>
            <a:off x="4278240" y="2311560"/>
            <a:ext cx="4510080" cy="3367080"/>
            <a:chOff x="4278240" y="2311560"/>
            <a:chExt cx="4510080" cy="3367080"/>
          </a:xfrm>
        </p:grpSpPr>
        <p:sp>
          <p:nvSpPr>
            <p:cNvPr id="2633" name=""/>
            <p:cNvSpPr/>
            <p:nvPr/>
          </p:nvSpPr>
          <p:spPr>
            <a:xfrm>
              <a:off x="4481280" y="518004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I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2636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2733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5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7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2828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2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2833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7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2838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3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2844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7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2848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2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2853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7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2858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2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2863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7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2868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5" name=""/>
            <p:cNvGrpSpPr/>
            <p:nvPr/>
          </p:nvGrpSpPr>
          <p:grpSpPr>
            <a:xfrm>
              <a:off x="7072200" y="3113280"/>
              <a:ext cx="485640" cy="565200"/>
              <a:chOff x="7072200" y="3113280"/>
              <a:chExt cx="485640" cy="565200"/>
            </a:xfrm>
          </p:grpSpPr>
          <p:sp>
            <p:nvSpPr>
              <p:cNvPr id="2876" name=""/>
              <p:cNvSpPr/>
              <p:nvPr/>
            </p:nvSpPr>
            <p:spPr>
              <a:xfrm>
                <a:off x="7089480" y="3117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086240" y="3233880"/>
                <a:ext cx="44316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441920" y="3386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394400" y="3378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348320" y="3370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300800" y="3362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252920" y="33544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207200" y="3346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159320" y="3337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272000" y="31132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213320" y="3394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072200" y="32115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088040" y="3206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345080" y="3497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130880" y="3471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196040" y="32022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403760" y="3222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4976640" y="3494160"/>
              <a:ext cx="487440" cy="566640"/>
              <a:chOff x="4976640" y="3494160"/>
              <a:chExt cx="487440" cy="566640"/>
            </a:xfrm>
          </p:grpSpPr>
          <p:sp>
            <p:nvSpPr>
              <p:cNvPr id="2894" name=""/>
              <p:cNvSpPr/>
              <p:nvPr/>
            </p:nvSpPr>
            <p:spPr>
              <a:xfrm>
                <a:off x="4993920" y="349884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991040" y="36165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346360" y="37674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98840" y="3759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52760" y="3751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05240" y="37436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157720" y="37353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111640" y="37274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063760" y="37195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176800" y="34941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117760" y="37753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976640" y="35928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993920" y="358776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249520" y="38782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035320" y="38530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100480" y="35830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308560" y="3603600"/>
                <a:ext cx="5364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1" name=""/>
            <p:cNvGrpSpPr/>
            <p:nvPr/>
          </p:nvGrpSpPr>
          <p:grpSpPr>
            <a:xfrm>
              <a:off x="6119640" y="3589560"/>
              <a:ext cx="571320" cy="204840"/>
              <a:chOff x="6119640" y="3589560"/>
              <a:chExt cx="571320" cy="204840"/>
            </a:xfrm>
          </p:grpSpPr>
          <p:sp>
            <p:nvSpPr>
              <p:cNvPr id="2912" name=""/>
              <p:cNvSpPr/>
              <p:nvPr/>
            </p:nvSpPr>
            <p:spPr>
              <a:xfrm>
                <a:off x="6119640" y="358956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360840" y="3632400"/>
                <a:ext cx="6048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70480" y="362268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159240" y="373248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19640" y="36165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364080" y="35910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154560" y="3652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294240" y="365616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0" name=""/>
            <p:cNvGrpSpPr/>
            <p:nvPr/>
          </p:nvGrpSpPr>
          <p:grpSpPr>
            <a:xfrm>
              <a:off x="6405480" y="4256280"/>
              <a:ext cx="571320" cy="204840"/>
              <a:chOff x="6405480" y="4256280"/>
              <a:chExt cx="571320" cy="204840"/>
            </a:xfrm>
          </p:grpSpPr>
          <p:sp>
            <p:nvSpPr>
              <p:cNvPr id="2921" name=""/>
              <p:cNvSpPr/>
              <p:nvPr/>
            </p:nvSpPr>
            <p:spPr>
              <a:xfrm>
                <a:off x="6405480" y="42562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646680" y="42976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556320" y="42879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445080" y="4399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405480" y="42814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649920" y="425628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440400" y="43196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581520" y="43214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9" name=""/>
            <p:cNvGrpSpPr/>
            <p:nvPr/>
          </p:nvGrpSpPr>
          <p:grpSpPr>
            <a:xfrm>
              <a:off x="5738760" y="5208840"/>
              <a:ext cx="571320" cy="204840"/>
              <a:chOff x="5738760" y="5208840"/>
              <a:chExt cx="571320" cy="204840"/>
            </a:xfrm>
          </p:grpSpPr>
          <p:sp>
            <p:nvSpPr>
              <p:cNvPr id="2930" name=""/>
              <p:cNvSpPr/>
              <p:nvPr/>
            </p:nvSpPr>
            <p:spPr>
              <a:xfrm>
                <a:off x="5738760" y="52088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979960" y="52484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889600" y="52405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78360" y="5349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38760" y="523404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983200" y="52088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773680" y="5270760"/>
                <a:ext cx="32040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913360" y="52722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8" name=""/>
            <p:cNvGrpSpPr/>
            <p:nvPr/>
          </p:nvGrpSpPr>
          <p:grpSpPr>
            <a:xfrm>
              <a:off x="7833960" y="3780000"/>
              <a:ext cx="571680" cy="204840"/>
              <a:chOff x="7833960" y="3780000"/>
              <a:chExt cx="571680" cy="204840"/>
            </a:xfrm>
          </p:grpSpPr>
          <p:sp>
            <p:nvSpPr>
              <p:cNvPr id="2939" name=""/>
              <p:cNvSpPr/>
              <p:nvPr/>
            </p:nvSpPr>
            <p:spPr>
              <a:xfrm>
                <a:off x="7833960" y="37800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075520" y="382140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84800" y="381348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873920" y="39229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833960" y="38070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078760" y="3781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868880" y="38433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008560" y="384516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7" name=""/>
            <p:cNvGrpSpPr/>
            <p:nvPr/>
          </p:nvGrpSpPr>
          <p:grpSpPr>
            <a:xfrm>
              <a:off x="4595760" y="4542120"/>
              <a:ext cx="571320" cy="204480"/>
              <a:chOff x="4595760" y="4542120"/>
              <a:chExt cx="571320" cy="204480"/>
            </a:xfrm>
          </p:grpSpPr>
          <p:sp>
            <p:nvSpPr>
              <p:cNvPr id="2948" name=""/>
              <p:cNvSpPr/>
              <p:nvPr/>
            </p:nvSpPr>
            <p:spPr>
              <a:xfrm>
                <a:off x="4595760" y="45421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836960" y="45831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746600" y="45738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635360" y="46850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95760" y="456732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40200" y="454212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630680" y="460548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770360" y="46069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6" name=""/>
            <p:cNvGrpSpPr/>
            <p:nvPr/>
          </p:nvGrpSpPr>
          <p:grpSpPr>
            <a:xfrm>
              <a:off x="7072200" y="2637000"/>
              <a:ext cx="571320" cy="204840"/>
              <a:chOff x="7072200" y="2637000"/>
              <a:chExt cx="571320" cy="204840"/>
            </a:xfrm>
          </p:grpSpPr>
          <p:sp>
            <p:nvSpPr>
              <p:cNvPr id="2957" name=""/>
              <p:cNvSpPr/>
              <p:nvPr/>
            </p:nvSpPr>
            <p:spPr>
              <a:xfrm>
                <a:off x="7072200" y="2637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313400" y="2679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223040" y="26719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111800" y="2781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072200" y="26654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316640" y="26402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107120" y="27021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246800" y="27036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5" name=""/>
            <p:cNvGrpSpPr/>
            <p:nvPr/>
          </p:nvGrpSpPr>
          <p:grpSpPr>
            <a:xfrm>
              <a:off x="7357680" y="4351320"/>
              <a:ext cx="487440" cy="567000"/>
              <a:chOff x="7357680" y="4351320"/>
              <a:chExt cx="487440" cy="567000"/>
            </a:xfrm>
          </p:grpSpPr>
          <p:sp>
            <p:nvSpPr>
              <p:cNvPr id="2966" name=""/>
              <p:cNvSpPr/>
              <p:nvPr/>
            </p:nvSpPr>
            <p:spPr>
              <a:xfrm>
                <a:off x="7375320" y="43563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372080" y="44737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727760" y="4624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80240" y="46166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634160" y="4608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586280" y="460080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538760" y="45928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492680" y="45849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445160" y="4577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557840" y="435132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499160" y="46324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357680" y="44499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75320" y="44452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630920" y="47358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416720" y="471024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481520" y="44402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689600" y="44611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5452920" y="4256280"/>
              <a:ext cx="487440" cy="565200"/>
              <a:chOff x="5452920" y="4256280"/>
              <a:chExt cx="487440" cy="565200"/>
            </a:xfrm>
          </p:grpSpPr>
          <p:sp>
            <p:nvSpPr>
              <p:cNvPr id="2984" name=""/>
              <p:cNvSpPr/>
              <p:nvPr/>
            </p:nvSpPr>
            <p:spPr>
              <a:xfrm>
                <a:off x="5470200" y="4260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467320" y="43768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822640" y="452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775120" y="4521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729040" y="4513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681520" y="4505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634000" y="44974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87920" y="4489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40040" y="448020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652720" y="4256280"/>
                <a:ext cx="14796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94040" y="4537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452920" y="4354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468760" y="4349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25800" y="4640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11600" y="4614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76760" y="43452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784480" y="4365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547960" y="2922840"/>
              <a:ext cx="571680" cy="204840"/>
              <a:chOff x="5547960" y="2922840"/>
              <a:chExt cx="571680" cy="2048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547960" y="29228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789520" y="29656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98800" y="29577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587920" y="3067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547960" y="29498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792760" y="29260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582880" y="29880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722560" y="29894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0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2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013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4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055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097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8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139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0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181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2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223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4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265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6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3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3324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3421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3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5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3516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0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3521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5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3526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1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3532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3536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0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3541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5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3546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3551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5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3556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63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566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7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608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9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650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1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692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3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734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5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776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59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365720" y="518004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S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76" name=""/>
            <p:cNvGrpSpPr/>
            <p:nvPr/>
          </p:nvGrpSpPr>
          <p:grpSpPr>
            <a:xfrm>
              <a:off x="4937040" y="3503880"/>
              <a:ext cx="609480" cy="457200"/>
              <a:chOff x="4937040" y="3503880"/>
              <a:chExt cx="609480" cy="457200"/>
            </a:xfrm>
          </p:grpSpPr>
          <p:sp>
            <p:nvSpPr>
              <p:cNvPr id="3877" name=""/>
              <p:cNvSpPr/>
              <p:nvPr/>
            </p:nvSpPr>
            <p:spPr>
              <a:xfrm>
                <a:off x="4961520" y="37490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78" name=""/>
              <p:cNvGrpSpPr/>
              <p:nvPr/>
            </p:nvGrpSpPr>
            <p:grpSpPr>
              <a:xfrm>
                <a:off x="4937040" y="3503880"/>
                <a:ext cx="609480" cy="457200"/>
                <a:chOff x="4937040" y="3503880"/>
                <a:chExt cx="609480" cy="457200"/>
              </a:xfrm>
            </p:grpSpPr>
            <p:sp>
              <p:nvSpPr>
                <p:cNvPr id="3879" name=""/>
                <p:cNvSpPr/>
                <p:nvPr/>
              </p:nvSpPr>
              <p:spPr>
                <a:xfrm>
                  <a:off x="5145120" y="3557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5145120" y="361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5145120" y="3826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5145120" y="3880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4944600" y="3692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5178600" y="3503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5178600" y="3772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4978080" y="361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V="1">
                  <a:off x="4978080" y="3772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 flipH="1">
                  <a:off x="4937040" y="3701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9" name=""/>
            <p:cNvGrpSpPr/>
            <p:nvPr/>
          </p:nvGrpSpPr>
          <p:grpSpPr>
            <a:xfrm>
              <a:off x="5470200" y="4341960"/>
              <a:ext cx="609840" cy="457200"/>
              <a:chOff x="5470200" y="4341960"/>
              <a:chExt cx="609840" cy="457200"/>
            </a:xfrm>
          </p:grpSpPr>
          <p:sp>
            <p:nvSpPr>
              <p:cNvPr id="3890" name=""/>
              <p:cNvSpPr/>
              <p:nvPr/>
            </p:nvSpPr>
            <p:spPr>
              <a:xfrm>
                <a:off x="5494680" y="45871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91" name=""/>
              <p:cNvGrpSpPr/>
              <p:nvPr/>
            </p:nvGrpSpPr>
            <p:grpSpPr>
              <a:xfrm>
                <a:off x="5470200" y="4341960"/>
                <a:ext cx="609840" cy="457200"/>
                <a:chOff x="5470200" y="4341960"/>
                <a:chExt cx="609840" cy="457200"/>
              </a:xfrm>
            </p:grpSpPr>
            <p:sp>
              <p:nvSpPr>
                <p:cNvPr id="3892" name=""/>
                <p:cNvSpPr/>
                <p:nvPr/>
              </p:nvSpPr>
              <p:spPr>
                <a:xfrm>
                  <a:off x="5678640" y="4395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5678640" y="4449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5678640" y="4664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5678640" y="4718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5477760" y="453024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5711760" y="4341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5711760" y="461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5511240" y="4449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V="1">
                  <a:off x="5511240" y="4610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H="1">
                  <a:off x="5470200" y="45392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2" name=""/>
            <p:cNvGrpSpPr/>
            <p:nvPr/>
          </p:nvGrpSpPr>
          <p:grpSpPr>
            <a:xfrm>
              <a:off x="7070400" y="3122640"/>
              <a:ext cx="609840" cy="457200"/>
              <a:chOff x="7070400" y="3122640"/>
              <a:chExt cx="609840" cy="457200"/>
            </a:xfrm>
          </p:grpSpPr>
          <p:sp>
            <p:nvSpPr>
              <p:cNvPr id="3903" name=""/>
              <p:cNvSpPr/>
              <p:nvPr/>
            </p:nvSpPr>
            <p:spPr>
              <a:xfrm>
                <a:off x="7094880" y="33678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04" name=""/>
              <p:cNvGrpSpPr/>
              <p:nvPr/>
            </p:nvGrpSpPr>
            <p:grpSpPr>
              <a:xfrm>
                <a:off x="7070400" y="3122640"/>
                <a:ext cx="609840" cy="457200"/>
                <a:chOff x="7070400" y="3122640"/>
                <a:chExt cx="609840" cy="457200"/>
              </a:xfrm>
            </p:grpSpPr>
            <p:sp>
              <p:nvSpPr>
                <p:cNvPr id="3905" name=""/>
                <p:cNvSpPr/>
                <p:nvPr/>
              </p:nvSpPr>
              <p:spPr>
                <a:xfrm>
                  <a:off x="7278840" y="317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7278840" y="3229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7278840" y="344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7278840" y="3499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7077960" y="33109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7311960" y="3122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7311960" y="3391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7111440" y="32299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 flipV="1">
                  <a:off x="7111440" y="3391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 flipH="1">
                  <a:off x="7070400" y="331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5" name=""/>
            <p:cNvGrpSpPr/>
            <p:nvPr/>
          </p:nvGrpSpPr>
          <p:grpSpPr>
            <a:xfrm>
              <a:off x="7375320" y="4418280"/>
              <a:ext cx="609480" cy="457200"/>
              <a:chOff x="7375320" y="4418280"/>
              <a:chExt cx="609480" cy="457200"/>
            </a:xfrm>
          </p:grpSpPr>
          <p:sp>
            <p:nvSpPr>
              <p:cNvPr id="3916" name=""/>
              <p:cNvSpPr/>
              <p:nvPr/>
            </p:nvSpPr>
            <p:spPr>
              <a:xfrm>
                <a:off x="7399800" y="4663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7" name=""/>
              <p:cNvGrpSpPr/>
              <p:nvPr/>
            </p:nvGrpSpPr>
            <p:grpSpPr>
              <a:xfrm>
                <a:off x="7375320" y="4418280"/>
                <a:ext cx="609480" cy="457200"/>
                <a:chOff x="7375320" y="4418280"/>
                <a:chExt cx="609480" cy="457200"/>
              </a:xfrm>
            </p:grpSpPr>
            <p:sp>
              <p:nvSpPr>
                <p:cNvPr id="3918" name=""/>
                <p:cNvSpPr/>
                <p:nvPr/>
              </p:nvSpPr>
              <p:spPr>
                <a:xfrm>
                  <a:off x="7583400" y="447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7583400" y="452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7583400" y="474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7583400" y="4794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7382880" y="4606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7616880" y="4418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7616880" y="4687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7416360" y="452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 flipV="1">
                  <a:off x="7416360" y="4687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 flipH="1">
                  <a:off x="7375320" y="4615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8" name=""/>
            <p:cNvGrpSpPr/>
            <p:nvPr/>
          </p:nvGrpSpPr>
          <p:grpSpPr>
            <a:xfrm>
              <a:off x="4495320" y="4446000"/>
              <a:ext cx="606960" cy="513000"/>
              <a:chOff x="4495320" y="4446000"/>
              <a:chExt cx="606960" cy="513000"/>
            </a:xfrm>
          </p:grpSpPr>
          <p:sp>
            <p:nvSpPr>
              <p:cNvPr id="3929" name=""/>
              <p:cNvSpPr/>
              <p:nvPr/>
            </p:nvSpPr>
            <p:spPr>
              <a:xfrm rot="19834800">
                <a:off x="4559400" y="465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30" name=""/>
              <p:cNvGrpSpPr/>
              <p:nvPr/>
            </p:nvGrpSpPr>
            <p:grpSpPr>
              <a:xfrm>
                <a:off x="4495320" y="4446000"/>
                <a:ext cx="574200" cy="435600"/>
                <a:chOff x="4495320" y="4446000"/>
                <a:chExt cx="574200" cy="435600"/>
              </a:xfrm>
            </p:grpSpPr>
            <p:sp>
              <p:nvSpPr>
                <p:cNvPr id="3931" name=""/>
                <p:cNvSpPr/>
                <p:nvPr/>
              </p:nvSpPr>
              <p:spPr>
                <a:xfrm rot="19834800">
                  <a:off x="4612320" y="450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 rot="19834800">
                  <a:off x="4638600" y="455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 rot="19834800">
                  <a:off x="4744440" y="474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 rot="19834800">
                  <a:off x="4770720" y="478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 rot="19834800">
                  <a:off x="4486680" y="460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 rot="19834800">
                  <a:off x="4659120" y="444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rot="19834800">
                  <a:off x="4791240" y="468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 rot="19834800">
                  <a:off x="4510800" y="464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 flipV="1" rot="19834800">
                  <a:off x="4589640" y="478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 flipH="1" rot="19834800">
                  <a:off x="4507560" y="472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1" name=""/>
            <p:cNvGrpSpPr/>
            <p:nvPr/>
          </p:nvGrpSpPr>
          <p:grpSpPr>
            <a:xfrm>
              <a:off x="5485680" y="2769480"/>
              <a:ext cx="607320" cy="513360"/>
              <a:chOff x="5485680" y="2769480"/>
              <a:chExt cx="607320" cy="513360"/>
            </a:xfrm>
          </p:grpSpPr>
          <p:sp>
            <p:nvSpPr>
              <p:cNvPr id="3942" name=""/>
              <p:cNvSpPr/>
              <p:nvPr/>
            </p:nvSpPr>
            <p:spPr>
              <a:xfrm rot="19834800">
                <a:off x="5549760" y="29797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43" name=""/>
              <p:cNvGrpSpPr/>
              <p:nvPr/>
            </p:nvGrpSpPr>
            <p:grpSpPr>
              <a:xfrm>
                <a:off x="5485680" y="2769480"/>
                <a:ext cx="574920" cy="435600"/>
                <a:chOff x="5485680" y="2769480"/>
                <a:chExt cx="574920" cy="435600"/>
              </a:xfrm>
            </p:grpSpPr>
            <p:sp>
              <p:nvSpPr>
                <p:cNvPr id="3944" name=""/>
                <p:cNvSpPr/>
                <p:nvPr/>
              </p:nvSpPr>
              <p:spPr>
                <a:xfrm rot="19834800">
                  <a:off x="5603040" y="2830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rot="19834800">
                  <a:off x="5629320" y="2877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 rot="19834800">
                  <a:off x="5735160" y="306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 rot="19834800">
                  <a:off x="5761440" y="311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 rot="19834800">
                  <a:off x="5477400" y="29278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 rot="19834800">
                  <a:off x="5649480" y="2773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rot="19834800">
                  <a:off x="5781600" y="3007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rot="19834800">
                  <a:off x="5501160" y="2972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 flipV="1" rot="19834800">
                  <a:off x="5580360" y="3113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 rot="19834800">
                  <a:off x="5497920" y="3048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4" name=""/>
            <p:cNvGrpSpPr/>
            <p:nvPr/>
          </p:nvGrpSpPr>
          <p:grpSpPr>
            <a:xfrm>
              <a:off x="5790600" y="5055480"/>
              <a:ext cx="606960" cy="513000"/>
              <a:chOff x="5790600" y="5055480"/>
              <a:chExt cx="606960" cy="513000"/>
            </a:xfrm>
          </p:grpSpPr>
          <p:sp>
            <p:nvSpPr>
              <p:cNvPr id="3955" name=""/>
              <p:cNvSpPr/>
              <p:nvPr/>
            </p:nvSpPr>
            <p:spPr>
              <a:xfrm rot="19834800">
                <a:off x="5854680" y="52657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6" name=""/>
              <p:cNvGrpSpPr/>
              <p:nvPr/>
            </p:nvGrpSpPr>
            <p:grpSpPr>
              <a:xfrm>
                <a:off x="5790600" y="5055480"/>
                <a:ext cx="574200" cy="435600"/>
                <a:chOff x="5790600" y="5055480"/>
                <a:chExt cx="574200" cy="435600"/>
              </a:xfrm>
            </p:grpSpPr>
            <p:sp>
              <p:nvSpPr>
                <p:cNvPr id="3957" name=""/>
                <p:cNvSpPr/>
                <p:nvPr/>
              </p:nvSpPr>
              <p:spPr>
                <a:xfrm rot="19834800">
                  <a:off x="5907600" y="5116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 rot="19834800">
                  <a:off x="5933880" y="516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rot="19834800">
                  <a:off x="6039720" y="5351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 rot="19834800">
                  <a:off x="6066000" y="5398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 rot="19834800">
                  <a:off x="5781960" y="52138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 rot="19834800">
                  <a:off x="5954400" y="5059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 rot="19834800">
                  <a:off x="6086520" y="5293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 rot="19834800">
                  <a:off x="5806080" y="525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 flipV="1" rot="19834800">
                  <a:off x="5884920" y="5399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 flipH="1" rot="19834800">
                  <a:off x="5802840" y="5334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7" name=""/>
            <p:cNvGrpSpPr/>
            <p:nvPr/>
          </p:nvGrpSpPr>
          <p:grpSpPr>
            <a:xfrm>
              <a:off x="7009920" y="2464560"/>
              <a:ext cx="606960" cy="513000"/>
              <a:chOff x="7009920" y="2464560"/>
              <a:chExt cx="606960" cy="513000"/>
            </a:xfrm>
          </p:grpSpPr>
          <p:sp>
            <p:nvSpPr>
              <p:cNvPr id="3968" name=""/>
              <p:cNvSpPr/>
              <p:nvPr/>
            </p:nvSpPr>
            <p:spPr>
              <a:xfrm rot="19834800">
                <a:off x="7074000" y="2674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9" name=""/>
              <p:cNvGrpSpPr/>
              <p:nvPr/>
            </p:nvGrpSpPr>
            <p:grpSpPr>
              <a:xfrm>
                <a:off x="7009920" y="2464560"/>
                <a:ext cx="574200" cy="435600"/>
                <a:chOff x="7009920" y="2464560"/>
                <a:chExt cx="574200" cy="435600"/>
              </a:xfrm>
            </p:grpSpPr>
            <p:sp>
              <p:nvSpPr>
                <p:cNvPr id="3970" name=""/>
                <p:cNvSpPr/>
                <p:nvPr/>
              </p:nvSpPr>
              <p:spPr>
                <a:xfrm rot="19834800">
                  <a:off x="7126920" y="2525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 rot="19834800">
                  <a:off x="7153200" y="2572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 rot="19834800">
                  <a:off x="7259040" y="276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 rot="19834800">
                  <a:off x="7285320" y="2807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 rot="19834800">
                  <a:off x="7001280" y="2622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 rot="19834800">
                  <a:off x="7173720" y="2468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rot="19834800">
                  <a:off x="7305840" y="2702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 rot="19834800">
                  <a:off x="7025400" y="266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 flipV="1" rot="19834800">
                  <a:off x="7104240" y="2808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 flipH="1" rot="19834800">
                  <a:off x="7022160" y="2743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0" name=""/>
            <p:cNvGrpSpPr/>
            <p:nvPr/>
          </p:nvGrpSpPr>
          <p:grpSpPr>
            <a:xfrm>
              <a:off x="6095520" y="3455280"/>
              <a:ext cx="606960" cy="513000"/>
              <a:chOff x="6095520" y="3455280"/>
              <a:chExt cx="606960" cy="513000"/>
            </a:xfrm>
          </p:grpSpPr>
          <p:sp>
            <p:nvSpPr>
              <p:cNvPr id="3981" name=""/>
              <p:cNvSpPr/>
              <p:nvPr/>
            </p:nvSpPr>
            <p:spPr>
              <a:xfrm rot="19834800">
                <a:off x="6159600" y="36655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2" name=""/>
              <p:cNvGrpSpPr/>
              <p:nvPr/>
            </p:nvGrpSpPr>
            <p:grpSpPr>
              <a:xfrm>
                <a:off x="6095520" y="3455280"/>
                <a:ext cx="574200" cy="435600"/>
                <a:chOff x="6095520" y="3455280"/>
                <a:chExt cx="574200" cy="435600"/>
              </a:xfrm>
            </p:grpSpPr>
            <p:sp>
              <p:nvSpPr>
                <p:cNvPr id="3983" name=""/>
                <p:cNvSpPr/>
                <p:nvPr/>
              </p:nvSpPr>
              <p:spPr>
                <a:xfrm rot="19834800">
                  <a:off x="6212520" y="3516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 rot="19834800">
                  <a:off x="6238800" y="356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 rot="19834800">
                  <a:off x="6344640" y="375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 rot="19834800">
                  <a:off x="6370920" y="379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 rot="19834800">
                  <a:off x="6086880" y="36136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 rot="19834800">
                  <a:off x="6259320" y="345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 rot="19834800">
                  <a:off x="6391440" y="36936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 rot="19834800">
                  <a:off x="6111000" y="3657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flipV="1" rot="19834800">
                  <a:off x="6189840" y="37990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H="1" rot="19834800">
                  <a:off x="6107760" y="37342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3" name=""/>
            <p:cNvGrpSpPr/>
            <p:nvPr/>
          </p:nvGrpSpPr>
          <p:grpSpPr>
            <a:xfrm>
              <a:off x="6400080" y="4141080"/>
              <a:ext cx="607320" cy="513360"/>
              <a:chOff x="6400080" y="4141080"/>
              <a:chExt cx="607320" cy="513360"/>
            </a:xfrm>
          </p:grpSpPr>
          <p:sp>
            <p:nvSpPr>
              <p:cNvPr id="3994" name=""/>
              <p:cNvSpPr/>
              <p:nvPr/>
            </p:nvSpPr>
            <p:spPr>
              <a:xfrm rot="19834800">
                <a:off x="6464160" y="43513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95" name=""/>
              <p:cNvGrpSpPr/>
              <p:nvPr/>
            </p:nvGrpSpPr>
            <p:grpSpPr>
              <a:xfrm>
                <a:off x="6400080" y="4141080"/>
                <a:ext cx="574920" cy="435600"/>
                <a:chOff x="6400080" y="4141080"/>
                <a:chExt cx="574920" cy="435600"/>
              </a:xfrm>
            </p:grpSpPr>
            <p:sp>
              <p:nvSpPr>
                <p:cNvPr id="3996" name=""/>
                <p:cNvSpPr/>
                <p:nvPr/>
              </p:nvSpPr>
              <p:spPr>
                <a:xfrm rot="19834800">
                  <a:off x="6517440" y="4202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 rot="19834800">
                  <a:off x="6543720" y="424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 rot="19834800">
                  <a:off x="6649560" y="443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 rot="19834800">
                  <a:off x="6675840" y="448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rot="19834800">
                  <a:off x="6391800" y="4299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 rot="19834800">
                  <a:off x="6563880" y="414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rot="19834800">
                  <a:off x="6696000" y="4379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rot="19834800">
                  <a:off x="6415560" y="4344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 flipV="1" rot="19834800">
                  <a:off x="6494760" y="4484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 rot="19834800">
                  <a:off x="6412320" y="4420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06" name=""/>
            <p:cNvGrpSpPr/>
            <p:nvPr/>
          </p:nvGrpSpPr>
          <p:grpSpPr>
            <a:xfrm>
              <a:off x="7848000" y="3607560"/>
              <a:ext cx="606960" cy="513000"/>
              <a:chOff x="7848000" y="3607560"/>
              <a:chExt cx="606960" cy="513000"/>
            </a:xfrm>
          </p:grpSpPr>
          <p:sp>
            <p:nvSpPr>
              <p:cNvPr id="4007" name=""/>
              <p:cNvSpPr/>
              <p:nvPr/>
            </p:nvSpPr>
            <p:spPr>
              <a:xfrm rot="19834800">
                <a:off x="7912080" y="3817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08" name=""/>
              <p:cNvGrpSpPr/>
              <p:nvPr/>
            </p:nvGrpSpPr>
            <p:grpSpPr>
              <a:xfrm>
                <a:off x="7848000" y="3607560"/>
                <a:ext cx="574200" cy="435600"/>
                <a:chOff x="7848000" y="3607560"/>
                <a:chExt cx="574200" cy="435600"/>
              </a:xfrm>
            </p:grpSpPr>
            <p:sp>
              <p:nvSpPr>
                <p:cNvPr id="4009" name=""/>
                <p:cNvSpPr/>
                <p:nvPr/>
              </p:nvSpPr>
              <p:spPr>
                <a:xfrm rot="19834800">
                  <a:off x="7965000" y="3668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 rot="19834800">
                  <a:off x="7991280" y="371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rot="19834800">
                  <a:off x="8097120" y="390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 rot="19834800">
                  <a:off x="8123400" y="3950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 rot="19834800">
                  <a:off x="7839360" y="3765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rot="19834800">
                  <a:off x="8011800" y="3611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 rot="19834800">
                  <a:off x="8143920" y="3845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 rot="19834800">
                  <a:off x="7863480" y="3810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V="1" rot="19834800">
                  <a:off x="7942320" y="395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 flipH="1" rot="19834800">
                  <a:off x="7860240" y="388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282-8AD3-4A6F-9E2A-504DE2673D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6F235-33E2-4F31-9F30-9B979720C4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020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021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9" name=""/>
          <p:cNvSpPr/>
          <p:nvPr/>
        </p:nvSpPr>
        <p:spPr>
          <a:xfrm>
            <a:off x="1219320" y="1752480"/>
            <a:ext cx="5105160" cy="83844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6400800" y="1828800"/>
            <a:ext cx="251460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rating crew scheduling and fleet assignment models yie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itional 3% savings in total operating, spill and crew co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eeting costs increase by about 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w costs decrease by about 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AA2-750B-4540-8286-37B5083ABB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7B524-9802-4A74-A56E-C978234CF8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Look to the Future:  Real-time Decision Mak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a typical airline, about 10% of scheduled revenue flights are affected by irregularities (like inclement weather, maintenance problems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irregular operations (due mostly to weather) result in more than $440 million per year in lost revenue, crew overtime pay, and passenger hospitali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ing use and acceptance of optimization-based decision support tools for operations reco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C3A-421F-4DAB-B4EA-29CBE4B097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11642-E3D3-4CB7-B665-F619FE5349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Robust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sue:  Optimizing “plans” results in minimiz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lann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, no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aliz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ized plans have litt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lac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ulting 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likelihood of plan “breakage”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wer recovery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llenge:  Building “robust” plans that achieve minimal realiz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E4B-E372-479D-9D4A-EC8EECBAB6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87D56-F8EA-4B1A-B95B-84C6C0DCC3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752480"/>
            <a:ext cx="2438280" cy="17528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59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62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65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A25-216F-4B5C-9F91-E2A9767870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7B996-385E-4D30-B126-134B64D612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origin-destination demands and fares, fleet composition and size, fleet operating characteristics and cost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nd the revenue maximizing flight schedu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D23-66DD-4F25-BD0F-782B30D15B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4FB93-EB71-4476-BBBF-74F98B46EA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Fixed Flight Network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model with time windo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flights to be re-timed slightly (plus/ minus 10 minutes) to allow for improved utilization of aircraft and improved capacity assign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itial step in integrating flight schedule design and fleet assignment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B2C-4147-43FE-BF2D-DCF18CFC22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B057A-29E2-4A19-B8E5-7F55260EB5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Optional Flights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with “optional” flight le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varying flight departure ti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new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on to eliminate existing flights from future flight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mental Schedule De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50F-0A87-49A0-87D5-137116DEAE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0A8FF-382B-4856-A2A0-4A1FDA0309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, Incremental Schedule Design and Fleet Assignment Model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362320"/>
            <a:ext cx="236232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ition Candi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2362320"/>
            <a:ext cx="5105520" cy="1981080"/>
            <a:chOff x="914400" y="2362320"/>
            <a:chExt cx="5105520" cy="1981080"/>
          </a:xfrm>
        </p:grpSpPr>
        <p:sp>
          <p:nvSpPr>
            <p:cNvPr id="78" name=""/>
            <p:cNvSpPr/>
            <p:nvPr/>
          </p:nvSpPr>
          <p:spPr>
            <a:xfrm>
              <a:off x="9144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ndatory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2362320"/>
              <a:ext cx="236232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letion Candid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274320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2895480"/>
              <a:ext cx="0" cy="76212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143000" y="2362320"/>
            <a:ext cx="2057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e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029200" y="2467080"/>
            <a:ext cx="2514600" cy="1876320"/>
            <a:chOff x="5029200" y="2467080"/>
            <a:chExt cx="2514600" cy="1876320"/>
          </a:xfrm>
        </p:grpSpPr>
        <p:sp>
          <p:nvSpPr>
            <p:cNvPr id="84" name=""/>
            <p:cNvSpPr/>
            <p:nvPr/>
          </p:nvSpPr>
          <p:spPr>
            <a:xfrm>
              <a:off x="50292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Optional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30481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138720" y="2467080"/>
              <a:ext cx="380880" cy="457200"/>
              <a:chOff x="6138720" y="2467080"/>
              <a:chExt cx="380880" cy="457200"/>
            </a:xfrm>
          </p:grpSpPr>
          <p:sp>
            <p:nvSpPr>
              <p:cNvPr id="87" name=""/>
              <p:cNvSpPr/>
              <p:nvPr/>
            </p:nvSpPr>
            <p:spPr>
              <a:xfrm>
                <a:off x="6333840" y="246708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38720" y="269568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2895480" y="3762360"/>
            <a:ext cx="2514600" cy="1876320"/>
            <a:chOff x="2895480" y="3762360"/>
            <a:chExt cx="2514600" cy="1876320"/>
          </a:xfrm>
        </p:grpSpPr>
        <p:sp>
          <p:nvSpPr>
            <p:cNvPr id="90" name=""/>
            <p:cNvSpPr/>
            <p:nvPr/>
          </p:nvSpPr>
          <p:spPr>
            <a:xfrm>
              <a:off x="2895480" y="495288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ster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038480" y="3762360"/>
              <a:ext cx="380880" cy="457200"/>
              <a:chOff x="4038480" y="3762360"/>
              <a:chExt cx="380880" cy="457200"/>
            </a:xfrm>
          </p:grpSpPr>
          <p:sp>
            <p:nvSpPr>
              <p:cNvPr id="92" name=""/>
              <p:cNvSpPr/>
              <p:nvPr/>
            </p:nvSpPr>
            <p:spPr>
              <a:xfrm>
                <a:off x="4233600" y="376236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38480" y="399096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224240" y="43243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1840" y="400536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5680" y="3995640"/>
              <a:ext cx="53352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29040" y="5883120"/>
            <a:ext cx="593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lect optimal set of flight legs from master flight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sign fleet types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4CB-E6CC-4AA8-A70D-A60E37E77E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5D7C9-AE08-4208-B110-B4C7A6864A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1240" y="990720"/>
            <a:ext cx="2361960" cy="1828800"/>
            <a:chOff x="4251240" y="990720"/>
            <a:chExt cx="2361960" cy="1828800"/>
          </a:xfrm>
        </p:grpSpPr>
        <p:sp>
          <p:nvSpPr>
            <p:cNvPr id="100" name=""/>
            <p:cNvSpPr/>
            <p:nvPr/>
          </p:nvSpPr>
          <p:spPr>
            <a:xfrm>
              <a:off x="425124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600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32480" y="1295280"/>
            <a:ext cx="1600200" cy="381240"/>
            <a:chOff x="4632480" y="1295280"/>
            <a:chExt cx="1600200" cy="381240"/>
          </a:xfrm>
        </p:grpSpPr>
        <p:sp>
          <p:nvSpPr>
            <p:cNvPr id="103" name=""/>
            <p:cNvSpPr/>
            <p:nvPr/>
          </p:nvSpPr>
          <p:spPr>
            <a:xfrm>
              <a:off x="4632480" y="1295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8800" y="16765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32480" y="2057400"/>
            <a:ext cx="1600200" cy="380880"/>
            <a:chOff x="4632480" y="2057400"/>
            <a:chExt cx="1600200" cy="380880"/>
          </a:xfrm>
        </p:grpSpPr>
        <p:sp>
          <p:nvSpPr>
            <p:cNvPr id="106" name=""/>
            <p:cNvSpPr/>
            <p:nvPr/>
          </p:nvSpPr>
          <p:spPr>
            <a:xfrm>
              <a:off x="4708800" y="20574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32480" y="2438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27160" y="1447920"/>
            <a:ext cx="2186280" cy="1114560"/>
            <a:chOff x="1127160" y="1447920"/>
            <a:chExt cx="2186280" cy="1114560"/>
          </a:xfrm>
        </p:grpSpPr>
        <p:sp>
          <p:nvSpPr>
            <p:cNvPr id="109" name=""/>
            <p:cNvSpPr/>
            <p:nvPr/>
          </p:nvSpPr>
          <p:spPr>
            <a:xfrm>
              <a:off x="1127160" y="14479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7960" y="19810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251240" y="2935440"/>
            <a:ext cx="2361960" cy="1828800"/>
            <a:chOff x="4251240" y="2935440"/>
            <a:chExt cx="2361960" cy="1828800"/>
          </a:xfrm>
        </p:grpSpPr>
        <p:sp>
          <p:nvSpPr>
            <p:cNvPr id="112" name=""/>
            <p:cNvSpPr/>
            <p:nvPr/>
          </p:nvSpPr>
          <p:spPr>
            <a:xfrm>
              <a:off x="425124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600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32120" y="324000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8440" y="362124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08440" y="4230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336840" y="874800"/>
            <a:ext cx="2352600" cy="1642320"/>
            <a:chOff x="3336840" y="874800"/>
            <a:chExt cx="2352600" cy="1642320"/>
          </a:xfrm>
        </p:grpSpPr>
        <p:sp>
          <p:nvSpPr>
            <p:cNvPr id="118" name=""/>
            <p:cNvSpPr/>
            <p:nvPr/>
          </p:nvSpPr>
          <p:spPr>
            <a:xfrm>
              <a:off x="5076720" y="8748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720" y="1255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92560" y="1636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92560" y="2057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6840" y="1523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66680" y="3352680"/>
            <a:ext cx="2186280" cy="1114920"/>
            <a:chOff x="1066680" y="3352680"/>
            <a:chExt cx="2186280" cy="1114920"/>
          </a:xfrm>
        </p:grpSpPr>
        <p:sp>
          <p:nvSpPr>
            <p:cNvPr id="124" name=""/>
            <p:cNvSpPr/>
            <p:nvPr/>
          </p:nvSpPr>
          <p:spPr>
            <a:xfrm>
              <a:off x="1066680" y="335268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3920" y="38862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1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127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5334120"/>
            <a:ext cx="2186280" cy="1190880"/>
            <a:chOff x="1143000" y="5334120"/>
            <a:chExt cx="2186280" cy="1190880"/>
          </a:xfrm>
        </p:grpSpPr>
        <p:sp>
          <p:nvSpPr>
            <p:cNvPr id="132" name=""/>
            <p:cNvSpPr/>
            <p:nvPr/>
          </p:nvSpPr>
          <p:spPr>
            <a:xfrm>
              <a:off x="1143000" y="53341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3920" y="59436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352680" y="4761000"/>
            <a:ext cx="2336760" cy="1106280"/>
            <a:chOff x="3352680" y="4761000"/>
            <a:chExt cx="2336760" cy="1106280"/>
          </a:xfrm>
        </p:grpSpPr>
        <p:sp>
          <p:nvSpPr>
            <p:cNvPr id="135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2560" y="51418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2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54100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781680" y="1828800"/>
            <a:ext cx="990360" cy="1981080"/>
            <a:chOff x="6781680" y="1828800"/>
            <a:chExt cx="990360" cy="1981080"/>
          </a:xfrm>
        </p:grpSpPr>
        <p:sp>
          <p:nvSpPr>
            <p:cNvPr id="139" name=""/>
            <p:cNvSpPr/>
            <p:nvPr/>
          </p:nvSpPr>
          <p:spPr>
            <a:xfrm>
              <a:off x="6781680" y="182880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81680" y="182880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143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90760" y="1828800"/>
            <a:ext cx="2023200" cy="4953960"/>
            <a:chOff x="6890760" y="1828800"/>
            <a:chExt cx="2023200" cy="4953960"/>
          </a:xfrm>
        </p:grpSpPr>
        <p:grpSp>
          <p:nvGrpSpPr>
            <p:cNvPr id="148" name=""/>
            <p:cNvGrpSpPr/>
            <p:nvPr/>
          </p:nvGrpSpPr>
          <p:grpSpPr>
            <a:xfrm>
              <a:off x="7772400" y="1828800"/>
              <a:ext cx="990720" cy="3962520"/>
              <a:chOff x="7772400" y="1828800"/>
              <a:chExt cx="990720" cy="3962520"/>
            </a:xfrm>
          </p:grpSpPr>
          <p:sp>
            <p:nvSpPr>
              <p:cNvPr id="149" name=""/>
              <p:cNvSpPr/>
              <p:nvPr/>
            </p:nvSpPr>
            <p:spPr>
              <a:xfrm>
                <a:off x="7772400" y="57913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48720" y="1828800"/>
                <a:ext cx="914400" cy="3962520"/>
              </a:xfrm>
              <a:prstGeom prst="downArrow">
                <a:avLst>
                  <a:gd name="adj1" fmla="val 50000"/>
                  <a:gd name="adj2" fmla="val 108337"/>
                </a:avLst>
              </a:prstGeom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72400" y="18288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890760" y="5835600"/>
              <a:ext cx="202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on-Linea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terac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1C7-3863-4709-9971-43F940C837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4CB22-0EC7-4011-BF9A-913F060EF9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Constant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Constant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 Schedule Design and Fleet Assignment Model (I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recapture mechanism to adjust demand approximate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3B9-C519-4C8C-BA37-6DB883EB3F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8A664-F189-42DC-B9DA-35CEDAC4D7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2-06T16:13:15Z</dcterms:modified>
  <cp:revision>460</cp:revision>
  <dc:subject/>
  <dc:title>Thesis Proposal Meeting</dc:title>
</cp:coreProperties>
</file>