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289-580E-4401-8CD3-20ED7EF8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1BA-8116-4286-AFC6-60F8ECDC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C8F-9213-4CB4-9C37-1152A145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011-7211-4568-A96B-6AB5A002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AF3-FABB-4559-AE98-F262F35E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6E6-B40F-4EBA-8956-1C26B092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254-9D1C-4E9A-AFA3-F01C47C2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BC4-0F9D-4593-A935-777A2C93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242-9BC5-4396-8426-22C1D4EB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CEBC-3F9F-4735-8213-8BE01B47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4A2-98A0-4EED-9924-3D53480C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6AD-0473-4A63-B254-2384DD51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3626-5649-467D-B281-D36FA89D9FC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BA8E-7458-4E70-949E-2884AD11E5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Quantitative Share Index or Quality of Service Index (QSI):  Defin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1360" y="222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ative Share Index or Quality of Service Index (QS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QSI for each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each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airlin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m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 a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all airlin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equal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all market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529-A35C-45EF-9711-F1FCD37CB6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A0D5D-0DCF-4D45-9320-FB3C50C42F2E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rket Sha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rket share of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the su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rket share of the competitors of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1 –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 this a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D28-5878-45ED-A015-B60DC50483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45C27-0953-4B62-B8CE-9B0324C495F6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aptur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0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 passenger who desires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t is redirected (spilled) to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assenger has the choice of accepting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not (going to a competito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ability that passenger will accep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given an uniform distribution) is the ratio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bability that passenger will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p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given an uniform distribution) is the ratio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atios sum to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a monopoly, recapture rate will equal 1.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91A-6847-4D47-942A-108BD72941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9B0FF-4B84-4C68-A96B-7B938175B364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apture Calc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apture rates for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probability that a passenger spilled from I will accept a seat on J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f one ex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SI mechanism for computing recapture ra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60760" y="4222800"/>
                <a:ext cx="3619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c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794-E2F9-4BDD-B2E4-EC23496533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D05E4-4993-424D-A904-1B65661B1239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 with Recap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2489040" y="5619600"/>
            <a:ext cx="53352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3480" y="5619600"/>
            <a:ext cx="53316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6240" y="525780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22560" y="5605560"/>
            <a:ext cx="2560680" cy="25056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2560" y="5929200"/>
            <a:ext cx="2573280" cy="23508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4920" y="49719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,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3080" y="53150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300,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96960" y="57722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,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8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apture ra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4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5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5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all itineraries have a single fare class, and their fares are all equ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al solu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I to J, Spill _____ from I to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J to I, Spill _____ from J to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K to I, Spill _____ from K to 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81480" y="36576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33720" y="4114800"/>
            <a:ext cx="5331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00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29200" y="4114800"/>
            <a:ext cx="457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5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8280" y="45720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81480" y="45720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25F-61D1-48D1-AE06-DF1610ABE2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B78AF-D06C-4F59-B4D9-358F8EFA58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thematical Model: 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the number of passengers that desire travel on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then travel on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s an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verage fare for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daily unconstrained demand for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apacity on flight leg 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capture rate of a passenger desiring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who is offered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22360" y="5543640"/>
                <a:ext cx="6095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flight leg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on itinerary </m:t>
                              </m:r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28680" y="2286000"/>
                <a:ext cx="2858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930240" y="3772080"/>
                <a:ext cx="782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914400" y="4114800"/>
                <a:ext cx="6094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14400" y="4457880"/>
                <a:ext cx="8128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4743360"/>
                <a:ext cx="260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A2E-492E-4740-A839-0B72EA3E72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3A281-2B1E-4531-BF2A-77CE4996BE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asi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6880" y="1314360"/>
                <a:ext cx="8490240" cy="41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imize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are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ubject to:</m:t>
                          </m:r>
                        </m:e>
                        <m:e/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  <m:r>
                            <m:t xml:space="preserve">≤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L</m:t>
                          </m:r>
                        </m:e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den>
                              </m:f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6AA-7CBC-4EAD-964A-55DA1448D5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57FE4-FA28-4739-92A4-1DBB41058B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5845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CA9-5E4A-4A58-9496-97E59C1261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7E0F1-1F82-4265-A275-BF61C14E05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5845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F9E-5FF5-47A8-AB72-2DA5704AAE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16ABF-3209-4916-90A9-2D453F6824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659480" cy="48006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FDA-D1EC-4290-864C-A0EDD04389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5C8B7-9F07-46EC-B9DB-A7D331F42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Passenger Mix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s and Exten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9FB-A2BB-406B-9FC7-60770154CE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A48BD-E6F1-4A63-8B4E-4A2F050A6D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: 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C23-75E7-40D5-98C4-2F4E91D932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3D4EE-0DD7-4FFC-8364-EC5A5535B4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most passengers flow along their desired itine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which passengers the airline would like to redirect on other itinera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ecision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number of passengers who desire travel on itinerary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but the airline attempts to redirect onto the itinerary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unconstrained demand on flight leg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03160" y="4191120"/>
                <a:ext cx="728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24000" y="5327640"/>
                <a:ext cx="241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87520" y="5886360"/>
                <a:ext cx="29955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806-79B4-46F2-AC97-3D3BFFAF0C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636E1-F63E-4AB4-8BBA-E047D85451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2120" y="1428840"/>
                <a:ext cx="7619760" cy="33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are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  <m:sup>
                                          <m:r>
                                            <m:t xml:space="preserve">r</m:t>
                                          </m:r>
                                        </m:sup>
                                      </m:sSubSup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are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e>
                                  </m:d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: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</m:e>
                              </m:nary>
                            </m:e>
                          </m:nary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≥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L</m:t>
                          </m:r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  <m:e/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29400" y="5562720"/>
                <a:ext cx="16732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¹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4875120" y="4952880"/>
            <a:ext cx="266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nge of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952880"/>
            <a:ext cx="3429000" cy="160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046-7A75-482E-B04E-CC91AAE517B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7EC94-B503-4ED6-A108-9CE8843B62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enefit of 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w minimizing the objective function and most of the objective coefficients are __________.  Therefore, this will guide the decision variables to values of __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this hel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6200" y="2743200"/>
            <a:ext cx="144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sitiv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5740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E64-9D7D-419F-9FBD-8DB0578CAE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D0D22-1362-4937-8832-A7A9EFCFB7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Proced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th Column Generation and 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ual flow of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1- Define RMP for Iteration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et k =1.  Denote an initial subset of columns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which is to be us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2- Solve RMP for Iteration 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olve a problem with the subset of column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3- Generate R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Determine if any constraints are violated and express them explicitly in the constraint matr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4- Generate Colum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Price some of the remaining columns, and add a group (A*) that have a reduced cost less than zero, i.e.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|A*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5- Test Optima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f no columns or rows are added, terminate.  Otherwise, k =k+1, go to Step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3CE-B9E0-4307-AD0D-AABDF03185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1BC1B-4CBF-4D87-BF9B-1E0F33F4A1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a large number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 number of itineraries in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of them aren’t going to be consid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columns by explicit enumeration and “pricing out”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88B-9840-43CF-A267-AC760E72FD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FB718-83B7-4E27-B1D6-22C6A1535C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ing Reduc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educed cost of a column i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    is the non-negative dual cost associated with flight le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      is the non-negative dual cost associated with itiner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187280" y="2400480"/>
                <a:ext cx="67708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r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33720" y="335268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867280" y="3962520"/>
                <a:ext cx="609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B27-31D7-4A22-B6A3-1534016810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3C34A-F7E2-4E43-B15D-FA690EDEFE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ving the Pricing Problem (Column Generation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the column generation step be accomplished by solving shortest paths on a network with “modified” arc costs, or some other polynomial time algorith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nt:  Think about far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implications of the answer to this ques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273-3942-482E-8C16-BF29668128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333DE-6FC2-48C2-BEB3-2AB184A0B403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Experienc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United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 of Markets -15,67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 of Itineraries - 60,21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imum number of legs in an itinerary- 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imum number of itineraries in a market- 6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network (# of flights)-  2,03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PLEX, we solved the above problem in roughly 100 seconds, generating just over 100,000 columns and 4,100+ ro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293-E29E-430A-B99C-3EF100AB149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1B761-E3C6-4DAC-BB4D-AA158401D2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s:  Irregular Opera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flights are cancelled or delay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ssenger itineraries are cancel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ssenger reassignments to alternative itineraries necessa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ight schedule and fleet assignments (capacity) are kn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bjective might be to minimize total delays or to minimize the maximum delay beyond schedul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are recapture rates affected by this scenari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ould the passenger-mix model have to be altered for this scenari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D98-42BB-4ECD-941B-F1D7668FBA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4D556-3514-4E5B-8B6A-247F94114F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me Basic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 origin-destination airport pair, between which passengers wish to fly one-w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-ORD and ORD-BOS are differ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ine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pecific sequence of flight legs on which a passenger travels from their ultimate origin to their ultimate dest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re C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ent prices for the same travel service, usually distinguished from one another by the set of restrictions imposed by the air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F64-2C0D-4068-B609-48BB33CF3A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A0C25-F3F3-4B3C-AA96-C36CAF1954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tensions:  Yield Manag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the passenger mix problem be used as a tool for yield managemen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issu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istic vs. stochast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quence of requ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mall demands (i.e., quality of dat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ws the expected makeup of seat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kes into account the probability of recapturing spilled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ves ideas of itineraries that should be bloc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ual prices might give us ideas for contributions, or displacement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803-10E7-453B-AE1F-EB323BB251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136E0-02E9-4F49-A081-0B497EB8F2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tensions: Fleet Assign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be explained in the next lecture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515-3FBD-40A6-896F-2ADF4771AB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53FC0-EBBD-42F0-877A-FC493226E9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me More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that are denied booking due to capacity restri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a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that are recaptured back to the airline after being spilled from another flight l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8C1-581A-44B0-AE25-F5EAFDD5E7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51FAD-D314-403E-ABE3-83D4101B71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blem Descrip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airline’s fligh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nconstrained demand for all itineraries over the airline’s fligh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ize revenues by intelligently spilling passengers that are either low fare or will most likely fly another itinerary (recaptu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quivalent to minimize the total spill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D08-029A-4730-852A-DED67E7D1F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30F1A-37CB-4529-9BE3-182035286D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"/>
          <p:cNvSpPr/>
          <p:nvPr/>
        </p:nvSpPr>
        <p:spPr>
          <a:xfrm>
            <a:off x="2489040" y="5105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13480" y="51055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46240" y="474336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22560" y="5091120"/>
            <a:ext cx="2560680" cy="25092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22560" y="5415120"/>
            <a:ext cx="2573280" cy="23472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51160" y="43624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4760" y="474336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72040" y="5200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market, 3 itiner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constrained demand per itiner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demand for an itinerary when the number of seats is unlimi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48A-F7D5-4151-86A7-74BF980C0F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CE3BF-3582-4C64-A68F-BB51D48DA0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 with Capacity Constrain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"/>
          <p:cNvSpPr/>
          <p:nvPr/>
        </p:nvSpPr>
        <p:spPr>
          <a:xfrm>
            <a:off x="4622760" y="4648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46840" y="4648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79960" y="428616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56280" y="4633920"/>
            <a:ext cx="2560680" cy="25092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6280" y="4957920"/>
            <a:ext cx="2573280" cy="23472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4520" y="3886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,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4160" y="46483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200,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840" y="5257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,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market, 3 itiner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I = 15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J = 17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K = 1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sol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90920" y="411480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90920" y="502920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09680" y="4572000"/>
            <a:ext cx="314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5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8B8-4814-462C-92D4-A1CECA228E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EE2B2-7FE2-4DF2-B227-486F4CE291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enue Management:  A Quick Loo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flight l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105, LGA-ORD, 287 seats avail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fare class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: High fare, no restri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: Low fare, many restri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for Flight 1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 class: 95 with an average fare of $4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 class:  225 with an average fare of $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al Spill Solution (     Y and      M passenger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venue:  $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ill:  $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487692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486400" y="4876920"/>
            <a:ext cx="314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3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8120" y="5334120"/>
            <a:ext cx="2133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95*400 + 192*100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66880" y="5867280"/>
            <a:ext cx="914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3*100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273-8E10-4F22-8136-0E2A907D14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F4EA2-23C0-4A87-8E8E-733619274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Revenue Manag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105, LGA-ORD, 287 se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201, ORD-SFO, 287 se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(one fare clas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ORD, 225 passengers $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D-SFO, 150 passengers $15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SFO, 150 passengers, $22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al Solution:  $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ORD,          passeng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D-SFO,        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SFO,        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114800" y="4400640"/>
            <a:ext cx="2819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*100+150*150+137*225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8120" y="4705200"/>
            <a:ext cx="5331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971800" y="516240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71800" y="561960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37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2D4-5406-4A58-91C6-FA49599FEC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0C10F-D7E1-4089-86AA-D7DE7DC3CF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54:55Z</dcterms:modified>
  <cp:revision>413</cp:revision>
  <dc:subject/>
  <dc:title>Thesis Proposal Meeting</dc:title>
</cp:coreProperties>
</file>