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378D76-1093-4803-9835-9545C54AD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1FFA98-4C69-494B-BC55-6F6EE4C2C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09720" y="434304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2D071E-43C9-49CD-8D5D-A8A00B008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C167F5-5FF4-48D5-A90B-DEAFC4662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600BD1-2497-4489-ACC6-C6D03E19D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447-9013-458B-AA3B-F5564B99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1A7-6810-4B9C-A30C-813E0156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252-E8ED-44FF-9244-84A583A0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859-34F7-4CDE-9727-0F45EC39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771-1FA8-42DA-B808-DE0F2B58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825-CD5E-484D-8749-177712CF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4317-39EF-48A9-BA97-834852C7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321D-5646-4E3C-B9F9-CAB54E12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3B2-C4D5-45D5-B1F5-A9CFB3E7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EAC-BE3D-431A-BAEE-2AC6B50D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3623-45B7-4192-A9C7-846325E3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1FF-6A11-492F-BC94-3FE5F1F9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B8C3-EE87-4F18-82EF-72279B60ED7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1EB2-6B54-46FE-A856-866CF7D781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odifi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Reduced cost for path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r,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=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p(k)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p(k)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=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 /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Let modified cost for arc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ij an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k  =  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duced cost is non-negative for all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ariables if the modified cost of pa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quals or exceeds the modified cost of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(k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ss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/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F17-406F-4DC1-AAA8-752F422771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58BF1-665D-4711-AEF5-BB2F735DFAC7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- A Price Directive Decompo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"/>
          <p:cNvSpPr/>
          <p:nvPr/>
        </p:nvSpPr>
        <p:spPr>
          <a:xfrm>
            <a:off x="1177920" y="2590920"/>
            <a:ext cx="1549440" cy="284292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49600" y="2590920"/>
            <a:ext cx="2109600" cy="284292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2590920"/>
            <a:ext cx="4124520" cy="2842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140000">
            <a:off x="-765360" y="3659400"/>
            <a:ext cx="290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1905120"/>
            <a:ext cx="450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illions/Billions of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68360" y="4292640"/>
            <a:ext cx="24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ook Antiqua"/>
              </a:rPr>
              <a:t>Never Consid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080000">
            <a:off x="1551960" y="4603320"/>
            <a:ext cx="81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140000">
            <a:off x="3225240" y="4622400"/>
            <a:ext cx="99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d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Master Problem (R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284-DDD8-4392-9186-ED12A173597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91CC3-91E3-48E4-82B1-E54F267E8D26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 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1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estricted Master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RMP) with subset of all variables (colum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2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if any variables when added to the RMP can improve the objective function value (that is, if any variables have negative reduced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:  If variables are identified in Step 2, add them to the RMP and return to Step 1; otherwise ST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C9B6-D969-4FD5-A5D0-7D4B237407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6A23E-E1E0-427C-A01F-8868557D5FAB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ptimal (non-negative) duals for the current restricted master problem and the key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icing problem, 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, letting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C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quivalentl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 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 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hortest path problem for commodity k (with modified arc costs).  If min 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C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then the original problem is solved, else add column corresponding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the master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B67-CA12-420B-A632-008D9B3451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388FA-63F4-43D5-B185-E10402E2E4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828800"/>
          <a:ext cx="131065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0" y="10666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2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4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3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7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4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8 (** denotes keypa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486400"/>
            <a:ext cx="773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E:  Gray columns not included in keypath formulation; purple elements are initial keypath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1C91-81F8-4B6B-AAF6-B6F1EC699D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D9503-9F3E-4473-B1E1-365A8C706FB1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752480"/>
          <a:ext cx="131065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131065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33520" y="5105520"/>
            <a:ext cx="773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teration:  no columns price out, one constraint for commodity 3 is violated and added; and the problem is resolved– feasibility and optimality achie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0666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2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4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3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7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4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8 (** denotes keypa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5E9C-6D2D-4BBE-9D25-173509F95C2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9450D-4D7A-42FA-AA4B-D42FEADD053A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303800" cy="50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F6FA-8506-4F0B-8955-C547595FAA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40822-2E0F-4E2E-A35F-84D04C7669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4238640" cy="49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3293-2CE4-4CD1-AD43-3A8E86DBBFF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F76FB-7AA8-466D-8A40-9A417293D5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2666880" cy="6095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54360" y="228600"/>
            <a:ext cx="6138720" cy="632448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57A-9780-4723-AE10-C0D8EB1EF9B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0F3B5-CA5D-4757-9D00-2428F1EAF0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: 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94360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35B-77B3-48FF-88AF-3B6D635B5E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C86F2-CD34-413F-826C-532A5A4968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commodity Network Flows: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 Keypath Formul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 formulation for multi-commodity flow problems revisi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ypath form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ypath solution algorith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w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DDF-3E0C-4A0F-B7FF-3872500D66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AE1EE-C8B8-488E-B5E5-C0F67D70A8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Benefit of 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w minimizing the objective function and most of the objective coefficients are __________.  Therefore, this will guide the decision variables to values of __________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es this help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6200" y="2743200"/>
            <a:ext cx="1447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ositiv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057400" y="373392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D93-46E0-4AF6-A1CE-92A76ABA28F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CD4C7-91FE-4695-AA05-6935A78266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ution Proced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1136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Both Column Generation and Row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ual flow of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1- Define RMP for Iteration 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et k =1.  Denote an initial subset of columns 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which is to be use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2- Solve RMP for Iteration 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olve a problem with the subset of columns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3- Generate Row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Determine if any constraints are violated and express them explicitly in the constraint matri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4- Generate Colum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Price some of the remaining columns, and add a group (A*) that have a reduced cost less than zero, i.e.,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|A*]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5- Test Optimalit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If no columns or rows are added, terminate.  Otherwise, k =k+1, go to Step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1CCD-B0BC-4EB2-971B-C99BF986061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DF0F2-8C93-4A11-87D0-AD28C2E963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able redefini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relaxation of constraints and subsequent (limited) cut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es not alter the pricing problem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9440" indent="-2124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ortest paths with modified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problems with many commodities, as well as a large underlying network, to be solved with limited memory requir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2C90-64F4-4835-B945-39067BC5610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6BA66-8D8F-4F8A-BA7E-048F1FC8C3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th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network ar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:  set of all network no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capacity on arc ij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quantity of commodity k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 set of all paths for commodity k, for all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02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arameters (cont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path p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:  = 1 if path p contains arc ij; and = 0 otherw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assigned to path 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CB3-CC7B-4D38-A3CD-EE558C38667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F7695-F1E5-4793-B0FC-D151D6A311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Path Formulat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Revisi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8DA-C20B-4A04-BAA8-0ED4C046D3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8F60B-EE6A-44B0-9113-35DDE34FAFBE}" type="datetime5">
              <a:rPr lang="en-US"/>
              <a:t>Jul 30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ath formulation for MCF problems can be recast equivalently as follow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gn all flow of commod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a selected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lled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eypath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commod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ten the keypath is the minimum cost path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esulting flow assignment is often infeasibl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08576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or more arc capacity constraints are viola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the resulting flows are feasible and the keypaths are minimum cost, the flow assignment is optim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lve a linear programming formulation to minimize the cost of adjusting flows to achieve feasibi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ow adjustments involve removing flow o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om its key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placing it on alternative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’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D4D-3ACE-45F2-80C5-9008A7574E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0F4A6-C67E-4619-ABB5-8B5B566023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Keypath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: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keypath for commod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otal initial (flow assigned to keypaths) on ar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ij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; change in cost when one unit of commodity k is shifted from key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(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o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(Note: typically non-negative i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(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has minimum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removed from key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to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FE5-7136-4A69-A3A5-1F6FFCDD2F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3E5D0-A357-4426-880D-129D44E720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0" y="1790640"/>
                <a:ext cx="9144000" cy="408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K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sSup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t xml:space="preserve">k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r</m:t>
                                              </m:r>
                                            </m:sup>
                                          </m:sSup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:</m:t>
                          </m:r>
                        </m:e>
                        <m:e/>
                        <m:e/>
                        <m:e/>
                      </m:mr>
                      <m:mr>
                        <m:e/>
                        <m:e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K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r>
                                    <m:t xml:space="preserve">+</m:t>
                                  </m:r>
                                </m:e>
                              </m:nary>
                            </m:e>
                          </m:nary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K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/>
                        <m:e>
                          <m:r>
                            <m:t xml:space="preserve"> 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>
                          <m:r>
                            <m:t xml:space="preserve">∀</m:t>
                          </m:r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sSup>
                                <m:e>
                                  <m:r>
                                    <m:t xml:space="preserve">P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sub>
                            <m:sup/>
                            <m:e>
                              <m:sSubSup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sub>
                                <m:sup>
                                  <m:r>
                                    <m:t xml:space="preserve">r</m:t>
                                  </m:r>
                                </m:sup>
                              </m:sSubSup>
                              <m:r>
                                <m:t xml:space="preserve">1</m:t>
                              </m:r>
                            </m:e>
                          </m:nary>
                        </m:e>
                        <m:e>
                          <m:r>
                            <m:t xml:space="preserve">∀</m:t>
                          </m:r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K</m:t>
                          </m:r>
                        </m:e>
                        <m:e/>
                      </m:mr>
                      <m:mr>
                        <m:e/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</m:sSubSup>
                          <m:r>
                            <m:t xml:space="preserve">0</m:t>
                          </m:r>
                        </m:e>
                        <m:e>
                          <m:r>
                            <m:t xml:space="preserve">∀</m:t>
                          </m:r>
                          <m:r>
                            <m:t xml:space="preserve">r</m:t>
                          </m:r>
                          <m:r>
                            <m:t xml:space="preserve">∈</m:t>
                          </m:r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e>
                        <m:e>
                          <m:r>
                            <m:t xml:space="preserve">∀</m:t>
                          </m:r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K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1A2-09B4-43E2-86F2-08C7FAA2F00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0BD68-B83A-4D64-977F-29E38189FD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ssociated Dual Variab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u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the dual variable associated with the bundle constraint for arc ij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 the dual variable associated with the commodity constraints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conomic Interpre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value of an additional unit of capacity on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minimal cost to remove an additional unit of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rom its keypath and place on another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493-03C1-4828-BA80-31BD4079FE6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B0EA8-6539-47F4-AE80-D141FA8167EE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ptimality Conditions for the Path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re optimal for all k and all ij if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al feasibility is satisfied (reduced cost is non-negative for a minimization proble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2476-CBDA-4D3F-B1BA-F4FCC1A1FD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72D3F-2A57-46F1-92BC-64B7353DC36A}" type="datetime5">
              <a:rPr lang="en-US"/>
              <a:t>Jul 30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45:25Z</dcterms:modified>
  <cp:revision>408</cp:revision>
  <dc:subject/>
  <dc:title>Thesis Proposal Meeting</dc:title>
</cp:coreProperties>
</file>