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58D3-958F-4445-B503-60DEC7B87212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429D-8849-405E-A22E-DED7D5405D1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0CA1-0469-46DB-8F39-4FB71C976D6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7E8B-67F4-47E5-83F4-77FB4C55912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6276-9EE3-4D82-B317-4AE4B56406D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45B3-7FA4-4D8D-BA2A-9393FDD74C2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3432-1A03-409F-9842-F16D3FDE4F1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C4ED-C035-4CF0-9B7A-7B6BB4CA20A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CCD8-398E-46FE-A661-A088D546986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506C-9717-4816-965E-9CE2E6FD5FE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2FD8-0DCA-440A-9559-5209F3050DF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D61A-F49F-4DA9-9183-C4BB9BA05B0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0A5B-1CA7-4AEB-8212-D50ABEB349E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5093-84A3-4742-8D60-B8DC1272ECC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3B54-3D63-4854-84E8-21ED11EFB03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9EFD-C07E-480B-961D-A24CCC64DD2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A25F-F06C-4958-91C9-1FEE2531C8E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0E8-30DF-4AB6-9BB8-C3054F3D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A807-7AAF-406F-9413-9EE33EB6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B40-52A0-49BE-A98E-3D0A77F4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C5D-BD41-42A2-8979-1143CAB2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C237-4338-4086-92AE-A46C55A9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E45-8347-426A-A649-EC04168C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827-AAFD-487F-8EE0-AFC9088B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3DFD-B2AC-4359-9BBE-EE03B142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4472-ABAC-4FCA-A185-F0179F0F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035-CB4B-4E65-BDD6-A4F27548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ADC-8490-42E7-B847-42C2CE16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4FB-DFFF-4A22-93AF-527B7493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7623-A69D-4637-81D0-710E6EC7C1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ycle Canceling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B2AA-8BAB-45E7-ACA2-0674DEF431B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4B86-3F8A-48F2-9076-6E26A4CC278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3276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342900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37"/>
          <p:cNvSpPr/>
          <p:nvPr/>
        </p:nvSpPr>
        <p:spPr>
          <a:xfrm>
            <a:off x="3809880" y="2209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38098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6172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533412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3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A31D-19C6-4DFD-8AB1-DA620E7281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DD34-DBE4-4C10-8640-70778146CE4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6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FC44-8279-4427-A2F3-AD5983A3F3E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1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3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36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Text Box 37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Text Box 41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42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43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5"/>
          <p:cNvSpPr/>
          <p:nvPr/>
        </p:nvSpPr>
        <p:spPr>
          <a:xfrm>
            <a:off x="55627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46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Line 4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Line 49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Line 50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7994-5FE4-414D-8609-82605810284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Oval 7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11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Line 1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C1D9-971B-4AE3-B1B4-94A69A4A49E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6D64-B953-4B4B-A92C-76F5948256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34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35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Text Box 36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37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38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39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43"/>
          <p:cNvSpPr/>
          <p:nvPr/>
        </p:nvSpPr>
        <p:spPr>
          <a:xfrm>
            <a:off x="533520" y="358128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44"/>
          <p:cNvSpPr/>
          <p:nvPr/>
        </p:nvSpPr>
        <p:spPr>
          <a:xfrm>
            <a:off x="533520" y="5257800"/>
            <a:ext cx="46479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  But what is the pro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9962-323D-4EC9-984E-A9892CFD45C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shortest distanc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2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Text Box 20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Text Box 21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Text Box 23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24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25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26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7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28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9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0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31"/>
          <p:cNvSpPr/>
          <p:nvPr/>
        </p:nvSpPr>
        <p:spPr>
          <a:xfrm>
            <a:off x="533520" y="3581280"/>
            <a:ext cx="28954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(j) be the shortest path distance from node 1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32"/>
          <p:cNvSpPr/>
          <p:nvPr/>
        </p:nvSpPr>
        <p:spPr>
          <a:xfrm>
            <a:off x="609480" y="556272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 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-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9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Line 41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42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Line 43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609480" y="609588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compute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CEFB-03B7-4C17-94DC-5FA1040DC05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38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0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1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43"/>
          <p:cNvSpPr/>
          <p:nvPr/>
        </p:nvSpPr>
        <p:spPr>
          <a:xfrm>
            <a:off x="53341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44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Text Box 45"/>
          <p:cNvSpPr/>
          <p:nvPr/>
        </p:nvSpPr>
        <p:spPr>
          <a:xfrm>
            <a:off x="4572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46"/>
          <p:cNvSpPr/>
          <p:nvPr/>
        </p:nvSpPr>
        <p:spPr>
          <a:xfrm>
            <a:off x="3200400" y="1981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52578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35812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49"/>
          <p:cNvSpPr/>
          <p:nvPr/>
        </p:nvSpPr>
        <p:spPr>
          <a:xfrm>
            <a:off x="63244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50"/>
          <p:cNvSpPr/>
          <p:nvPr/>
        </p:nvSpPr>
        <p:spPr>
          <a:xfrm>
            <a:off x="69343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51"/>
          <p:cNvSpPr/>
          <p:nvPr/>
        </p:nvSpPr>
        <p:spPr>
          <a:xfrm>
            <a:off x="3733920" y="2324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52"/>
          <p:cNvSpPr/>
          <p:nvPr/>
        </p:nvSpPr>
        <p:spPr>
          <a:xfrm>
            <a:off x="5257800" y="114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53"/>
          <p:cNvSpPr/>
          <p:nvPr/>
        </p:nvSpPr>
        <p:spPr>
          <a:xfrm>
            <a:off x="53341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54"/>
          <p:cNvSpPr/>
          <p:nvPr/>
        </p:nvSpPr>
        <p:spPr>
          <a:xfrm>
            <a:off x="380880" y="3857760"/>
            <a:ext cx="289584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reduced costs in G(x*) for the optimal flow x* are all non-nega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175B-C727-4563-9B00-9B087B17483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 $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487692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1814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96252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3200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 $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2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D547-1164-465F-9D23-4889446ACEC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Feasible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Oval 81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82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83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84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Oval 85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92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96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99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00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01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102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Line 103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106"/>
          <p:cNvSpPr/>
          <p:nvPr/>
        </p:nvSpPr>
        <p:spPr>
          <a:xfrm>
            <a:off x="56386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107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108"/>
          <p:cNvSpPr/>
          <p:nvPr/>
        </p:nvSpPr>
        <p:spPr>
          <a:xfrm>
            <a:off x="44956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109"/>
          <p:cNvSpPr/>
          <p:nvPr/>
        </p:nvSpPr>
        <p:spPr>
          <a:xfrm>
            <a:off x="28954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110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111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12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114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Text Box 115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Text Box 116"/>
          <p:cNvSpPr/>
          <p:nvPr/>
        </p:nvSpPr>
        <p:spPr>
          <a:xfrm>
            <a:off x="380880" y="38862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easible flow can be found by solving a max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117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AC7E-2F58-4181-A007-BF58B0775F1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Line 32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41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AF31-E967-4B74-B187-2BBF716D7FB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54100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34290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40384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38"/>
          <p:cNvSpPr/>
          <p:nvPr/>
        </p:nvSpPr>
        <p:spPr>
          <a:xfrm>
            <a:off x="5867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53341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8168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533412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46483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4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46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F921-683D-40A8-BB61-02F94F91DDA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B905-9F34-4D26-B92D-7D4E5EFB794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6949-0AE1-4F33-9A01-F239DEA57B4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54100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56386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34290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3276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36576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57913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55627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67057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Text Box 42"/>
          <p:cNvSpPr/>
          <p:nvPr/>
        </p:nvSpPr>
        <p:spPr>
          <a:xfrm>
            <a:off x="525780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Text Box 43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Text Box 44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9BDA-9100-49E1-A00F-1EC156C52FC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32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3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34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38"/>
          <p:cNvSpPr/>
          <p:nvPr/>
        </p:nvSpPr>
        <p:spPr>
          <a:xfrm>
            <a:off x="54100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39"/>
          <p:cNvSpPr/>
          <p:nvPr/>
        </p:nvSpPr>
        <p:spPr>
          <a:xfrm>
            <a:off x="67816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0"/>
          <p:cNvSpPr/>
          <p:nvPr/>
        </p:nvSpPr>
        <p:spPr>
          <a:xfrm>
            <a:off x="53341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8:30:5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20Z</dcterms:modified>
  <cp:revision>30</cp:revision>
  <dc:subject/>
  <dc:title>15.082        Spring 1998</dc:title>
</cp:coreProperties>
</file>