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D6DB4E9-2FDA-45B6-A84A-3D3E5E04DBEF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C5DF705-9239-48D5-975A-C196D644A55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15BEE2C-C282-43C0-87C5-E373892DB948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02F-E681-4631-9A23-1B613F81B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7FF3-E556-4D26-B001-6F59B37E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8EB-2F40-4DC1-AB77-7A3833B7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C1C-B277-4E8C-B6A3-63390F6D1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22F1-4093-4204-9314-FC5A485D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6DCC-325F-44CF-8106-797E7EF0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EE50-BBCF-40FE-A65A-20B1515A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5BB-7F2C-4575-8A43-68B89492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84D4-2424-4BA0-A5A7-B0F2ABC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2943-619A-407F-88E2-84FA34FB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37EC-0659-488E-AAA5-F2CF70B5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FF2B-FF43-4DA9-B25A-333475B3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9A8D-65F5-4A98-BB31-B5EDE336C83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%5CAnimations%5CModified%20Label%20Correcting%20Algorithm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Animations%5CLabel%20Correcting%20Algorithm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eptember 30, 2010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Label Correct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1644-060C-4961-8AB2-11B02B55F6B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data are not required to be integr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is still finite, but one needs to use a different proo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there is a negative cost cycle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may no longer be finit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y, d(j) keeps decreasing t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can stop when d(j) &lt; -nC since this guarantee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B684-45FF-48D9-8485-8D2D4C0A89C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ng finiteness is OK, but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make the algorithm polynomial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o, what is the best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implement it efficiently in pract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5B6E-5D9F-4AC2-A4E9-9591223E0C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olynomial Time Version of the Label Correcting Algorith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sist of scanning all arcs in A, and updating distance labels when d(j) &gt;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We permit the arcs to be scanned in any ord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there is no negative cost cycle, then the label correcting algorithm determines the shortest path distances after at most n-1 passes.  The running time is O(nm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follows from this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a shortest walk from node i to node j.  (If there are multiple shortest walks, choose one with the fewest number of arcs.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be the value d(j) after k p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d*(j) i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t most k arc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E7AC-5CBC-4EF0-AFD2-89CD1E865A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304920" y="3809880"/>
            <a:ext cx="8001000" cy="160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te:  if there are no negative cost cycles, the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will also be a path.  If there is a negative cost cycle containing node j, then there is no shortest walk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Group 40"/>
          <p:cNvGrpSpPr/>
          <p:nvPr/>
        </p:nvGrpSpPr>
        <p:grpSpPr>
          <a:xfrm>
            <a:off x="152280" y="5468760"/>
            <a:ext cx="7543800" cy="1084320"/>
            <a:chOff x="152280" y="5468760"/>
            <a:chExt cx="7543800" cy="1084320"/>
          </a:xfrm>
        </p:grpSpPr>
        <p:sp>
          <p:nvSpPr>
            <p:cNvPr id="190" name="Oval 64"/>
            <p:cNvSpPr/>
            <p:nvPr/>
          </p:nvSpPr>
          <p:spPr>
            <a:xfrm>
              <a:off x="1522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>
              <a:off x="601992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>
              <a:off x="72388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609480" y="632448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548640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5" name="Group 72"/>
            <p:cNvGrpSpPr/>
            <p:nvPr/>
          </p:nvGrpSpPr>
          <p:grpSpPr>
            <a:xfrm>
              <a:off x="1371240" y="6248160"/>
              <a:ext cx="761760" cy="152280"/>
              <a:chOff x="1371240" y="6248160"/>
              <a:chExt cx="761760" cy="152280"/>
            </a:xfrm>
          </p:grpSpPr>
          <p:sp>
            <p:nvSpPr>
              <p:cNvPr id="196" name="Oval 69"/>
              <p:cNvSpPr/>
              <p:nvPr/>
            </p:nvSpPr>
            <p:spPr>
              <a:xfrm>
                <a:off x="137124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Oval 70"/>
              <p:cNvSpPr/>
              <p:nvPr/>
            </p:nvSpPr>
            <p:spPr>
              <a:xfrm>
                <a:off x="167580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Oval 71"/>
              <p:cNvSpPr/>
              <p:nvPr/>
            </p:nvSpPr>
            <p:spPr>
              <a:xfrm>
                <a:off x="198072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Line 73"/>
            <p:cNvSpPr/>
            <p:nvPr/>
          </p:nvSpPr>
          <p:spPr>
            <a:xfrm>
              <a:off x="6477120" y="6324480"/>
              <a:ext cx="761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320040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68"/>
            <p:cNvSpPr/>
            <p:nvPr/>
          </p:nvSpPr>
          <p:spPr>
            <a:xfrm>
              <a:off x="373356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2" name="Group 72"/>
            <p:cNvGrpSpPr/>
            <p:nvPr/>
          </p:nvGrpSpPr>
          <p:grpSpPr>
            <a:xfrm>
              <a:off x="4495680" y="6248160"/>
              <a:ext cx="761760" cy="152280"/>
              <a:chOff x="4495680" y="6248160"/>
              <a:chExt cx="761760" cy="152280"/>
            </a:xfrm>
          </p:grpSpPr>
          <p:sp>
            <p:nvSpPr>
              <p:cNvPr id="203" name="Oval 69"/>
              <p:cNvSpPr/>
              <p:nvPr/>
            </p:nvSpPr>
            <p:spPr>
              <a:xfrm>
                <a:off x="449568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Oval 70"/>
              <p:cNvSpPr/>
              <p:nvPr/>
            </p:nvSpPr>
            <p:spPr>
              <a:xfrm>
                <a:off x="480024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Oval 71"/>
              <p:cNvSpPr/>
              <p:nvPr/>
            </p:nvSpPr>
            <p:spPr>
              <a:xfrm>
                <a:off x="510516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73"/>
            <p:cNvSpPr/>
            <p:nvPr/>
          </p:nvSpPr>
          <p:spPr>
            <a:xfrm>
              <a:off x="2438280" y="6324480"/>
              <a:ext cx="761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572640" y="5468760"/>
              <a:ext cx="3843720" cy="6436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357B-03ED-41D3-BDB2-C5A1D6F393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show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d*(j) whenever that shortest path from 1 to j  has at most k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33520" y="6019920"/>
            <a:ext cx="723888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pass k,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k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04920" y="1905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.  If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(1, j) the lemma is 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304920" y="2738520"/>
            <a:ext cx="883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&gt; 1, and assume that the result is true for paths of length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- 1.  Let i be the predecessor of node j o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 Then the subpath from 1 to i is a shortest path to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7162920" y="1905120"/>
            <a:ext cx="1523880" cy="457200"/>
            <a:chOff x="7162920" y="1905120"/>
            <a:chExt cx="1523880" cy="457200"/>
          </a:xfrm>
        </p:grpSpPr>
        <p:sp>
          <p:nvSpPr>
            <p:cNvPr id="215" name="Oval 64"/>
            <p:cNvSpPr/>
            <p:nvPr/>
          </p:nvSpPr>
          <p:spPr>
            <a:xfrm>
              <a:off x="716292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66"/>
            <p:cNvSpPr/>
            <p:nvPr/>
          </p:nvSpPr>
          <p:spPr>
            <a:xfrm>
              <a:off x="822960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67"/>
            <p:cNvSpPr/>
            <p:nvPr/>
          </p:nvSpPr>
          <p:spPr>
            <a:xfrm>
              <a:off x="7620120" y="213372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Group 32"/>
          <p:cNvGrpSpPr/>
          <p:nvPr/>
        </p:nvGrpSpPr>
        <p:grpSpPr>
          <a:xfrm>
            <a:off x="1066680" y="4110120"/>
            <a:ext cx="5029200" cy="1424880"/>
            <a:chOff x="1066680" y="4110120"/>
            <a:chExt cx="5029200" cy="1424880"/>
          </a:xfrm>
        </p:grpSpPr>
        <p:grpSp>
          <p:nvGrpSpPr>
            <p:cNvPr id="219" name="Group 34"/>
            <p:cNvGrpSpPr/>
            <p:nvPr/>
          </p:nvGrpSpPr>
          <p:grpSpPr>
            <a:xfrm>
              <a:off x="1142640" y="4110120"/>
              <a:ext cx="4876560" cy="1424880"/>
              <a:chOff x="1142640" y="4110120"/>
              <a:chExt cx="4876560" cy="1424880"/>
            </a:xfrm>
          </p:grpSpPr>
          <p:grpSp>
            <p:nvGrpSpPr>
              <p:cNvPr id="220" name="Group 79"/>
              <p:cNvGrpSpPr/>
              <p:nvPr/>
            </p:nvGrpSpPr>
            <p:grpSpPr>
              <a:xfrm>
                <a:off x="1294920" y="4567320"/>
                <a:ext cx="4724280" cy="457200"/>
                <a:chOff x="1294920" y="4567320"/>
                <a:chExt cx="4724280" cy="457200"/>
              </a:xfrm>
            </p:grpSpPr>
            <p:sp>
              <p:nvSpPr>
                <p:cNvPr id="221" name="Oval 64"/>
                <p:cNvSpPr/>
                <p:nvPr/>
              </p:nvSpPr>
              <p:spPr>
                <a:xfrm>
                  <a:off x="129492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65"/>
                <p:cNvSpPr/>
                <p:nvPr/>
              </p:nvSpPr>
              <p:spPr>
                <a:xfrm>
                  <a:off x="434304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66"/>
                <p:cNvSpPr/>
                <p:nvPr/>
              </p:nvSpPr>
              <p:spPr>
                <a:xfrm>
                  <a:off x="556200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>
                  <a:off x="17521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38095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72"/>
                <p:cNvGrpSpPr/>
                <p:nvPr/>
              </p:nvGrpSpPr>
              <p:grpSpPr>
                <a:xfrm>
                  <a:off x="2666520" y="4719600"/>
                  <a:ext cx="761760" cy="152280"/>
                  <a:chOff x="2666520" y="4719600"/>
                  <a:chExt cx="761760" cy="152280"/>
                </a:xfrm>
              </p:grpSpPr>
              <p:sp>
                <p:nvSpPr>
                  <p:cNvPr id="227" name="Oval 69"/>
                  <p:cNvSpPr/>
                  <p:nvPr/>
                </p:nvSpPr>
                <p:spPr>
                  <a:xfrm>
                    <a:off x="266652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Oval 70"/>
                  <p:cNvSpPr/>
                  <p:nvPr/>
                </p:nvSpPr>
                <p:spPr>
                  <a:xfrm>
                    <a:off x="2971080" y="47196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71"/>
                  <p:cNvSpPr/>
                  <p:nvPr/>
                </p:nvSpPr>
                <p:spPr>
                  <a:xfrm>
                    <a:off x="327600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Line 73"/>
                <p:cNvSpPr/>
                <p:nvPr/>
              </p:nvSpPr>
              <p:spPr>
                <a:xfrm>
                  <a:off x="4800240" y="47959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Freeform 74"/>
              <p:cNvSpPr/>
              <p:nvPr/>
            </p:nvSpPr>
            <p:spPr>
              <a:xfrm>
                <a:off x="1142640" y="50248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Text Box 75"/>
              <p:cNvSpPr/>
              <p:nvPr/>
            </p:nvSpPr>
            <p:spPr>
              <a:xfrm>
                <a:off x="2666520" y="5024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Text Box 75"/>
              <p:cNvSpPr/>
              <p:nvPr/>
            </p:nvSpPr>
            <p:spPr>
              <a:xfrm>
                <a:off x="3580920" y="411012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4" name="Freeform 74"/>
            <p:cNvSpPr/>
            <p:nvPr/>
          </p:nvSpPr>
          <p:spPr>
            <a:xfrm flipV="1">
              <a:off x="1066680" y="41101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25BA-2156-4D48-AF79-46AE35472F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re is a negative cost cycl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-th pass, there is no update, then the algorithm has found the shortest path dist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th pass, there is an update, then there must be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04920" y="114768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China, what is another (English) name for white te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iled wa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imately how many Americans eat at McDonalds on a given 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ound 20 mill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was Diet Coke inven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1143000"/>
            <a:ext cx="8458200" cy="5105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4"/>
          <p:cNvSpPr/>
          <p:nvPr/>
        </p:nvSpPr>
        <p:spPr>
          <a:xfrm>
            <a:off x="304920" y="99072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nuts are the most cultivated and extensively used nuts in the wor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monds.   They were also the first to be cultiv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pomolog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udy of fru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M &amp; Ms are sold every day in the U.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ximately 200 million.  M &amp; Ms were named after their inventors, Forrest Mars and Bruce Murray.  They were developed for the U.S. Army so that soldiers could eat candy without getting sticky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F9AA-B5C9-45CE-A66B-0EB1F310FD5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n we speed this up in practic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d(i) is not decreased in one pass, then there is no need to scan arcs out of i at the next p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0880" y="3505320"/>
            <a:ext cx="8534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ST of nodes j  that need to be scanned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decreased, then add j to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iteration:  select a node i from LIST 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 each (i, 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 A(i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: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red(j) := i and LIST := LIST ∪ {j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" name="Group 20"/>
          <p:cNvGrpSpPr/>
          <p:nvPr/>
        </p:nvGrpSpPr>
        <p:grpSpPr>
          <a:xfrm>
            <a:off x="228600" y="2133720"/>
            <a:ext cx="4876560" cy="1297800"/>
            <a:chOff x="228600" y="2133720"/>
            <a:chExt cx="4876560" cy="1297800"/>
          </a:xfrm>
        </p:grpSpPr>
        <p:grpSp>
          <p:nvGrpSpPr>
            <p:cNvPr id="249" name="Group 6"/>
            <p:cNvGrpSpPr/>
            <p:nvPr/>
          </p:nvGrpSpPr>
          <p:grpSpPr>
            <a:xfrm>
              <a:off x="380880" y="2133720"/>
              <a:ext cx="4724280" cy="457200"/>
              <a:chOff x="380880" y="2133720"/>
              <a:chExt cx="4724280" cy="45720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3808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342900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464796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8380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28954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Group 12"/>
              <p:cNvGrpSpPr/>
              <p:nvPr/>
            </p:nvGrpSpPr>
            <p:grpSpPr>
              <a:xfrm>
                <a:off x="1752480" y="2286000"/>
                <a:ext cx="761760" cy="152280"/>
                <a:chOff x="1752480" y="2286000"/>
                <a:chExt cx="761760" cy="152280"/>
              </a:xfrm>
            </p:grpSpPr>
            <p:sp>
              <p:nvSpPr>
                <p:cNvPr id="256" name="Oval 13"/>
                <p:cNvSpPr/>
                <p:nvPr/>
              </p:nvSpPr>
              <p:spPr>
                <a:xfrm>
                  <a:off x="175248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4"/>
                <p:cNvSpPr/>
                <p:nvPr/>
              </p:nvSpPr>
              <p:spPr>
                <a:xfrm>
                  <a:off x="2057040" y="228600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5"/>
                <p:cNvSpPr/>
                <p:nvPr/>
              </p:nvSpPr>
              <p:spPr>
                <a:xfrm>
                  <a:off x="236196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Line 16"/>
              <p:cNvSpPr/>
              <p:nvPr/>
            </p:nvSpPr>
            <p:spPr>
              <a:xfrm>
                <a:off x="3886200" y="2362320"/>
                <a:ext cx="7617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Freeform 17"/>
            <p:cNvSpPr/>
            <p:nvPr/>
          </p:nvSpPr>
          <p:spPr>
            <a:xfrm>
              <a:off x="228600" y="2438640"/>
              <a:ext cx="37335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2133360" y="2971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Text Box 19"/>
          <p:cNvSpPr/>
          <p:nvPr/>
        </p:nvSpPr>
        <p:spPr>
          <a:xfrm>
            <a:off x="5486400" y="1828800"/>
            <a:ext cx="342900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the end of pass k, and d(i) does not change during pass 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3B54-EA5F-446B-9C99-695F8EE6E85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dified Label Correct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gorithm  Modified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 pred(1) : 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∅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: =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e an element  i from LIS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each j such that d(j) decreases, add j to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>
            <a:hlinkClick r:id="rId1"/>
          </p:cNvPr>
          <p:cNvSpPr/>
          <p:nvPr/>
        </p:nvSpPr>
        <p:spPr>
          <a:xfrm>
            <a:off x="3048120" y="5486400"/>
            <a:ext cx="556236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ified Label Correcting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534E-C164-458C-AE97-2E73BC9CD64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lgorithm for solving shortest path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costs per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negative cost cycle (at least for no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duced cos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air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 G = (N, A) with costs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1 is the 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negative cost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relax that assumption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4B36-647B-45DC-8E09-8AF1B69BCF9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FO Imple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at LIST as a Queue.  Add nodes to the end of LIST and take nodes from the begin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reat LIST as a Stack.  Add nodes to the “top” of LIST, and delete the top node of LIST as well.  (Efficient in practice, but bad in the worst ca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 FIFO modified  label correcting algorithm finds the minimum length path from 1 to j  for all j in N  in O(nm) steps, or else show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Similar to proof of previous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FB2C-143A-4E57-9D9F-64EA1F390F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all pairs shortes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ijkstra’s algorithm is much fast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worst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label correc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 + n log nC) vs O(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olve the all pairs shortest path problem we will solve it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hortest path problem using label corr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 shortest path problems using Dijk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:  create an equivalent optimization problem with nonnegative arc leng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B5D3-B80F-4830-8DCE-DECA36042F9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  is any vector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potentia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         =  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uced co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path P, let c(P) denote the cost (or length) of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denote the reduced cost (or length) of 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;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∈P         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For any path P from node s to node t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c(P) 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6807240" y="3352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7240" y="3352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"/>
          <p:cNvGraphicFramePr/>
          <p:nvPr/>
        </p:nvGraphicFramePr>
        <p:xfrm>
          <a:off x="1473120" y="1371600"/>
          <a:ext cx="3556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137160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34A9-E926-4C90-941A-1AA9E2EB1E1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or any path P from node s to node t,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P) = c(P) -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+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728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When written as a summation, the terms in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) involving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some i all cancel, except for the term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erm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or fixed vect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ultipliers and for any pair of nodes s and t,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- c(P)  is a constant for every path P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shortest path P from s to t with respect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is also the shortest path with respect to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89"/>
          <p:cNvGrpSpPr/>
          <p:nvPr/>
        </p:nvGrpSpPr>
        <p:grpSpPr>
          <a:xfrm>
            <a:off x="1600200" y="5348160"/>
            <a:ext cx="5791320" cy="1320120"/>
            <a:chOff x="1600200" y="5348160"/>
            <a:chExt cx="5791320" cy="1320120"/>
          </a:xfrm>
        </p:grpSpPr>
        <p:sp>
          <p:nvSpPr>
            <p:cNvPr id="284" name="Oval 5"/>
            <p:cNvSpPr/>
            <p:nvPr/>
          </p:nvSpPr>
          <p:spPr>
            <a:xfrm>
              <a:off x="1631880" y="562140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048840" y="564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300348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4438800" y="560880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5657760" y="560880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691524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7086240" y="5653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Rectangle 57"/>
            <p:cNvSpPr/>
            <p:nvPr/>
          </p:nvSpPr>
          <p:spPr>
            <a:xfrm>
              <a:off x="57031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58"/>
            <p:cNvSpPr/>
            <p:nvPr/>
          </p:nvSpPr>
          <p:spPr>
            <a:xfrm>
              <a:off x="1766160" y="5678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5727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61"/>
            <p:cNvSpPr/>
            <p:nvPr/>
          </p:nvSpPr>
          <p:spPr>
            <a:xfrm>
              <a:off x="1981080" y="580536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62"/>
            <p:cNvSpPr/>
            <p:nvPr/>
          </p:nvSpPr>
          <p:spPr>
            <a:xfrm>
              <a:off x="3352680" y="580536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63"/>
            <p:cNvSpPr/>
            <p:nvPr/>
          </p:nvSpPr>
          <p:spPr>
            <a:xfrm>
              <a:off x="4800600" y="580536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64"/>
            <p:cNvSpPr/>
            <p:nvPr/>
          </p:nvSpPr>
          <p:spPr>
            <a:xfrm>
              <a:off x="6019920" y="580536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65"/>
            <p:cNvSpPr/>
            <p:nvPr/>
          </p:nvSpPr>
          <p:spPr>
            <a:xfrm>
              <a:off x="1752480" y="626256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66"/>
            <p:cNvSpPr/>
            <p:nvPr/>
          </p:nvSpPr>
          <p:spPr>
            <a:xfrm>
              <a:off x="3124080" y="59436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7"/>
            <p:cNvSpPr/>
            <p:nvPr/>
          </p:nvSpPr>
          <p:spPr>
            <a:xfrm>
              <a:off x="4419720" y="626256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8"/>
            <p:cNvSpPr/>
            <p:nvPr/>
          </p:nvSpPr>
          <p:spPr>
            <a:xfrm>
              <a:off x="5867280" y="60199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9"/>
            <p:cNvSpPr/>
            <p:nvPr/>
          </p:nvSpPr>
          <p:spPr>
            <a:xfrm>
              <a:off x="22096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70"/>
            <p:cNvSpPr/>
            <p:nvPr/>
          </p:nvSpPr>
          <p:spPr>
            <a:xfrm>
              <a:off x="35812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71"/>
            <p:cNvSpPr/>
            <p:nvPr/>
          </p:nvSpPr>
          <p:spPr>
            <a:xfrm>
              <a:off x="487692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72"/>
            <p:cNvSpPr/>
            <p:nvPr/>
          </p:nvSpPr>
          <p:spPr>
            <a:xfrm>
              <a:off x="617220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75"/>
            <p:cNvSpPr/>
            <p:nvPr/>
          </p:nvSpPr>
          <p:spPr>
            <a:xfrm>
              <a:off x="16002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85"/>
            <p:cNvSpPr/>
            <p:nvPr/>
          </p:nvSpPr>
          <p:spPr>
            <a:xfrm>
              <a:off x="29718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44197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87"/>
            <p:cNvSpPr/>
            <p:nvPr/>
          </p:nvSpPr>
          <p:spPr>
            <a:xfrm>
              <a:off x="563868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9343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7D5E-9259-4178-82FB-76D9EF3857B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sing reduced cos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d(j) denote the shortest path from node s to node j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New York"/>
              </a:rPr>
              <a:t>j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= -d(j) for all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1447920" y="4648320"/>
            <a:ext cx="5943600" cy="459720"/>
            <a:chOff x="1447920" y="4648320"/>
            <a:chExt cx="5943600" cy="459720"/>
          </a:xfrm>
        </p:grpSpPr>
        <p:sp>
          <p:nvSpPr>
            <p:cNvPr id="315" name="Text Box 40"/>
            <p:cNvSpPr/>
            <p:nvPr/>
          </p:nvSpPr>
          <p:spPr>
            <a:xfrm>
              <a:off x="14479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2743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41911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41044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7057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Group 89"/>
          <p:cNvGrpSpPr/>
          <p:nvPr/>
        </p:nvGrpSpPr>
        <p:grpSpPr>
          <a:xfrm>
            <a:off x="1371600" y="4952880"/>
            <a:ext cx="5791320" cy="1320120"/>
            <a:chOff x="1371600" y="4952880"/>
            <a:chExt cx="5791320" cy="1320120"/>
          </a:xfrm>
        </p:grpSpPr>
        <p:sp>
          <p:nvSpPr>
            <p:cNvPr id="321" name="Oval 5"/>
            <p:cNvSpPr/>
            <p:nvPr/>
          </p:nvSpPr>
          <p:spPr>
            <a:xfrm>
              <a:off x="1403280" y="522612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2820240" y="524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77488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8"/>
            <p:cNvSpPr/>
            <p:nvPr/>
          </p:nvSpPr>
          <p:spPr>
            <a:xfrm>
              <a:off x="4210200" y="521352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429160" y="521352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668664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857640" y="5257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Rectangle 57"/>
            <p:cNvSpPr/>
            <p:nvPr/>
          </p:nvSpPr>
          <p:spPr>
            <a:xfrm>
              <a:off x="54745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Rectangle 58"/>
            <p:cNvSpPr/>
            <p:nvPr/>
          </p:nvSpPr>
          <p:spPr>
            <a:xfrm>
              <a:off x="1537560" y="5283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60"/>
            <p:cNvSpPr/>
            <p:nvPr/>
          </p:nvSpPr>
          <p:spPr>
            <a:xfrm>
              <a:off x="43441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>
              <a:off x="1752480" y="5410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62"/>
            <p:cNvSpPr/>
            <p:nvPr/>
          </p:nvSpPr>
          <p:spPr>
            <a:xfrm>
              <a:off x="3124080" y="541008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63"/>
            <p:cNvSpPr/>
            <p:nvPr/>
          </p:nvSpPr>
          <p:spPr>
            <a:xfrm>
              <a:off x="4572000" y="541008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64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Text Box 65"/>
            <p:cNvSpPr/>
            <p:nvPr/>
          </p:nvSpPr>
          <p:spPr>
            <a:xfrm>
              <a:off x="1523880" y="586728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Text Box 66"/>
            <p:cNvSpPr/>
            <p:nvPr/>
          </p:nvSpPr>
          <p:spPr>
            <a:xfrm>
              <a:off x="2895480" y="554832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7"/>
            <p:cNvSpPr/>
            <p:nvPr/>
          </p:nvSpPr>
          <p:spPr>
            <a:xfrm>
              <a:off x="4191120" y="586728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8"/>
            <p:cNvSpPr/>
            <p:nvPr/>
          </p:nvSpPr>
          <p:spPr>
            <a:xfrm>
              <a:off x="5638680" y="562464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69"/>
            <p:cNvSpPr/>
            <p:nvPr/>
          </p:nvSpPr>
          <p:spPr>
            <a:xfrm>
              <a:off x="19810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70"/>
            <p:cNvSpPr/>
            <p:nvPr/>
          </p:nvSpPr>
          <p:spPr>
            <a:xfrm>
              <a:off x="33526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71"/>
            <p:cNvSpPr/>
            <p:nvPr/>
          </p:nvSpPr>
          <p:spPr>
            <a:xfrm>
              <a:off x="464832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72"/>
            <p:cNvSpPr/>
            <p:nvPr/>
          </p:nvSpPr>
          <p:spPr>
            <a:xfrm>
              <a:off x="594360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75"/>
            <p:cNvSpPr/>
            <p:nvPr/>
          </p:nvSpPr>
          <p:spPr>
            <a:xfrm>
              <a:off x="13716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85"/>
            <p:cNvSpPr/>
            <p:nvPr/>
          </p:nvSpPr>
          <p:spPr>
            <a:xfrm>
              <a:off x="27432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86"/>
            <p:cNvSpPr/>
            <p:nvPr/>
          </p:nvSpPr>
          <p:spPr>
            <a:xfrm>
              <a:off x="41911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7"/>
            <p:cNvSpPr/>
            <p:nvPr/>
          </p:nvSpPr>
          <p:spPr>
            <a:xfrm>
              <a:off x="541008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88"/>
            <p:cNvSpPr/>
            <p:nvPr/>
          </p:nvSpPr>
          <p:spPr>
            <a:xfrm>
              <a:off x="67057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Text Box 69"/>
          <p:cNvSpPr/>
          <p:nvPr/>
        </p:nvSpPr>
        <p:spPr>
          <a:xfrm>
            <a:off x="19810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342900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47242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69"/>
          <p:cNvSpPr/>
          <p:nvPr/>
        </p:nvSpPr>
        <p:spPr>
          <a:xfrm>
            <a:off x="601992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Group 77"/>
          <p:cNvGrpSpPr/>
          <p:nvPr/>
        </p:nvGrpSpPr>
        <p:grpSpPr>
          <a:xfrm>
            <a:off x="838080" y="2057400"/>
            <a:ext cx="5486400" cy="551160"/>
            <a:chOff x="838080" y="2057400"/>
            <a:chExt cx="5486400" cy="551160"/>
          </a:xfrm>
        </p:grpSpPr>
        <p:graphicFrame>
          <p:nvGraphicFramePr>
            <p:cNvPr id="353" name="Object 3"/>
            <p:cNvGraphicFramePr/>
            <p:nvPr/>
          </p:nvGraphicFramePr>
          <p:xfrm>
            <a:off x="1752480" y="2057400"/>
            <a:ext cx="35532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057400"/>
                      <a:ext cx="355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Box 75"/>
            <p:cNvSpPr/>
            <p:nvPr/>
          </p:nvSpPr>
          <p:spPr>
            <a:xfrm>
              <a:off x="838080" y="2057400"/>
              <a:ext cx="5486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hen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≥ 0 for all (i,j)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∈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6" name="Group 79"/>
          <p:cNvGrpSpPr/>
          <p:nvPr/>
        </p:nvGrpSpPr>
        <p:grpSpPr>
          <a:xfrm>
            <a:off x="380880" y="2819520"/>
            <a:ext cx="8153640" cy="1071360"/>
            <a:chOff x="380880" y="2819520"/>
            <a:chExt cx="8153640" cy="1071360"/>
          </a:xfrm>
        </p:grpSpPr>
        <p:graphicFrame>
          <p:nvGraphicFramePr>
            <p:cNvPr id="357" name="Object 2"/>
            <p:cNvGraphicFramePr/>
            <p:nvPr/>
          </p:nvGraphicFramePr>
          <p:xfrm>
            <a:off x="7585200" y="2819520"/>
            <a:ext cx="3394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5200" y="2819520"/>
                      <a:ext cx="3394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TextBox 76"/>
            <p:cNvSpPr/>
            <p:nvPr/>
          </p:nvSpPr>
          <p:spPr>
            <a:xfrm>
              <a:off x="380880" y="2819520"/>
              <a:ext cx="81536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of. 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d(j)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≤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d(i) + 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+ d(i) - d(j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≥ 0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≥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1F6A-10CB-45F1-88F6-F33D7F50542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all pair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.   Find the shortest path from node 1 to all other nodes.  Let d(j) denote the shortest path from 1 to j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.  Let 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-d(j)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.   For i = 2 to n, compute the shortest path from node i to all other nodes with respect to arc lengths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ning time using Radix Heaps**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for the first shortest pat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 + n log C) for each other shortest path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C) i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* One can choose a slightly faster appro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4FD7-86F8-4B50-ABB8-B6DDC9F972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tecting Negative Cost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1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op if  d(j) is sufficiently small, say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Run the FIFO modified label correcting algorithm, and stop after n p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3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the FIFO label correcting algorithm, and keep track of the number of arcs on the "path" from s to j.  If the number of arcs exceeds n-1, then qu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4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each iteration of the algorithm, each node j (except for the root) has a  a temporary label d(j) and a predecessor pred(j). 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decessor subgrap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onsists of the n-1 arcs {(pred(j),j) : j ≠ s}.  It should be a tree.  If it has a cycle, then the cost of the cycle will be negative, and the algorithm can termi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51F6-8BDB-41A1-8E7E-3179DEBCEE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601992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node except for node 1 has one predecessor.  The graph either is an in-tree or it ha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66"/>
          <p:cNvGrpSpPr/>
          <p:nvPr/>
        </p:nvGrpSpPr>
        <p:grpSpPr>
          <a:xfrm>
            <a:off x="609480" y="1828800"/>
            <a:ext cx="4800600" cy="2819520"/>
            <a:chOff x="609480" y="1828800"/>
            <a:chExt cx="4800600" cy="2819520"/>
          </a:xfrm>
        </p:grpSpPr>
        <p:sp>
          <p:nvSpPr>
            <p:cNvPr id="370" name="Oval 50"/>
            <p:cNvSpPr/>
            <p:nvPr/>
          </p:nvSpPr>
          <p:spPr>
            <a:xfrm>
              <a:off x="6094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51"/>
            <p:cNvSpPr/>
            <p:nvPr/>
          </p:nvSpPr>
          <p:spPr>
            <a:xfrm>
              <a:off x="16765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52"/>
            <p:cNvSpPr/>
            <p:nvPr/>
          </p:nvSpPr>
          <p:spPr>
            <a:xfrm>
              <a:off x="274320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3809880" y="1828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4876920" y="1828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3809880" y="4114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38098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Oval 57"/>
            <p:cNvSpPr/>
            <p:nvPr/>
          </p:nvSpPr>
          <p:spPr>
            <a:xfrm>
              <a:off x="48769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58"/>
            <p:cNvSpPr/>
            <p:nvPr/>
          </p:nvSpPr>
          <p:spPr>
            <a:xfrm flipH="1">
              <a:off x="114300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59"/>
            <p:cNvSpPr/>
            <p:nvPr/>
          </p:nvSpPr>
          <p:spPr>
            <a:xfrm flipH="1">
              <a:off x="220968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61"/>
            <p:cNvSpPr/>
            <p:nvPr/>
          </p:nvSpPr>
          <p:spPr>
            <a:xfrm flipH="1">
              <a:off x="4343040" y="3276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62"/>
            <p:cNvSpPr/>
            <p:nvPr/>
          </p:nvSpPr>
          <p:spPr>
            <a:xfrm>
              <a:off x="4114800" y="350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 flipH="1" flipV="1">
              <a:off x="3200040" y="3504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 flipH="1">
              <a:off x="3123720" y="228600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65"/>
            <p:cNvSpPr/>
            <p:nvPr/>
          </p:nvSpPr>
          <p:spPr>
            <a:xfrm flipH="1">
              <a:off x="4343400" y="2133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302C-A87B-4CFF-8EBD-90ED6A344D8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5867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4), and pred(5) :=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37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38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39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0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41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44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45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0A85-DDE8-492B-97FB-4D3BD5AABFB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5486400" y="1447920"/>
            <a:ext cx="350532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8) and pred(4) := 8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4-8-5-4 has negativ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29"/>
          <p:cNvSpPr/>
          <p:nvPr/>
        </p:nvSpPr>
        <p:spPr>
          <a:xfrm>
            <a:off x="5638680" y="3581280"/>
            <a:ext cx="3353040" cy="2073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 to Update(8), the following is tru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d(4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8) = d(5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4) &gt; d(8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304920" y="5807160"/>
            <a:ext cx="78483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find negative cost cycles, periodically check the predecessor subgraph to see if it contains a cyc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Oval 32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36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41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42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44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45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46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48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49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50"/>
          <p:cNvSpPr/>
          <p:nvPr/>
        </p:nvSpPr>
        <p:spPr>
          <a:xfrm>
            <a:off x="4267080" y="228600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760F-74A7-472A-9A5E-8CD0143B0EF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et d*(j) be the shortest path length from node 1 to node j, for each j.  Let d( ) be node labels with the following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  for j ≠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= 0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*(j) for each j.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4343400"/>
            <a:ext cx="7924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Let P be the shortest path from node 1 to nod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7FCD-4EA3-4FC9-B5C0-42FB3A4428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Optimality conditions for th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The label correcting algorithm.  Excellent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nm) in theory, using a FIFO implementation of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All pairs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Detecting negative cost cy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533520" y="685800"/>
            <a:ext cx="76197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7134-3910-4852-B0D2-9A0F63FE885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letion of the proof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f P = (1, j), then d(j) ≤ d(1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6"/>
          <p:cNvSpPr/>
          <p:nvPr/>
        </p:nvSpPr>
        <p:spPr>
          <a:xfrm>
            <a:off x="304920" y="190512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| &gt; 1, and assume that the result is true for paths of length |P| - 1.  Let i be the predecessor of node j on P, and let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be the subpath of P from 1 to i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533520" y="5029200"/>
            <a:ext cx="830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is the shortest path from node 1 to node i.  So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(i) ≤ d*(i) 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by inductive hypothesi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533520" y="60278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n, d(j) ≤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(P)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7010280" y="990720"/>
            <a:ext cx="1524240" cy="457200"/>
            <a:chOff x="7010280" y="990720"/>
            <a:chExt cx="1524240" cy="457200"/>
          </a:xfrm>
        </p:grpSpPr>
        <p:sp>
          <p:nvSpPr>
            <p:cNvPr id="106" name="Oval 64"/>
            <p:cNvSpPr/>
            <p:nvPr/>
          </p:nvSpPr>
          <p:spPr>
            <a:xfrm>
              <a:off x="701028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807732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7467480" y="121932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066680" y="3276720"/>
            <a:ext cx="5029200" cy="1424880"/>
            <a:chOff x="1066680" y="3276720"/>
            <a:chExt cx="5029200" cy="1424880"/>
          </a:xfrm>
        </p:grpSpPr>
        <p:grpSp>
          <p:nvGrpSpPr>
            <p:cNvPr id="110" name="Group 34"/>
            <p:cNvGrpSpPr/>
            <p:nvPr/>
          </p:nvGrpSpPr>
          <p:grpSpPr>
            <a:xfrm>
              <a:off x="1142640" y="3276720"/>
              <a:ext cx="4876560" cy="1424880"/>
              <a:chOff x="1142640" y="3276720"/>
              <a:chExt cx="4876560" cy="1424880"/>
            </a:xfrm>
          </p:grpSpPr>
          <p:grpSp>
            <p:nvGrpSpPr>
              <p:cNvPr id="111" name="Group 79"/>
              <p:cNvGrpSpPr/>
              <p:nvPr/>
            </p:nvGrpSpPr>
            <p:grpSpPr>
              <a:xfrm>
                <a:off x="1294920" y="3733920"/>
                <a:ext cx="4724280" cy="457200"/>
                <a:chOff x="1294920" y="3733920"/>
                <a:chExt cx="4724280" cy="457200"/>
              </a:xfrm>
            </p:grpSpPr>
            <p:sp>
              <p:nvSpPr>
                <p:cNvPr id="112" name="Oval 64"/>
                <p:cNvSpPr/>
                <p:nvPr/>
              </p:nvSpPr>
              <p:spPr>
                <a:xfrm>
                  <a:off x="129492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65"/>
                <p:cNvSpPr/>
                <p:nvPr/>
              </p:nvSpPr>
              <p:spPr>
                <a:xfrm>
                  <a:off x="434304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6"/>
                <p:cNvSpPr/>
                <p:nvPr/>
              </p:nvSpPr>
              <p:spPr>
                <a:xfrm>
                  <a:off x="556200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67"/>
                <p:cNvSpPr/>
                <p:nvPr/>
              </p:nvSpPr>
              <p:spPr>
                <a:xfrm>
                  <a:off x="17521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68"/>
                <p:cNvSpPr/>
                <p:nvPr/>
              </p:nvSpPr>
              <p:spPr>
                <a:xfrm>
                  <a:off x="38095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Group 72"/>
                <p:cNvGrpSpPr/>
                <p:nvPr/>
              </p:nvGrpSpPr>
              <p:grpSpPr>
                <a:xfrm>
                  <a:off x="2666520" y="3886200"/>
                  <a:ext cx="761760" cy="152280"/>
                  <a:chOff x="2666520" y="3886200"/>
                  <a:chExt cx="761760" cy="152280"/>
                </a:xfrm>
              </p:grpSpPr>
              <p:sp>
                <p:nvSpPr>
                  <p:cNvPr id="118" name="Oval 69"/>
                  <p:cNvSpPr/>
                  <p:nvPr/>
                </p:nvSpPr>
                <p:spPr>
                  <a:xfrm>
                    <a:off x="266652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Oval 70"/>
                  <p:cNvSpPr/>
                  <p:nvPr/>
                </p:nvSpPr>
                <p:spPr>
                  <a:xfrm>
                    <a:off x="2971080" y="38862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Oval 71"/>
                  <p:cNvSpPr/>
                  <p:nvPr/>
                </p:nvSpPr>
                <p:spPr>
                  <a:xfrm>
                    <a:off x="327600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Line 73"/>
                <p:cNvSpPr/>
                <p:nvPr/>
              </p:nvSpPr>
              <p:spPr>
                <a:xfrm>
                  <a:off x="4800240" y="39625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Freeform 74"/>
              <p:cNvSpPr/>
              <p:nvPr/>
            </p:nvSpPr>
            <p:spPr>
              <a:xfrm>
                <a:off x="1142640" y="41914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Text Box 75"/>
              <p:cNvSpPr/>
              <p:nvPr/>
            </p:nvSpPr>
            <p:spPr>
              <a:xfrm>
                <a:off x="2666520" y="41914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Text Box 75"/>
              <p:cNvSpPr/>
              <p:nvPr/>
            </p:nvSpPr>
            <p:spPr>
              <a:xfrm>
                <a:off x="3580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74"/>
            <p:cNvSpPr/>
            <p:nvPr/>
          </p:nvSpPr>
          <p:spPr>
            <a:xfrm flipV="1">
              <a:off x="1066680" y="32767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AC0E-F7B1-4EAE-9557-73C4F493817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Let d(1),  . . . , d(n)   satisfy the following properties for a directed graph G = (N,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 d(1)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 d(i)  is the length of some path from node 1 to node 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 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(i,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*(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previous lemm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d(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*(j) because d(j) is the length of some path from node 1 to node j.  Thus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F668-3AAF-48CA-B07B-A6227206623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“temporary distance labels”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teration, it is the length of a path (or walk) from 1 to j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end of the algorithm  d(j) is the minimum length of a path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Predecessor of j in the path of length d(j)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length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ABD-6557-43ED-9F89-BABE70F6716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880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gorithm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∞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ome arc (i,j) satisfies 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d(j) : =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/>
          </p:cNvPr>
          <p:cNvSpPr/>
          <p:nvPr/>
        </p:nvSpPr>
        <p:spPr>
          <a:xfrm>
            <a:off x="3276720" y="4419720"/>
            <a:ext cx="4343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bel correcting anim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Invaria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if d(j) &lt; ∞, then d(j) is the length of some walk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C4C2-F794-4CAF-9374-8E274CFDEB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2895480" y="228600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Oval 40"/>
          <p:cNvSpPr/>
          <p:nvPr/>
        </p:nvSpPr>
        <p:spPr>
          <a:xfrm>
            <a:off x="28954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Oval 41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828800" y="33526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276720" y="236232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 flipV="1">
            <a:off x="5029200" y="2514600"/>
            <a:ext cx="83808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114440" y="25909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286000" y="35053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32004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3276360" y="45720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2133720" y="3733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200400" y="2590920"/>
            <a:ext cx="7621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4267080" y="3505320"/>
            <a:ext cx="1447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50292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3809880" y="19810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5410080" y="259092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67080" y="2666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358128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743200" y="32004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876920" y="31240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51814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4495680" y="3809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3886200" y="4191120"/>
            <a:ext cx="53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33526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259092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Line 44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val 45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BD5E-8F37-4CD7-AC4C-37BD068E722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Suppose all data are integral, and that there are no negative cost cycles in the network. Then the label correcting algorithm ends after a finite number of steps with the optimal solu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correctnes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he algorithm invariant ensures tha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is the length of some walk from node 1 to node j.  If the algorithm terminates, then the distances satisfy the optimality conditions.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of of Finitenes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sider finite distance labels.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each iteration, d(j) decreases by at least one for some j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nC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*(j) &gt; -nC, where C = max (|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∈ A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, the number of iterations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52:22Z</dcterms:created>
  <dc:creator>Jim Orlin</dc:creator>
  <dc:description/>
  <dc:language>en-US</dc:language>
  <cp:lastModifiedBy>Sheenu Arora</cp:lastModifiedBy>
  <cp:lastPrinted>2010-09-29T19:21:33Z</cp:lastPrinted>
  <dcterms:modified xsi:type="dcterms:W3CDTF">2011-01-19T06:26:14Z</dcterms:modified>
  <cp:revision>46</cp:revision>
  <dc:subject/>
  <dc:title>15.082        Spring 1998</dc:title>
</cp:coreProperties>
</file>