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5F71-D77A-4E43-944F-E6D55C071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076C-A62B-42ED-894F-369C094D1F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4BE9-2E48-4177-B99D-34CB369C95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41A7-76F8-43C3-82E7-7FE98FFD19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1AB5-F249-4869-8B8C-54652D95C6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697F-4EBC-4BAF-86B1-745831E208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D6DD-357D-46BA-A778-9DFEE2D647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AEF9-28E1-4881-AC79-89F2D26B24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5B45-CE45-4645-8160-36B73E268D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3A26-4D1D-492D-99FD-761F0111B4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A205-F18C-4D28-90FC-34FC2EB5E4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F960-BE0C-4F9C-85B8-2161CCF772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18B6-0FB0-499D-AA39-D38CB089CA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1811-7E1B-491A-B3C9-5CE18275B0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C4B4-59DC-4778-A5D7-96B4AF51FB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29A2-04DD-47C3-90CE-39B5E9D6B1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A685-5F37-4D12-8D1C-051E8ED77F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5338-A1F2-4E94-9F72-6185EA1F5A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68DB-EEF3-4AAE-BD46-A0F066A60A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A66-FEEE-4974-BB43-52D7135E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5011-2B68-49B2-9F53-4383D202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D59-DCB8-45F5-9746-7A36D79F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1A1-7C71-4B79-A33B-581F8330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F12-C86B-482F-A9EB-3BD4C2AD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269-B4E4-4B86-A423-211E0FE9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140-CE0C-4F0F-97EC-C09689BD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0CB2-ABB1-4658-96E9-0F3243AD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DB8-47D1-4391-9B26-E423E017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EB6-194A-4B20-A4CB-12DABDA5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3D32-AC19-43E8-8F98-459BD005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738-C8C8-45CA-B29C-5B060478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8DB5-D21E-43F6-8CAB-8087E7C525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360" y="5719680"/>
            <a:ext cx="481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ease start Visual Paradigm-we’ll use it in class tod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o zip file to download-it’s on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based on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9840" cy="4773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67360" y="6019920"/>
            <a:ext cx="829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apper” legacy code: almost all allow Web services to be ad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a few Web services needed per legacy app to interface to 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ass diagram for application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214720" y="1600200"/>
            <a:ext cx="502416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091160" y="5715000"/>
            <a:ext cx="730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ilar classes for car rental, itinerary check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these methods in C#, similar to those on .aspx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 server and its tools handle db, xhtml, xml input/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65880" y="2057400"/>
            <a:ext cx="20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ributes f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0" name="Straight Arrow Connector 7"/>
          <p:cNvCxnSpPr/>
          <p:nvPr/>
        </p:nvCxnSpPr>
        <p:spPr>
          <a:xfrm flipV="1">
            <a:off x="1904760" y="2285280"/>
            <a:ext cx="1905480" cy="2293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1" name="Straight Arrow Connector 9"/>
          <p:cNvCxnSpPr/>
          <p:nvPr/>
        </p:nvCxnSpPr>
        <p:spPr>
          <a:xfrm>
            <a:off x="1295280" y="2819160"/>
            <a:ext cx="1067760" cy="10674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2" name="Straight Arrow Connector 10"/>
          <p:cNvCxnSpPr/>
          <p:nvPr/>
        </p:nvCxnSpPr>
        <p:spPr>
          <a:xfrm>
            <a:off x="1523880" y="2819520"/>
            <a:ext cx="3734640" cy="8388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3" name="TextBox 12"/>
          <p:cNvSpPr/>
          <p:nvPr/>
        </p:nvSpPr>
        <p:spPr>
          <a:xfrm>
            <a:off x="-11520" y="4495680"/>
            <a:ext cx="22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s/func 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UML/req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Straight Arrow Connector 13"/>
          <p:cNvCxnSpPr/>
          <p:nvPr/>
        </p:nvCxnSpPr>
        <p:spPr>
          <a:xfrm flipV="1">
            <a:off x="1904760" y="2819160"/>
            <a:ext cx="2362680" cy="17532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5" name="Straight Arrow Connector 15"/>
          <p:cNvCxnSpPr/>
          <p:nvPr/>
        </p:nvCxnSpPr>
        <p:spPr>
          <a:xfrm>
            <a:off x="2057040" y="4876560"/>
            <a:ext cx="610200" cy="1530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6" name="Straight Arrow Connector 19"/>
          <p:cNvCxnSpPr/>
          <p:nvPr/>
        </p:nvCxnSpPr>
        <p:spPr>
          <a:xfrm>
            <a:off x="2133360" y="4800600"/>
            <a:ext cx="3429720" cy="766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7" name="Straight Arrow Connector 7"/>
          <p:cNvCxnSpPr/>
          <p:nvPr/>
        </p:nvCxnSpPr>
        <p:spPr>
          <a:xfrm flipH="1">
            <a:off x="5714640" y="1904040"/>
            <a:ext cx="1829520" cy="11437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8" name="TextBox 5"/>
          <p:cNvSpPr/>
          <p:nvPr/>
        </p:nvSpPr>
        <p:spPr>
          <a:xfrm>
            <a:off x="7193880" y="1523880"/>
            <a:ext cx="20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to-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ship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greg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work interface architecture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include the hardware and the software that runs on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chitecture components at server e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0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0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03848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971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464832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400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37160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048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724280" y="48769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477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7543800" y="5791320"/>
            <a:ext cx="1219320" cy="7617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a 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4952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4952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4952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133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213372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705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4"/>
          <p:cNvSpPr/>
          <p:nvPr/>
        </p:nvSpPr>
        <p:spPr>
          <a:xfrm flipH="1">
            <a:off x="3809520" y="2209680"/>
            <a:ext cx="114300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3809880" y="2057400"/>
            <a:ext cx="114300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678168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380988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190512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1905120" y="380988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3"/>
          <p:cNvSpPr/>
          <p:nvPr/>
        </p:nvSpPr>
        <p:spPr>
          <a:xfrm>
            <a:off x="731520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7"/>
          <p:cNvSpPr/>
          <p:nvPr/>
        </p:nvSpPr>
        <p:spPr>
          <a:xfrm>
            <a:off x="190512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1"/>
          <p:cNvSpPr/>
          <p:nvPr/>
        </p:nvSpPr>
        <p:spPr>
          <a:xfrm>
            <a:off x="38098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5"/>
          <p:cNvSpPr/>
          <p:nvPr/>
        </p:nvSpPr>
        <p:spPr>
          <a:xfrm>
            <a:off x="54100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49"/>
          <p:cNvSpPr/>
          <p:nvPr/>
        </p:nvSpPr>
        <p:spPr>
          <a:xfrm>
            <a:off x="731520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53"/>
          <p:cNvSpPr/>
          <p:nvPr/>
        </p:nvSpPr>
        <p:spPr>
          <a:xfrm>
            <a:off x="190512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57"/>
          <p:cNvSpPr/>
          <p:nvPr/>
        </p:nvSpPr>
        <p:spPr>
          <a:xfrm>
            <a:off x="38098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61"/>
          <p:cNvSpPr/>
          <p:nvPr/>
        </p:nvSpPr>
        <p:spPr>
          <a:xfrm>
            <a:off x="54100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5"/>
          <p:cNvSpPr/>
          <p:nvPr/>
        </p:nvSpPr>
        <p:spPr>
          <a:xfrm>
            <a:off x="7315200" y="53341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9"/>
          <p:cNvSpPr/>
          <p:nvPr/>
        </p:nvSpPr>
        <p:spPr>
          <a:xfrm rot="16215000">
            <a:off x="-228240" y="441900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70"/>
          <p:cNvSpPr/>
          <p:nvPr/>
        </p:nvSpPr>
        <p:spPr>
          <a:xfrm rot="16215000">
            <a:off x="7848360" y="434304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71"/>
          <p:cNvSpPr/>
          <p:nvPr/>
        </p:nvSpPr>
        <p:spPr>
          <a:xfrm>
            <a:off x="2971800" y="1066680"/>
            <a:ext cx="289548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2"/>
          <p:cNvSpPr/>
          <p:nvPr/>
        </p:nvSpPr>
        <p:spPr>
          <a:xfrm flipH="1">
            <a:off x="2209680" y="1447920"/>
            <a:ext cx="91440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73"/>
          <p:cNvSpPr/>
          <p:nvPr/>
        </p:nvSpPr>
        <p:spPr>
          <a:xfrm>
            <a:off x="5638680" y="1447920"/>
            <a:ext cx="106704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75"/>
          <p:cNvSpPr/>
          <p:nvPr/>
        </p:nvSpPr>
        <p:spPr>
          <a:xfrm>
            <a:off x="3809880" y="205740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76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77"/>
          <p:cNvSpPr/>
          <p:nvPr/>
        </p:nvSpPr>
        <p:spPr>
          <a:xfrm>
            <a:off x="3809880" y="33526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78"/>
          <p:cNvSpPr/>
          <p:nvPr/>
        </p:nvSpPr>
        <p:spPr>
          <a:xfrm>
            <a:off x="38098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9"/>
          <p:cNvSpPr/>
          <p:nvPr/>
        </p:nvSpPr>
        <p:spPr>
          <a:xfrm>
            <a:off x="54100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80"/>
          <p:cNvSpPr/>
          <p:nvPr/>
        </p:nvSpPr>
        <p:spPr>
          <a:xfrm>
            <a:off x="1905120" y="466740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81"/>
          <p:cNvSpPr/>
          <p:nvPr/>
        </p:nvSpPr>
        <p:spPr>
          <a:xfrm>
            <a:off x="1905120" y="5562720"/>
            <a:ext cx="63244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2"/>
          <p:cNvSpPr/>
          <p:nvPr/>
        </p:nvSpPr>
        <p:spPr>
          <a:xfrm>
            <a:off x="8229600" y="5562720"/>
            <a:ext cx="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84"/>
          <p:cNvSpPr/>
          <p:nvPr/>
        </p:nvSpPr>
        <p:spPr>
          <a:xfrm>
            <a:off x="137160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85"/>
          <p:cNvSpPr/>
          <p:nvPr/>
        </p:nvSpPr>
        <p:spPr>
          <a:xfrm>
            <a:off x="304812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86"/>
          <p:cNvSpPr/>
          <p:nvPr/>
        </p:nvSpPr>
        <p:spPr>
          <a:xfrm>
            <a:off x="4724280" y="57913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6400800" y="5791320"/>
            <a:ext cx="99072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90"/>
          <p:cNvSpPr/>
          <p:nvPr/>
        </p:nvSpPr>
        <p:spPr>
          <a:xfrm>
            <a:off x="7422120" y="6496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00s of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91"/>
          <p:cNvSpPr/>
          <p:nvPr/>
        </p:nvSpPr>
        <p:spPr>
          <a:xfrm>
            <a:off x="6858000" y="55627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ystemArchitecture"/>
          <p:cNvPicPr/>
          <p:nvPr/>
        </p:nvPicPr>
        <p:blipFill>
          <a:blip r:embed="rId1"/>
          <a:stretch/>
        </p:blipFill>
        <p:spPr>
          <a:xfrm>
            <a:off x="1808280" y="1143000"/>
            <a:ext cx="5659200" cy="54864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6400800" y="1143000"/>
            <a:ext cx="10666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ple example of system hardwar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uter, firewall, load balanc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 routes IP (TCP/IP and UDP/IP)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table: send packet to local machine or to another 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 examines all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s IP address,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racts contents from all Internet protocols if suspici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 sends HTTP packets to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lances based on HTTP header: client IP, cooki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nexpensive servers function as singl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new servers, sites without interruption to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er, app server, database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(HTTP)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HTTP requests and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s and writes XML and XHT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of it as a pre-written main program with many pre-written components for common ta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Web pages/XML, read/write from db easi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ed from UML use cases, sequence diagrams: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der entry, receiving, shipping, payment, engineering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istent storage of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ing of data across applications and organ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sitory of business rules, within database and to guide XML document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ree tier architec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478240" y="1027080"/>
            <a:ext cx="47242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client (browser/ap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478240" y="24750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(HTTP ser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478240" y="40752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407844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52680" y="1752480"/>
            <a:ext cx="29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TTP GET, POST;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575460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921280" y="17510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XML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407844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14920" y="3324240"/>
            <a:ext cx="38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aspx page calls business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V="1">
            <a:off x="575460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689800" y="32878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usiness logic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7623720" y="9907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7622280" y="24750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7622280" y="40752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2473200" y="5675400"/>
            <a:ext cx="472464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407340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1711080" y="48769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V="1">
            <a:off x="574992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019920" y="488808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 result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7617600" y="56754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78840" y="6424560"/>
            <a:ext cx="89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In HW7, your aspx pages include the business logic that is usually in the application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7393320" y="434340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.NET, JEE 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7277040" y="278748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IS, Glassfis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7190640" y="59878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QL Svr, Orac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Travel indust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Travel Alliance (www.opentravel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0+ airlines, hotels, car rental, GDS,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DS: global distribution system (Sabre, Apollo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aboration to implement industry-wide open e-business spec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ctronic distribution supply ch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ed common XML formats, trading partner to trading par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als are to lower supply chain costs and improve consumer travel costs and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protocols in current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Teletype: 64 character sent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/EDIFACT (EDI): fixed messages, difficult to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systems, messages have been used for 3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 travel agency “T” in Midwe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es of busin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, hotel reservations for res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attraction reservations for international visi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us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phone, fax, teletext message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ally developed computer apps: customers, local attracti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changed travel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became GDS partner for international travel in Midw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services offered: air, hotel, rail, car r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international services for US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ed branch offices around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835360" y="6400800"/>
            <a:ext cx="62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Kumar, Narayan, Ng, “Implementing SOA Using Java EE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changed its information systems to work with GDS and its consumer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oftware, middleware, desktops, serv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unable to penetrate international travel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remedy this, it bought  UK and Asian travel ag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three companies had different legacy applications, and networks,  which created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architecture needed for new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et evolving customer and GDS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mize legacy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ain existing Web services, if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new Web services to replace legacy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tivity diagram: current syste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12724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035240" y="1371600"/>
            <a:ext cx="480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ices are comple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r: carrier, price, time, hops,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tel: chain, room type, rate, location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r, sightseeing package simi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 reservation may bundle hotel, car reservations at dis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confirmation may be delayed (especially interna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al itinerary not acceptable to customers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change their mind partway through the itinerary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vel packages must be flexible, attractively priced, easily boo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have own discounts: AAA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uential process too slow for online 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 UML activity diagra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as many steps from previous diagram in parallel as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at parallel results fit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results fit together: present the outcome to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wise, re-do required step(s) until a fit is foun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tell/ask customer to search ag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1077840" y="5334120"/>
            <a:ext cx="711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models a set of Web services, providing reservations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ustomers connecting to multiple reservation syste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itinerary gets filed with “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 checks if air res made; if not it uses air Web servi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then checks hotel, car in sam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1523880" y="523800"/>
            <a:ext cx="60962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co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rchitecture will generate many (often thousands) of queries in 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of the results won’t be used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sorted and assembled by the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the best ones are shown to the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requires much more (often thousands of times more) bandwidth than older appr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optic bandwidth is large and can support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 and other business applications are moving to thi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 many carriers, vendors, etc. for availability, pric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23T23:50:29Z</cp:lastPrinted>
  <dcterms:modified xsi:type="dcterms:W3CDTF">2013-11-19T01:49:26Z</dcterms:modified>
  <cp:revision>291</cp:revision>
  <dc:subject/>
  <dc:title>1.264 Lecture 5</dc:title>
</cp:coreProperties>
</file>