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7804C-595F-41D1-8FE9-D3F68755E9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64A76-E4FD-4612-8FCA-42FB33107929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5E134-2860-4DDF-BC1C-525E574EA7A9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D0A3F-86C5-43F6-BED3-1349270973C7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A372A-5AAC-45A1-8DDF-69A7F6E2F11C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12857-1B78-41D5-B89B-0FBCE5AEA442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4E67F-C4D0-4043-8D91-BF08374CA531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978B0-612B-4B30-B423-643AEB47FAFB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7DCC1-6405-482B-8C0D-A1860D22EA28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7851A-4DD3-464A-96F7-504B711E5AA1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48FB3-1151-43D2-8E16-BD0A5BC8B8EC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E469-A692-45E3-908A-F4BF67B26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8A37-6720-4FEB-A1C7-640318B1C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F2B0-AB58-450B-9698-D8FD6E72F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92A8-5946-43C1-BB61-9AB786AAC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02B6-CFC4-4B3E-961B-0490DD9F0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AAFC-22B3-4407-9D32-34B2B9D70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EC69-506B-4E3C-A1D6-5C3A3142E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E3B5-4000-4885-BC0C-84EC76469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4909-4EC2-4960-A1A2-AD4CEE283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DB99-21A9-4EE2-8773-258E3DEA2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E2DB-04DF-4EED-B2F6-B89E485EA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2A3D-DCD9-47A1-80ED-4C472B6C5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9B742-5B67-4D94-933C-8821B40FFE6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.264 Lecture 31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stem archite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oud compu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217240" y="5719680"/>
            <a:ext cx="503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Green chapter 1-3.  Exercise due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befor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2: Cloud app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44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ich cloud type, if any, would serve these app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and preproduction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lication, DB development tools (UML, Visual Studio,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tch processes needing limited security (e.g., raw material managemen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ff-the-shelf software (e.g., HR, CRM, collabor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 co-dependent ap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s with strict licensing and accountability requir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s that require a lot of customization and flexi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the following abbrevi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aaS: infrastructure as a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aS: platform as a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aS: software as a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: Cloud app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ich cloud type, if any, would serve these app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and preproduction system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aaS, Pa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lication, database development tools (UML…) softwar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a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tch processes needing limited security (e.g., raw material management)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aaS, Pa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ff-the-shelf software (e.g., HR, CRM, collaboration)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a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 co-dependent app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 in clou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s with strict licensing and accountability requirement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 in clou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s that require a lot of customization and flexibilit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 in cloud, or perhaps Ia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3: cloud computing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440" y="9144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sit these two Web sites to get prices: (What kind of cloud?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ws.amazon.com/ec2/  Estimate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on-demand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reserved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o to “EC2 Pricing”, “AWS Simple Monthly Calculator”, US Ea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indows/Web SQL Svr, 50% utilization, m3.xlarge (15 GB memory, 13 CPU units)  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On demand and then reserv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orage: 1000GB standard, 100 iops, 100GB-mo snapsh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ta: 1,000GB/month inter-region in and ou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served: Medium util, 1 yr ter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ww. windowsazure.com. Pricing, “Calculator”, “Shared” tab.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Pay as you go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12 month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 site, 150GB database (less than Amazon), 1000GB data transf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lance at developers.google.com/appengine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o to “Quotas and pricing”-&gt;”Pricing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oogle costs require more work to estimate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nk about comparing to running your own data cente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ardware, software, space, security, staff to manage, …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(November 2013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mazon cos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n demand: $488/month (was $831/month last year, for les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erved: $1100 + $286/month (was $1837 + $590/month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crosoft cos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ared: $355 PAYG, $275 12 mos (was $943/month last yea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oog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bout the same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ystem architecture summa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oud computing growing exponential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st, flexibility, higher quality softw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jor vendors offer cloud storage, computing, office applications, enterprise applications (CRM, SCM, ERP, etc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ftware as a service (SaaS) is cloud compu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 are infrastructure and platform as a service (IaaS, Paa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oud computing is heavily based on Service Oriented Architectures (SO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are based on Web servi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are based on HTTP and X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exchange data between databases using SQ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vate and public clouds ex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prise servers and applications will contin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ystem architecture provides a cost estimate for the software and hardw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ypically required early in a project. Use first spiral to develo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stimate staff and software costs from lecture 3,4 approach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ystem architecture exampl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blic transpor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nsit trip plan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nsit real time inform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nsit fare pay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mated vehicle lo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transit dispatch and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pply ch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arehouse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nsportation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duction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all examples, architecture generates budge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ff: from function points, person month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rdware: from TPC and cloud computing estima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lecom: from bandwidth and technology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ystem architecture and configura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ganization of all system components (hardware, software, network) is the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ystem archite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ne early in system development or configuration pro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sess users, applications, system software, networks, hardw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figure Web/app/db servers, networks, backup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figurations are complex and chang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formation is usually wrong on which estimates are ba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ep is needed because you need a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budge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or a pro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member the estimate convergence curv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re is much uncertainty in the final system hardware and software. We are only in spiral 1 sti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you make a baseline (point) estimate, you have a lot of error and about a 50% chance of being too l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you’ve done everything else right but your system is slow because of inadequate hardware or telecom, it will be very frustr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r customer can’t tell why your system is slow. It may be bad database, bad/inefficient software implementation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s is one of the few problems that you can throw money at to solv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ystem architecture and configuration, p.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ccessful configurations are usually overbui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st components will be oversized, but you have a better chance of having enough capacity at the (unanticipated) bottlene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end your entire budget, always, or use cloud compu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server (often virtualized) does just one th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TTP server (Web ser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usiness logic (app ser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 (database ser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 can understand and characterize its task this way. If a box handles many functions, sizing and managing it is h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erformance metric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rics (database server as an exampl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Throughput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/O operations/second, data transfer rate/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is is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system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vie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f throughput is low, more servers used than really need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Latenc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 seek time (seconds), response time (second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is is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user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vie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f latency is high, users have slow respon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Utilization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percentage of data transfer rate, disk capacity 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is is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futur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vie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f avg utilization &gt; 60%, your systems will crawl on busy day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verage server utilization  ~15-20% in traditional data cent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thernet data transfer: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0 Mbit/sec =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12.50   MB/se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k data transfer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10.00   MB/se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dem data transfer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6,000 bits/sec=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0.007   MB/se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comparable units when assessing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8 bits (b)=  1 byte (B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B may be 1,000,000 B or 1,024,000 B.  GB, TB discrepancies highe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1: Database server cost, performanc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 on to www.tpc.o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s -&gt; TPC-C -&gt; Top 10 Price/Perform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on “system” for top performing choice and open executive summary as pdf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ick the 2</a:t>
            </a:r>
            <a:r>
              <a:rPr b="1" lang="en-US" sz="2000" spc="-1" strike="noStrike" baseline="30000">
                <a:solidFill>
                  <a:srgbClr val="ff9900"/>
                </a:solidFill>
                <a:latin typeface="Arial"/>
              </a:rPr>
              <a:t>nd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one: IB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ok at the configuration: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(Note the 50% discoun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at does the server hardware cost? How many user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at do the disks cost? How many are there? Total storag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What does the software cost? (This one is unusual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w many CPUs? How much memor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gnore the client hardware, which is just for the t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ok at the range of performance (response tim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s -&gt; TPC-H -&gt; Top 10 Price/Perform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ok at 100GB results, same items as TPC-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units are queries per hou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are with TPC-C performance, which is transactions per minute. Why the differen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(November 2013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PC-C: IBM x36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at does the server cost?     ~$30,000.  Users: ~1,000,000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at do the disks cost?           ~$260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ftwar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~$250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w many disks are there?     115, holding 40,000G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w many CPUs?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2 (8 cor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w much memory?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768G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ok at the range of performance (response times) ~0.1 secon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PC-H: Lenovo ThinkServer RD630 (100 GB databas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at does the server cost?    ~$13,500.   Users: a few (5-1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at do the disks cost?          (not specified, but most of i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w many disks are there?     8, holding 2,400G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w many CPUs?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2 (16 cor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w much memory?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64G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ok at the range of response times: 0.3-12.7 secon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are: 420,000 QpH= 7,000 Q/min(H) vs 1,300,000 q/min(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11440" indent="-1620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 transaction is about 1,000,000 times the cost of a C transa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rvers are faster/cheaper now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st 2000 TPC-C (price/performance)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,000 tpmC, $58/tpmC, 6,000 users, 5 second respon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st 2013 TPC-C (price/performance)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,600,000 tpmC, $0.47/tpmC, 1,000,000 users, 0.1 second respon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~3,200,000 total transactions/minute in benchma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~800,000 total transactions/minute actual ma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0% utilization max for good perform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r system is less highly tuned than benchmark ap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eak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low for future grow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x of transactions changing: more status/inquiry with Web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est performance 2013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0,000,000 tpmC, $1/tpmC,  24,000,000 us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oud computing vs traditional option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zon, Microsoft Azure, Google, ot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need for Web/application/database ser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need for Web/database softw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rite your application and place it in the clou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vate or publ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y by the ho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ons for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oud compu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PC/C-E-H systems that you purchase and host in-house or in a hosting cen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ap servers from Dell, etc. that you configure for latency, throughput, utilization, etc. using ru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oud computing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ree types of clou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Infrastructur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s a service: outsource hardw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vide own operating system, database, app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st flexible, most expensive total IT c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s: Racksp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latform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s a service: outsource operating environ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oud provides OS, database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: Amazon, Microsoft, Goog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oftwar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s a service: no app of your ow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figure the third party ap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s: salesforce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ast flexible, least expensive total IT c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portation example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263960" indent="-18036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ctive On-Demand APT (package carrier TM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263960" indent="-18036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ne Network (logistic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2013-11-21T16:29:48Z</cp:lastPrinted>
  <dcterms:modified xsi:type="dcterms:W3CDTF">2013-11-23T01:07:07Z</dcterms:modified>
  <cp:revision>254</cp:revision>
  <dc:subject/>
  <dc:title>1.264 Lecture 5</dc:title>
</cp:coreProperties>
</file>