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E39E4-DD73-45F5-9163-D33C21154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AADD1-3021-4895-BFEF-B81173AEF7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746E3-4609-4DAE-85BC-7DF88E648E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3B193-C65F-40AF-888F-CB5A3C26E5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29FE2-CDBA-47D8-A84A-9658997965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2A83D-49DB-4DC2-917A-9DB402DE60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FCB18-3E29-45BA-A0AE-1E254A045E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10471-8546-4C2A-A01C-4A8350F9D0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41AF4-6C48-4A76-B8FB-6D2E299EA0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09EF7-29A5-424A-9DDB-912381A9CD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E836C-5465-4568-90BF-13F4E842FC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3C4E5-1762-43A3-893B-C9F3F321E3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52A2-76CC-45F6-B3A7-D479BC1D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043A-50BC-4B42-BBD3-62A5AB2B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E85B-C727-40F8-B024-220005DD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A7BB-48A9-4B2A-87F8-195B49C3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FB6C-0597-4B9C-A43B-C0BBB0CF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CEE1-B4E7-4BD0-A42B-94E3CF97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4636-BBBE-4E64-9EA2-4BB88468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466D-71D2-4AAE-AF9F-E9645B70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F186-070F-42D9-A5D7-C885D199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5740-57F8-49EB-A785-D0D8D3CB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D7E9-459C-462C-A6FA-FB736DBB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0209-3BD3-4E25-A201-3E4BB730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CAB2-541A-490F-82D3-C5F5330D73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Controls, Forms, part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386080" y="5719680"/>
            <a:ext cx="456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rt Visual Studio. Open the Lecture18/19 Web s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No reading.  Exercises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39892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2, con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905120" y="1754280"/>
            <a:ext cx="548928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: Inserting data, other featur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ercise: Improve the Web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/edit the page links in the nav bar in MIT.ma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n Offices.aspx page if you have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header (h2) text on the pages created to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dit website.map to include new pages created to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what the ‘breadcrumb’ navigation uses as its m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text to Default.aspx, your hom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the ‘Contact us’ link; it should send em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titles to the pages you created (&lt;title&gt;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e some SQL by hand in the SQLDataSource wiz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the INSERT statement in CustomerOrders.aspx to confirm it does not have a primary key field, because the customer number is IDENTITY (auto-generat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3351600" y="6324480"/>
            <a:ext cx="58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toolkit.ashr.transportation.org/NCHRP.aspx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i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ember to save pages in VSW after making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 on tab means the page has not been sa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ember to refresh the browser after you make a change to a Web page and are testing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browser caches the page, and doesn’t know that you’ve changed it unless you force a refre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k up your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y your Web site to another Web site on your computer periodical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NET (and JEE 6, LAMP) framework allows Web site construction from contr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connection contr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id, form, data, detail views for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idation controls (we didn’t cover the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vigation controls (SiteMapPath, oth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in and permission contr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JAX: Asynchronoux Javascript and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es the sorting in GridView, for exa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ices: machine-to-machine contr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over this in the next cla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ameworks for Web-database system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soft .NET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ndows, IIS, SQL Server, ASP.NET and C# or other langu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ava Enterprise Edition (JEE 6 or, older, J2E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S, Glassfish/Apache, any database, Ja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MP open source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ux, Apache, MySQL, p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can essentially interope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ices based on cost-speed-performance-security-stability tradeoff: Java -&gt; .NET -&gt; LA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have similar features, though details v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P.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pages are .aspx pages. They have 2 par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Aspx page, which is considered a Web 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Microsoft ASP.NET server code that converts the controls on the .aspx page into XHTML that is sent back to a client (browser or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HTML code is generated dynamically based on database queries and programs that run on the server, such as optimization or design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ites are compiled to check for errors, just like software programs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bug-&gt; Build Web Sit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heck for erro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nt-driven model, as we’ve seen in our exercis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Inserted, DataUpdated, DataDeleted ev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Display, edit and delete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 Web site Lecture18 in VS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 -&gt; New File-&gt; Web Form: Customers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SqlDataSource into ContentPlac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Customers ORDER BY 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‘Advanced’ and generate edit, update, delete 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and sa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 GridView onto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data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paging, sorting, edit,  d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t a header &lt;h2&gt; at the top of the ContentPlaceHolder: “Customer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test: edit, del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’t delete a customer if they have an 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not present in Grid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Display, edit, insert, delete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 -&gt; New File-&gt; Web Form: SalesR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SqlDataSource into ContentPlac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SalesReps ORDER BY 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GridView onto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paging, sorting,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a second SqlDataSource into ContentPlaceHolder, below the first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SalesReps WHERE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WHERE button: RepNbr, =, Control, GridView1, Ad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Advanced button: Generate INSERT,UPDATE,D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FormView control onto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second SqlDataSource as data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&lt;h2&gt;, save and test in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7169760" y="6581880"/>
            <a:ext cx="19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o to next slide to fini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Display, edit, delete: part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idView doesn’t update when you change data. To make it do s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Design view, click on Form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Events button (lightning bolt) in Properties 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uble-click ItemInserted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following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idView1.DataBind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 double-click ItemDeleted event and add sam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double-click ItemUpdated event and add sam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test your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: Edit data between two tab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3 SqlDataSources, 2 GridViews and Form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play and edit orders for a custom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use this to display and edit line items in an order in homework 7/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ps to create CustomerOrders pa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SqlDataSource1: select * from custo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Gridview1 on data source 1: enable sel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SqlDataSource2: select * from or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 customer is selected value from Gridview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Gridview2 on data source 2: enable sel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SqlDataSource3: select * from or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 order is selected value from Gridview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vanced: Enable insert, delete, up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FormView1 on data sourc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GridView2.DataBind() to events as in previous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header &lt;h2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447920" y="1065240"/>
            <a:ext cx="629100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Passing a WHERE parameter across pag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can get parameters for WHERE clause fr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ol (e.g., GridVie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ok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ryString (e.g., localhost/Order?ID=2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ssion variables, profil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erci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SalesReps2.aspx with two hyperlin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ice 1: SalesReps3.aspx?office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ice 2: SalesReps3.aspx?office=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SalesReps3.aspx. On i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qlDataSource1 WHERE RepOffice= QueryString off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t GridView on SQLDataSource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n SalesReps2 in browser and click on lin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ay use this to display your catalog in homework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8-10-06T02:50:22Z</cp:lastPrinted>
  <dcterms:modified xsi:type="dcterms:W3CDTF">2013-10-23T23:49:51Z</dcterms:modified>
  <cp:revision>217</cp:revision>
  <dc:subject/>
  <dc:title>1.264 Lecture 5</dc:title>
</cp:coreProperties>
</file>