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6280" y="698400"/>
            <a:ext cx="46465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720" rIns="9072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5840" y="441612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32600"/>
            <a:ext cx="2971800" cy="46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832600"/>
            <a:ext cx="2971800" cy="46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E3124AB-4D87-431F-9B99-9F1EEBFE7484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1031"/>
          <p:cNvSpPr/>
          <p:nvPr/>
        </p:nvSpPr>
        <p:spPr>
          <a:xfrm>
            <a:off x="3886200" y="883296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77B787B-40B7-45D4-B257-1101B235FE9B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5840" y="441612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031"/>
          <p:cNvSpPr/>
          <p:nvPr/>
        </p:nvSpPr>
        <p:spPr>
          <a:xfrm>
            <a:off x="3886200" y="883296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B4D421D-F895-4C5C-8AA2-EDCCC7A0D1E9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5840" y="441612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031"/>
          <p:cNvSpPr/>
          <p:nvPr/>
        </p:nvSpPr>
        <p:spPr>
          <a:xfrm>
            <a:off x="3886200" y="883296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4D716C2-D9DC-4A32-9095-7E44A616BA22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5840" y="441612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5840" y="441612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6200" y="883296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65491A6-E59E-4F53-A06E-90E786323011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5840" y="441612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6200" y="883296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2915A7A-1589-4244-B93A-0567EF30A5A9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5840" y="441612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6200" y="883296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5BA9F00-51ED-4042-A5DB-E163E0A1824F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1031"/>
          <p:cNvSpPr/>
          <p:nvPr/>
        </p:nvSpPr>
        <p:spPr>
          <a:xfrm>
            <a:off x="3886200" y="883296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C8A2138-620B-4D39-9E5B-894AE177D793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5840" y="441612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031"/>
          <p:cNvSpPr/>
          <p:nvPr/>
        </p:nvSpPr>
        <p:spPr>
          <a:xfrm>
            <a:off x="3886200" y="883296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CE5C6A4-74CE-490E-9831-86EE9CCD15DB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5840" y="441612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031"/>
          <p:cNvSpPr/>
          <p:nvPr/>
        </p:nvSpPr>
        <p:spPr>
          <a:xfrm>
            <a:off x="3886200" y="883296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3206F3B-7CB7-43CF-9A4E-5FD9A11C8918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5840" y="441612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1031"/>
          <p:cNvSpPr/>
          <p:nvPr/>
        </p:nvSpPr>
        <p:spPr>
          <a:xfrm>
            <a:off x="3886200" y="883296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5745DA1-C83F-4AEE-A856-121E305F695F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5840" y="441612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5840" y="441612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6200" y="883296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474E4FD-43A0-473F-BF38-0797F3617A8E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5840" y="441612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86200" y="883296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9BE4E06-F05B-4312-995B-94261612049E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1031"/>
          <p:cNvSpPr/>
          <p:nvPr/>
        </p:nvSpPr>
        <p:spPr>
          <a:xfrm>
            <a:off x="3886200" y="883296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3BB3DCA-BC5A-43D3-AB7F-01D7F8FDA853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5840" y="441612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5840" y="441612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6200" y="883296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DB0D81E-23F3-43AE-B475-49568A38E0EE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A809-5CBF-496E-ADC4-8FC9D98FD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5D34-3FE9-41D1-AE74-B319B2C33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EB9D-1F91-4E1E-980B-3457133AB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D81E-997E-432B-985F-FFF5420B1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6205-E57C-4361-AFDF-D858C6F31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D122-2B28-4E9B-A0E0-FCF944BE4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D914-7EF9-4A45-B48A-4E4CF51D2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B8B4-5868-4FB1-A4AA-8FA5A6090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6DB4-A9C0-40EA-9AF2-B016956CA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E0A7-A0EB-4CC0-A936-DBDBFF71B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0E30-7D46-4CF2-83C3-00287FBE1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2777-F5F4-4734-AA44-635D828DC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86022-224F-4F1E-A77D-0B479A58A9C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.264 Lecture 21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1663560" y="5719680"/>
            <a:ext cx="64947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Quiz 1 review 7pm on either </a:t>
            </a: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Wednesday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next week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ownload and unzip Lecture21Download. Put in Lecture21 Web site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ext class: ASP.NET book chapter 10, pages  337-348: Web services only.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xercises due </a:t>
            </a: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after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class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ocument Type Declaration (DTD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OCTYPE: class (type) of docu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laced in XML file, refers to DTD file to be used to valid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LEMENT: object in docu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ither all valid values are given in a list in (), 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 element is defined later in the DTD fi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ymbols: +: 1 or more, *: 0 or more, ?:0 or 1, none: exactly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TLIST: valid attribute list for ele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CDATA: character da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PCDATA: parsed character data (can’t have &lt; &gt; &amp;…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REQUIRED: element must be pres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IMPLIED: element optional, no default valu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FIXED: attribute value is fix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ITY: a constant valu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| means 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Validation 2: DTD fil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?xml version="1.0" encoding="iso-8859-1"?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!ELEMENT booklist (book+)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!ELEMENT book (title, author+, price)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!ATTLIST book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topic (software|UML|database) "U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publicationdate CDATA #IMPLI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ISBN CDATA #IMPLIED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!ELEMENT title (#PCDATA)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!ELEMENT author (first-name, last-name)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!ELEMENT first-name (#PCDATA)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!ELEMENT last-name (#PCDATA)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!ELEMENT price (#PCDATA)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!ENTITY currentyear "2013"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7796880" y="6458040"/>
            <a:ext cx="142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ooks.dt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 2: DTD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85440" y="17524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rite a DTD file that states these business rul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1.264 class has one to many grou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group has a name, a number, and has one to two (many) student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DTD file specifies the elements and attributes present in the XML fi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the exercise 1 XML file as the basis for your DT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re is no DTD file type in VSW any mo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reate an html file, rename it to Classlist.dtd or similar, go to Source view and delete all the html so you have just a blank fi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Box 1"/>
          <p:cNvSpPr/>
          <p:nvPr/>
        </p:nvSpPr>
        <p:spPr>
          <a:xfrm>
            <a:off x="6957720" y="6477120"/>
            <a:ext cx="202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how Exercise 1 solution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 2- DTD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?xml version="1.0" encoding="iso-8859-1"?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!ELEMENT classlist (group+)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!ATTLIST classlis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class (1264|ESD264) “1264“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!ELEMENT group (groupname, grouplist)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!ATTLIST grou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number1 CDATA #REQUIRED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!ELEMENT grouplist (name+)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!ELEMENT name (#PCDATA)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!ELEMENT groupname (#PCDATA)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Box 1"/>
          <p:cNvSpPr/>
          <p:nvPr/>
        </p:nvSpPr>
        <p:spPr>
          <a:xfrm>
            <a:off x="5905440" y="6418440"/>
            <a:ext cx="303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rder of statements may vary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XML Summar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documents can b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ed by anyone: tags and business ru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nt and received by databases using SQL and HTT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alidated by DTD or XSD fi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ansformed and styled by XSLT fi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laced on a server for clients to attach to, such as blo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files are little pieces of a database that can be shared. Typically they represen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ws from a single table, 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ws from two tables in a many-to-one relationshi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y arbitrary set of tables/relationships can be s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Glossar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3C: World Wide Web Consortium (standard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TD: Document Type Declaration ( XML validati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Schema or XSD: XML valid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SLT: XML Stylesheet Language/Tranfor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ifies or queries XML docu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Path: XSLT query sublangu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Query: XSLT query sublangu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What is XML?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ensible Markup Language (XML) i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World Wide Web Consortium (W3C) standard fo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file format to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asily and cheaply distribute electronic documents on the World Wide We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tensible, not frozen like 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upporting rich structure, like objects or hierarchies or relationshi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upporting validation and well-formed propert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voiding applets, scripts, plug-ins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parating form (how it looks) from content (what it i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XML Concept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is self-describing and can be validated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document contains the business rules to which its data must confor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ules can be reused in other documents: documents can be more specialized types (inheritance) of a base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ata interchange format between compu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60120" indent="-1918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sing Web server as data channel between datab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60120" indent="-1918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utomated processing of documents exchang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mon format for Web, electronic, paper documents, 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60120" indent="-1918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XML as a general markup langu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60120" indent="-1918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XML used for manuals, CDs, help and other text docum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60120" indent="-1918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andled by standard browsers (IE, Firefox, Chrome, …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mote procedure call/invocation protoc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60120" indent="-1918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ecutes Web services or processes on other comput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XML Document Structur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TML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e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ags are predefined in HTML (or XHTML) stand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ags describe how the page should be display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lo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XML declaration (defines versio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ocument type declaration (defines tags): DTD  or XS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ags describe data elements, not how to display th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ags are defined in DTD or XSchema document, which anyone can cre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ample 1: XML file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456840"/>
            <a:ext cx="8001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&lt;?xml version='1.0'?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&lt;!-- The 1.264 reading list --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&lt;booklist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&lt;book topic="software" publicationdate="1996" ISBN="1-55615-900-5"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&lt;title&gt;Rapid Development&lt;/titl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&lt;autho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&lt;first-name&gt;Steve&lt;/first-na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&lt;last-name&gt;McConnell&lt;/last-na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&lt;/autho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&lt;autho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&lt;first-name&gt;Bryan&lt;/first-na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&lt;last-name&gt;Syverson&lt;/last-na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&lt;/autho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&lt;price&gt;48.99&lt;/pric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&lt;/book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&lt;book topic="UML" publicationdate="2004" ISBN="0-321-19368-7"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&lt;title&gt;UML Distilled&lt;/titl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&lt;autho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&lt;first-name&gt;Martin&lt;/first-na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&lt;last-name&gt;Fowler&lt;/last-na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&lt;/autho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&lt;price&gt;34.99&lt;/pric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&lt;/book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&lt;/booklist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7482960" y="6248520"/>
            <a:ext cx="133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ooks.xm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 1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7621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art VS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eate a new Web site in VSW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le- New Web Site -&gt; Lecture21 (or other nam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wnload the lecture 21 files from Stell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ve/copy them to the Web site you just crea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this Web site, write an XML file that describes the 1.264 class, two groups in the class, and the students in the grou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le-&gt; New File -&gt; XML File in VS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reate appropriate elements and/or attributes for the class, groups and stud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en done, display it in your brows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 1- XM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classlist class=“1264”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group number=“1”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groupname&gt;Rapid Development&lt;/groupnam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grouplist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name&gt;Steve Bell&lt;/nam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name&gt;Jo McDuff&lt;/nam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grouplist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group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group number=“2”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groupname&gt;UML Forever&lt;/groupnam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grouplist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name&gt;Steve Smith&lt;/nam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name&gt;Jo Brown&lt;/nam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grouplist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group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classlist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XML Language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ways to express business rules/validat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DTD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Document type declaration: business ru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68680" indent="-173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t XML itself (oddly), being replaced by XML Schem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68680" indent="-173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ou should understand how to write DTDs in 1.26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XML Schema or XSD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business ru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68680" indent="-173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XSD is XML subset, verbose but powerfu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68680" indent="-173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ou don’t need to understand the details of XSD in 1.26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re are user-friendly tools to manage the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68680" indent="-173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s would be one more download for you; we will just look at them manual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to format and transform XML docu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XSL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extensible stylesheet language/transform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68680" indent="-173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forms XML docum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68680" indent="-173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mats XML docum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68680" indent="-173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XPath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(or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XQuer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 sublanguage for quer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d many others for specialized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Link, XPointer, RDF, XForms, …  see www.w3c.or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Validation 1: XSchema Definition (XSD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533520" y="685800"/>
            <a:ext cx="86104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?xml version="1.0" encoding="utf-8"?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xs:schema  (details omitted) 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xs:element name="booklist"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xs:complexType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xs:sequence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xs:element maxOccurs="unbounded" name="book"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         </a:t>
            </a: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xs:complexType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xs:sequence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             </a:t>
            </a: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xs:element name="title" type="xs:string" /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             </a:t>
            </a: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xs:element name="author“ maxOccurs=“unbounded”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               </a:t>
            </a: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xs:complexType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                 </a:t>
            </a: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xs:sequence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                   </a:t>
            </a: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xs:element name="first-name" type="xs:string" /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                   </a:t>
            </a: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xs:element name="last-name" type="xs:string" /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                 </a:t>
            </a: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/xs:sequence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               </a:t>
            </a: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/xs:complexType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             </a:t>
            </a: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/xs:element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             </a:t>
            </a: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xs:element name="price" type="xs:decimal" /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/xs:sequence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xs:attribute name="topic" type="xs:string" use="required" /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xs:attribute name="publicationdate" type="xs:unsignedShort" use="required"/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xs:attribute name="ISBN" type="xs:string" use="required" /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         </a:t>
            </a: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/xs:complexType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/xs:element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/xs:sequence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/xs:complexType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/xs:element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/xs:schema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7775640" y="6461280"/>
            <a:ext cx="146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ooks.xs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9T18:28:28Z</dcterms:created>
  <dc:creator>George Kocur</dc:creator>
  <dc:description/>
  <dc:language>en-US</dc:language>
  <cp:lastModifiedBy>gkocur</cp:lastModifiedBy>
  <cp:lastPrinted>2013-10-25T13:16:14Z</cp:lastPrinted>
  <dcterms:modified xsi:type="dcterms:W3CDTF">2013-10-27T21:21:56Z</dcterms:modified>
  <cp:revision>468</cp:revision>
  <dc:subject/>
  <dc:title>1.264 Lecture 5</dc:title>
</cp:coreProperties>
</file>