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E6C7-14D9-41AA-B39E-AB9744863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43CE-6773-4BEE-970E-5960128E5B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EF5D-A089-4774-AB48-47698CCD5F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3FA1-EC6F-4FE9-82DD-AD77E94F59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B8D9-FACF-49E4-8B53-2904F6E7FE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E9F6-42DB-461C-A0FD-165CC080F0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F17E-A71F-40E2-84DE-46371C7715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7886-1AB2-4A07-95B8-1442D5DB34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918B-1507-41C4-8610-9CC1D86DDF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8C48-EDAF-4F44-A3A5-50307619AA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264A-5FA8-45EA-8BE9-B249F3D80D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F60-E43C-473D-A8FE-B613B634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3FBD-7C24-489D-A6F5-D81768D8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0E9-8D58-4799-BD18-E2692740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B575-49D3-4BC6-ADC8-8418FFA9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07B-0783-40FF-B601-D0ADE1B2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873-EBBE-4A0A-B9F0-262595EC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11C-F72A-49FB-9E10-39EF2E58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A2F-A66E-480B-A175-B93A3DC7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3C2-6A23-4295-BAC8-47B23D38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A84-6926-4E64-9B84-9F76A6BD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28D-7121-49DA-B33D-FD485D1A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E7F-33CF-4501-ACAB-097A6119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F238-626C-455E-A28D-7C39972B76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k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215800" y="5719680"/>
            <a:ext cx="53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s 20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Reading doesn’t cover same topics as lectur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 signatures are implemented using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ertific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are the MIT certificates we all have on ou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 with digital sign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cut and paste encrypted signature from old message to new faked mes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solution is for receiver to send ‘challenge phrase’ to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then encrypts with sender private key and sends to receiver, who can check if it’s what she sent initi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alter parts of th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ution is message digest functions to provide integrity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ssage digest is function run on entire message that produces short digest, often 128 bits (note that 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28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 a very big number of combinations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 digest and message.  Receiver runs digest algorithm on message and checks if same 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A: Rivest-Shamir-Adleman: asymmtric encryption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: American Encryption Standard: symmetric encryption algorith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Dx, sha-x: hash or message digest functions to ensure message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L: Secure Sockets Layer, protocol for entire trans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LS: Transport Layer Security, successor to SS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or “public key” encryp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 pairs: public key for encryption, private key for de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A: 1024-2048 bit, in common use for Web and e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ent expired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 with public key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ed: RSA is 1000 times slower than symmetric algorith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blem avoided by using RSA to exchange a symmetric session key and then using symmetric encryption method for the rest of the sess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 a different symmetric key each session to limit damage if key is brok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7339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9343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16765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48769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8219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50223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ublic key (RSA) concep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key P is pair of integers (N, 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ret or private key S is pair of integers (N,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large random prime numbers (Fermat’s Little Th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st is s.  Call the other two x and 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= 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= smallest integer such that (ps) mod (x-1)(y-1)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message into a series of chunks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 message chunk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= 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ypt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laintext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is hard to compute from N and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knowledge of x and y, which requires factoring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toring is exponential time algorithm, so if the number to be factored is big enough, it takes a very long tim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again, very simplifie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__, x= __, y= __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2021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9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x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y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37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1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564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64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2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secure are AES and RSA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s to as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rrect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, though if we learn to factor large numbers, RSA is d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ded correctly, including chaining, digests, padding of short blocks, etc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: 2010 ASP.NET br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key management correct and secure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; keys protected by weak passwords, revocation lists not checke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a message be cracked by brute for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if key is too short: 128-256 bits for symmetric is ok, 1024-2048 for RSA is 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keys for high value assets (defense, nuclear, etc.) merit the effort to crack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ph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 message is longer than the key (the usual c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exclusive-or (add bits without carrying) each block of plaintext with the previous block of ciphertext before encryptin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disguises any patterns in plai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ed plaintext is coded differently each time it app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90512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3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629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236232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1676520" y="4819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01160" y="45244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13480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36232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13516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236232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358128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358128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474984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452232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708660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685908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4734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4506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473400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3"/>
          <p:cNvSpPr/>
          <p:nvPr/>
        </p:nvSpPr>
        <p:spPr>
          <a:xfrm flipV="1">
            <a:off x="595296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595296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101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6873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7086600" y="6248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35"/>
          <p:cNvGrpSpPr/>
          <p:nvPr/>
        </p:nvGrpSpPr>
        <p:grpSpPr>
          <a:xfrm>
            <a:off x="2314440" y="4775040"/>
            <a:ext cx="92160" cy="91800"/>
            <a:chOff x="2314440" y="4775040"/>
            <a:chExt cx="92160" cy="91800"/>
          </a:xfrm>
        </p:grpSpPr>
        <p:grpSp>
          <p:nvGrpSpPr>
            <p:cNvPr id="95" name="Group 34"/>
            <p:cNvGrpSpPr/>
            <p:nvPr/>
          </p:nvGrpSpPr>
          <p:grpSpPr>
            <a:xfrm>
              <a:off x="2314440" y="4775040"/>
              <a:ext cx="92160" cy="91800"/>
              <a:chOff x="2314440" y="4775040"/>
              <a:chExt cx="92160" cy="91800"/>
            </a:xfrm>
          </p:grpSpPr>
          <p:sp>
            <p:nvSpPr>
              <p:cNvPr id="96" name="Oval 28"/>
              <p:cNvSpPr/>
              <p:nvPr/>
            </p:nvSpPr>
            <p:spPr>
              <a:xfrm>
                <a:off x="2314440" y="477504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29"/>
              <p:cNvSpPr/>
              <p:nvPr/>
            </p:nvSpPr>
            <p:spPr>
              <a:xfrm>
                <a:off x="2314440" y="482256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Line 30"/>
            <p:cNvSpPr/>
            <p:nvPr/>
          </p:nvSpPr>
          <p:spPr>
            <a:xfrm>
              <a:off x="2358720" y="477504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36"/>
          <p:cNvGrpSpPr/>
          <p:nvPr/>
        </p:nvGrpSpPr>
        <p:grpSpPr>
          <a:xfrm>
            <a:off x="4699080" y="4753080"/>
            <a:ext cx="92160" cy="91800"/>
            <a:chOff x="4699080" y="4753080"/>
            <a:chExt cx="92160" cy="91800"/>
          </a:xfrm>
        </p:grpSpPr>
        <p:grpSp>
          <p:nvGrpSpPr>
            <p:cNvPr id="100" name="Group 37"/>
            <p:cNvGrpSpPr/>
            <p:nvPr/>
          </p:nvGrpSpPr>
          <p:grpSpPr>
            <a:xfrm>
              <a:off x="4699080" y="4753080"/>
              <a:ext cx="92160" cy="91800"/>
              <a:chOff x="4699080" y="4753080"/>
              <a:chExt cx="92160" cy="91800"/>
            </a:xfrm>
          </p:grpSpPr>
          <p:sp>
            <p:nvSpPr>
              <p:cNvPr id="101" name="Oval 38"/>
              <p:cNvSpPr/>
              <p:nvPr/>
            </p:nvSpPr>
            <p:spPr>
              <a:xfrm>
                <a:off x="4699080" y="475308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39"/>
              <p:cNvSpPr/>
              <p:nvPr/>
            </p:nvSpPr>
            <p:spPr>
              <a:xfrm>
                <a:off x="4699080" y="480060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Line 40"/>
            <p:cNvSpPr/>
            <p:nvPr/>
          </p:nvSpPr>
          <p:spPr>
            <a:xfrm>
              <a:off x="474336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7039080" y="4753080"/>
            <a:ext cx="91800" cy="91800"/>
            <a:chOff x="7039080" y="4753080"/>
            <a:chExt cx="91800" cy="91800"/>
          </a:xfrm>
        </p:grpSpPr>
        <p:grpSp>
          <p:nvGrpSpPr>
            <p:cNvPr id="105" name="Group 42"/>
            <p:cNvGrpSpPr/>
            <p:nvPr/>
          </p:nvGrpSpPr>
          <p:grpSpPr>
            <a:xfrm>
              <a:off x="7039080" y="4753080"/>
              <a:ext cx="91800" cy="91800"/>
              <a:chOff x="7039080" y="4753080"/>
              <a:chExt cx="91800" cy="91800"/>
            </a:xfrm>
          </p:grpSpPr>
          <p:sp>
            <p:nvSpPr>
              <p:cNvPr id="106" name="Oval 43"/>
              <p:cNvSpPr/>
              <p:nvPr/>
            </p:nvSpPr>
            <p:spPr>
              <a:xfrm>
                <a:off x="7039080" y="4753080"/>
                <a:ext cx="9180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44"/>
              <p:cNvSpPr/>
              <p:nvPr/>
            </p:nvSpPr>
            <p:spPr>
              <a:xfrm>
                <a:off x="7039080" y="480060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Line 45"/>
            <p:cNvSpPr/>
            <p:nvPr/>
          </p:nvSpPr>
          <p:spPr>
            <a:xfrm>
              <a:off x="708300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ssage diges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ic hashes are a one-way function that creates a short number (128 to 160 bits, often) that is very unlikely to be generated by any other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shes are the last (chained) block cipher of a message, so it depends on the entir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used to verify that the message has not been alt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message diges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4: 3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5: 4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1: 5 rounds, 160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256: 64 rounds, 256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512: 80 rounds, 512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ublic/private key in opposite fashion from message encryption to provide sender authent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signs document with her private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he decryption is correct, message must have been sent by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encrypts message with receiver public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receiver’s private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sender to send secure messages to any 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e Sockets Layer(SSL) distributes public keys– covered 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signa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signs message with own private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receiver to verify the sender of any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685800" y="1142640"/>
            <a:ext cx="7162920" cy="1219320"/>
            <a:chOff x="685800" y="1142640"/>
            <a:chExt cx="7162920" cy="1219320"/>
          </a:xfrm>
        </p:grpSpPr>
        <p:sp>
          <p:nvSpPr>
            <p:cNvPr id="114" name="Rectangle 5"/>
            <p:cNvSpPr/>
            <p:nvPr/>
          </p:nvSpPr>
          <p:spPr>
            <a:xfrm>
              <a:off x="68580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7339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gital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67057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828800" y="1904760"/>
              <a:ext cx="1905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4876920" y="1904760"/>
              <a:ext cx="182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0"/>
            <p:cNvSpPr/>
            <p:nvPr/>
          </p:nvSpPr>
          <p:spPr>
            <a:xfrm>
              <a:off x="22096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iv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1"/>
            <p:cNvSpPr/>
            <p:nvPr/>
          </p:nvSpPr>
          <p:spPr>
            <a:xfrm>
              <a:off x="54100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ubl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855720" y="114264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6688080" y="114264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ipi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2-12-30T00:03:03Z</cp:lastPrinted>
  <dcterms:modified xsi:type="dcterms:W3CDTF">2013-11-17T22:07:09Z</dcterms:modified>
  <cp:revision>161</cp:revision>
  <dc:subject/>
  <dc:title>1.264 Lecture 5</dc:title>
</cp:coreProperties>
</file>